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429-8C40-4306-8FDA-F194BB10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CFE-353D-4FDF-BFF7-6F00B15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4580-EBED-4E7E-B6A7-60618D0F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FB07C-3246-4AA1-99EF-4EDAEFD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6B696-75BA-4347-B9AC-82AE949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18BA8-D68F-4DEE-B028-78555D9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F7540-E65B-4617-95B8-AF89ED8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F01A0-C65C-4FBA-94E2-9E8A9B7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97523-8B13-44F2-AE56-113026C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2D1A7-F169-4A77-ACAA-728030D7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AA419-57F9-40CC-B870-C72B6A4F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966FA-FB7F-47A3-B433-05069CA9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738-3A30-45FB-9350-A310C838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C8BA2-7EE9-44F3-A7CE-C9BDE87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318D6-3684-47EA-AE5A-71C955E7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52E55-F75C-46C7-899B-11E3464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DD948-058B-405D-B073-3F7C0D6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3D311-63EF-4E0D-8E65-C352683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F433-D18A-4D12-9129-0CAD61E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D4F32-7A8E-465E-89B0-AEF314B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45B18-1888-46B4-9D03-71E45DB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207CE-7F34-4B79-BE73-33DCE5F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EA420-6085-415C-9BA5-347C11D4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D30-7FA4-4E95-860A-FD1317B5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D981B-42E8-438B-8F6D-F01E1BF4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FB699-8865-4902-B6AB-0B626DE9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900E3-6444-4EAD-BA83-0FBAD753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2C062-BC6A-4E03-AF16-0136E1E5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266BE-F0E0-4AC8-BBA1-9B8A994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781C7-9406-40A2-A960-1F1CDB5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E85FB-3F09-41BC-A2DB-1678AB3E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0FFC-839A-4C7E-9C83-4185AEF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299B4-3469-4574-9AC3-387E301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99ACD-14DA-4177-9B17-C59DBD7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36B-A2DB-43CB-B837-1AC0A373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AC796-5510-4C7F-8F45-4C63445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7C35F-4879-46DE-AA59-333E1CBB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EADA3-F632-4720-99D8-ED1E5E96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6BBCC-B6A0-402B-A8D3-E538D8F5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57CFB-2EAD-4992-B00B-EDBF823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0BB10-1C12-4EF9-B11C-6943FB3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7EDC8-C170-4CF1-8E83-319625B8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0A8A5-A1C0-435A-BA5E-6B97E5A0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ADE86-3917-47C1-BDA4-3F9C974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F122-CB69-4C0B-B970-F3712ADF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398F-8EC0-4A47-8AC0-3A4C537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C8E53-395D-410B-921B-43E360B3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20638-F771-46BD-9558-EDD696B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759C9-36D1-4AB5-88DE-B1AE62BA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BDEEF-6189-4271-ACE7-931DFD44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BD912-4C0C-49DD-B6FE-1B455E45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28ECA-FBD8-4CE6-8222-A9A15C14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377DB-B764-49C0-BD43-05556AEB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03CF1-F2E8-46F2-80D9-F24D905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7A894-A367-4995-B387-2DA4E26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E0667-03F2-4941-A59D-B1B36DA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81B2-3DD0-4144-BCBD-8CB19BD4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84A68-925F-420D-BA3F-9DC067B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01279-6D05-41E5-A3B2-52CBA6B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DFCAB-0375-4076-A8A7-550AA13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A3D7F-3A01-4326-9666-ADC120C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8AD36-68D9-4D01-A9C2-D691A74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5C14E-1ED2-4A3C-B7F5-A60B1B5C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59C83-F6C4-4943-8442-6BE4D00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722-F17E-420E-80BE-61243AF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798-B476-4125-AA5D-261058B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4164-83A7-4032-ADE8-8DC43C8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1AF-C7EB-44FA-85D6-62CD54A4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816-E823-4F5A-811E-E7B51F9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AF2F-0D0B-4F73-A4B1-6BFEB42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B881-6DFD-4B39-9A2E-EFC2100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91C-9F49-4C41-8B08-0CAF3FAB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61A2-5177-424E-893E-9EB17DBC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AAB-3F3F-4425-BCF2-13790542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45FB-5E54-4B3A-9153-7AD2DB7B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304C-DE8F-49AC-9420-2552A73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A596-D603-49C0-9BBC-29390C60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9583-E1F9-4DC2-8FA3-1708A94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1195-236F-416B-ACF7-8204F8E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F60-A4E5-4DC3-8FE7-FF1E3471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1171-D272-4013-9EA9-7BF29F2F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F14B-C218-486B-87C1-D8BC00F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63A5-ADAF-4872-9CC0-BC49ED6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0E59-B063-410A-BB5E-0F43CA3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F286-0341-47C7-8FD9-FD5E90B3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20E9-8F98-41E8-B11F-0150AED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0265-0CE3-4DA3-BAFA-6E7A9A72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258E-0159-4B15-AC42-5F3D7741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E419-E71C-428D-912C-749EF4F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15E0-256A-4385-AF36-2043C721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DB5-442D-4F56-A066-7BF5370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9765-E302-4F4D-85D6-9569A56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53E5-B50B-415A-AE85-6EA793C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5F31-B69D-4EA7-82DA-09EAA774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3ADA-F0FA-4588-BF25-7C25CF92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8A2E-CEE9-4F3F-B82C-4AF73DC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4216-A6D2-40CB-8A11-32293AC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B795-7FC2-4E34-B7F8-C446D8D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775A-3005-43D0-A090-F7FC5201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C37A-CE68-4E86-916A-80F2D37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7E5E-6443-48B4-B490-A80A46A2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C10-976E-4A23-B727-A18CC0E4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45CD-477E-4702-B088-516E065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8654-872F-4C1A-B44D-7E278FD8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D986-31C3-4D12-8C90-2458F8A6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75DE-24BA-413C-937A-2FC9043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F127-4A25-44FE-A495-53D1AF3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39602-BADE-4279-861C-A7F13A1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69D8F-DBE8-4E6B-B4B2-AAB8787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E3E6-1DFA-48EA-B0A3-8CBD7E01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C240-D060-4C3D-88C1-8057EF8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4C77-4D60-4EC4-9EF5-8108BB2C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00B-B390-4215-BA98-7D0D8D2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E060-10BB-4CB5-B940-26034B2B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A6DD-F2CF-4A99-B533-4E57CE4B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30966-27F8-4D3E-A364-4A200F2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4167-8494-41CA-B038-C20BD0A0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7E74-5118-4971-90E0-A31B668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1CF0-9598-4B5C-98E4-BB2706A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6DCD-D543-4147-AD8D-7DCD2AA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8725-B5BE-401C-B2C5-74FA40A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8DFB-0DE4-4B08-912D-4ACE689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472D-A761-421D-867C-209B57A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C91-C759-4252-8573-454D9FF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676C-541F-4006-B0A0-F366793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76BC-5D3C-4B26-854E-727C9B13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5C51-330F-43FD-AE41-C8826A1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E351-6A5E-4541-94F4-E317203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4FD4C-9CDD-4916-B2D5-9448D776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2AD83-4539-4572-B921-47879917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107E-EB1A-48FA-BBA7-153A461B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5AE9F-0EAE-4A54-8185-8287BD2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E112-01E8-4F3E-8D2F-CDC33FF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ED4D-3F86-4792-A152-9052A7A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C74-6F5F-4703-BDD8-BFD9B7F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B2AD-8045-42B9-B6C6-E55287D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B721-27BA-4D1E-B55C-4BBD5B4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E9A5-88F1-47AD-B3E9-64DCABA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EA93-547D-4CEC-9416-860963DB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C845-B4AB-45F6-8582-C6ECF7D7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677D6-5E2E-40A0-8399-563ECA2B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7451D-4219-4D57-945B-C81CB973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98644-0657-4DD3-8EA8-AB3D63F5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7282-F7EE-4A0B-A10E-AD70B6BB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6745-7C9D-4414-9C30-A8A6C418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62A-EC75-442F-B8AC-417FA81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79EA-7FD4-4A8B-AC4B-874F4BA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E75F4-DDB6-4174-8EBA-115CD8D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4911-47B2-4ADF-8A56-B405838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77874-2746-49D2-AF33-915FE3D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EC754-81D3-46F6-B9E0-FB6DC45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E154-71C3-456D-A6E7-A31B5D2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8F92D-4B09-4AB5-9AB3-2F04E155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915C4-B3FD-4AD1-972F-A9053D26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D2E7C-AFDA-44C4-8423-234F7585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6D244-49C7-4FFC-B871-6465323C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275-00EC-40EC-A83D-EB423E78FF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FB86-AA3F-4179-A7D2-450B375640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3BA-EBCE-42C1-924C-A4694D23A8A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57B-F925-4FE5-8341-891BD000C5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307-97C4-4B27-B663-D551211153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1.jpg"/>
          <p:cNvPicPr/>
          <p:nvPr/>
        </p:nvPicPr>
        <p:blipFill>
          <a:blip r:embed="rId2"/>
          <a:stretch/>
        </p:blipFill>
        <p:spPr>
          <a:xfrm>
            <a:off x="-2872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00360" y="630252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1A48-15DF-44C9-A5E1-FA56543DE5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E986-728A-4283-8F7C-3EAEA7ADB0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6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00360" y="6453360"/>
            <a:ext cx="3959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651-3379-47BD-B17F-765832E977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:\PP\ProFi_PowPt_backgrounds2012_3-10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446-A67C-4847-BA82-9CFABC27852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4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D33D-13A4-4706-8AD5-9738B65BA5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858-480B-4493-8E8E-7BAD1A81DEF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569-3D7B-4C89-9777-261529BAB89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DA4E-B49F-4001-ABB7-4AA425FADE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sa.kelava@enel.h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ša Ke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asa.kelava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39560" y="18442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ventura sitnog inventa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rcRect l="0" t="0" r="12066" b="59641"/>
          <a:stretch/>
        </p:blipFill>
        <p:spPr>
          <a:xfrm>
            <a:off x="571680" y="2637000"/>
            <a:ext cx="8075520" cy="3071520"/>
          </a:xfrm>
          <a:prstGeom prst="rect">
            <a:avLst/>
          </a:prstGeom>
          <a:ln w="0">
            <a:noFill/>
          </a:ln>
        </p:spPr>
      </p:pic>
      <p:cxnSp>
        <p:nvCxnSpPr>
          <p:cNvPr id="570" name="Straight Arrow Connector 5"/>
          <p:cNvCxnSpPr/>
          <p:nvPr/>
        </p:nvCxnSpPr>
        <p:spPr>
          <a:xfrm flipV="1">
            <a:off x="1214280" y="3907800"/>
            <a:ext cx="1215360" cy="2149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plikacija Skladišno poslovanje olakšava posao računovodstvu, jer je prilagođena za rad u skladištu gdje skladištar, isključivo komadn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užuje i razdužuje skladiš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et dobro prilagođenih izvješća omogućava punu kontrolu tijekova materijala i sitnog inventara, a kako su svi moduli i aplikacije integrirani na istoj bazi podataka svaka unesena informacija je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istovremeno dostupna svim operaterim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rijedlog budućih izmjen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 r o F i +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roz napredno sučelje ProFi + omogućiti korisnicima uspoređivanje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odataka više različitih godina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o artiklima, količinama i dinamici ulaza i izlaz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H v a l a   n a   p a ž nj i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osljednih nekoliko godina poslovni procesi vezani za materijalno poslovanje doživjeli su značajne izmj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su posljedica promjene zakona ( zakon o javnoj nabavi ) ali i potrebe da se informatiziraju poslovi koji do sad nisu bili informatizira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 skladišno poslovanje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i i praviln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 nab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napravljen na osnovu Zakona o javnoj nabavi 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NN 90/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- … i na osnovu preporuka objavljenih u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starom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Priručniku javne nabave  za naručitelj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( www. javnanabava.hr  ) koje je odobrilo Ministrastvo gospodarstva, rada i poduzetništ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( novi Priručnik javne nabave još nije objavljen 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1500120"/>
            <a:ext cx="9396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itan   invent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Članak 100 stavak 1 zakona o proračunu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( NN 87/08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Ovim se Zakonom uređuje planiranje, izrada, donošenje i izvršavanje proračuna, upravljanje imovinom i dugovima, upravljanje javnim dugom, zaduživanje i jamstvo države te jedinica lokalne i područne (regionalne) samouprave, proračunski odnosi u javnom sektoru, računovodstvo, proračunski nadzor i druga pitanja vezana uz upravljanje javnim finan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Pravilnik o proračunskom računovodstvu i računskom planu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(NN 114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itni inventar se vodi analitički po vrsti, količini i vrijednosti na skupini računa 04. Sitni inventar se sastoji od zaliha SI i SI u upotrebi. SI je  D U G O T R A J N A imovina čiji je uporabni vije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k duži od godinu dana a pojedinačna nabavna vrijednost manja od 3.500 k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Flowchart: Magnetic Disk 3" descr=""/>
          <p:cNvPicPr/>
          <p:nvPr/>
        </p:nvPicPr>
        <p:blipFill>
          <a:blip r:embed="rId1"/>
          <a:stretch/>
        </p:blipFill>
        <p:spPr>
          <a:xfrm>
            <a:off x="3097080" y="2835360"/>
            <a:ext cx="2340000" cy="226692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4"/>
          <p:cNvSpPr/>
          <p:nvPr/>
        </p:nvSpPr>
        <p:spPr>
          <a:xfrm>
            <a:off x="611280" y="1643040"/>
            <a:ext cx="1800000" cy="13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Materijal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Knjigovod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mod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Sitan inven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5"/>
          <p:cNvSpPr/>
          <p:nvPr/>
        </p:nvSpPr>
        <p:spPr>
          <a:xfrm>
            <a:off x="357120" y="4357800"/>
            <a:ext cx="180036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Plan nab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Izvršenje plana nab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6"/>
          <p:cNvSpPr/>
          <p:nvPr/>
        </p:nvSpPr>
        <p:spPr>
          <a:xfrm>
            <a:off x="6732720" y="4400640"/>
            <a:ext cx="1800000" cy="1296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Profi 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( uskor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57960" y="1643040"/>
            <a:ext cx="180036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00000"/>
                </a:solidFill>
                <a:latin typeface="Calibri"/>
              </a:rPr>
              <a:t>Skladišno pos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Straight Arrow Connector 9"/>
          <p:cNvCxnSpPr>
            <a:stCxn id="550" idx="3"/>
          </p:cNvCxnSpPr>
          <p:nvPr/>
        </p:nvCxnSpPr>
        <p:spPr>
          <a:xfrm>
            <a:off x="2410920" y="2319480"/>
            <a:ext cx="1081800" cy="605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5" name="Straight Arrow Connector 10"/>
          <p:cNvCxnSpPr>
            <a:stCxn id="553" idx="1"/>
          </p:cNvCxnSpPr>
          <p:nvPr/>
        </p:nvCxnSpPr>
        <p:spPr>
          <a:xfrm flipH="1">
            <a:off x="5292000" y="2286000"/>
            <a:ext cx="1065960" cy="712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6" name="Straight Arrow Connector 15"/>
          <p:cNvCxnSpPr/>
          <p:nvPr/>
        </p:nvCxnSpPr>
        <p:spPr>
          <a:xfrm flipV="1">
            <a:off x="2143080" y="4571640"/>
            <a:ext cx="1000800" cy="434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7" name="Straight Arrow Connector 17"/>
          <p:cNvCxnSpPr/>
          <p:nvPr/>
        </p:nvCxnSpPr>
        <p:spPr>
          <a:xfrm flipH="1" flipV="1">
            <a:off x="5434920" y="4507920"/>
            <a:ext cx="1297800" cy="5418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2060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ontrola materijalnih sredstava bitan je činitelj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fiskalno odgovornog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upravljanja kod proračunskih korisnik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U sustavu ProFi podržan je čitav ovaj proces, sve do knjiženja financijskih rezultat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Poslovni procesi vezani uz materijalno poslovanje počinju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laniranjem nabave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1844640"/>
            <a:ext cx="90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Kroz aplikaciju Plan nabave se pripremaju dokumenti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plan nabave, natječajna dokumentacija, ugovori i registri sklopljenih ugovora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Od verzije 03.40.00 #20 se kroz aplikaciju Plan nabave učitava i pohranjuje na jedinstveno mjesto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sva  dokumentacija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1989000"/>
            <a:ext cx="9144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Izmjene u aplikaciji Plan nabave i Materijalno poslovanje ( 03.40.00. patch 20 ) omogućuju </a:t>
            </a: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kontrolu izvršenja plana nabave </a:t>
            </a: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te precizno analitičko praćenje izvršenja ugovora kroz poslovnu godinu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terijalno knjigovodstvo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cjelovit preg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8000" y="2060280"/>
            <a:ext cx="9036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Aplikacija Materijalno poslovanje omogućava zaduženje i razduženje svih tipova skladišta materijalnim sredstvima i sitnim inventarom, u komadnom i financijskom smislu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c00000"/>
                </a:solidFill>
                <a:latin typeface="Calibri"/>
              </a:rPr>
              <a:t>Skladišta se vode po Prosječnoj nabavnoj cijeni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Calibri"/>
              </a:rPr>
              <a:t>Modul Sitan inventar služi za stavljanje sitnog inventara u upotrebu ali i za njegovo razduženj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8:27Z</dcterms:created>
  <dc:creator>Gorana Sivić Rušinović</dc:creator>
  <dc:description/>
  <dc:language>en-US</dc:language>
  <cp:lastModifiedBy>toni</cp:lastModifiedBy>
  <dcterms:modified xsi:type="dcterms:W3CDTF">2013-05-23T09:28:34Z</dcterms:modified>
  <cp:revision>36</cp:revision>
  <dc:subject/>
  <dc:title>PowerPoint Presentation</dc:title>
</cp:coreProperties>
</file>