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09C-0B1E-4D14-9C05-4730EF3F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A4B-D1DE-455E-A428-5100EC0D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94480-DF8B-4ECD-BACB-0F64E787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EA6E7-80DE-443E-B9AF-51FA9467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01E5F-B0FC-44B2-B9D6-E56E8122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1A454-187C-4C52-806D-224A324A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24B28-E9E7-42F0-A36B-BCAAF1B6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67C01-33FF-4325-8E9F-ABB5DCE5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3CDD1-A45C-4DD2-A379-824FB8A0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882F3-4BD1-4F05-BA07-8AAB29F7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3D2D2-F103-4736-A5DB-C178AC86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97413-07AC-4C4C-8C69-79352453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0CE-A574-497D-8807-AC21E5B1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46043-F3CE-463C-BD38-5D7B9BEB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06C80-B89B-4380-9EC3-4900A35C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15D48-F18C-47A2-9B19-A02806E6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75297-4311-4047-B8F3-0F40402A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6D05C-CAAE-45E9-9B75-420CC531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3915F-2625-4835-B8DE-D2FED6F9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18566-677A-4B08-A104-803E4FB9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169A2-DE99-43CD-A986-8AE7F852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B45F4-B27C-4EAD-8FF1-1EBE62DF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21BC1-D706-4A28-8E23-FFBD644B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408-C873-46E0-96C7-D150B8FE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F15D3-AA22-4F55-AB5D-40AC0A22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396B1-E555-4209-8A2F-21A8664D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C424A-BF80-433C-B257-D57191D7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8D2DB-FE18-4EE4-A08B-D0B0464C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2E202-B6C6-432B-AF87-3C21D099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02D3F-128C-4A93-BF22-17B3BBF5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9EEC0-C27B-4072-8014-647DEFC9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EFD00-9729-4385-BACC-B49C9D52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005CD-00E9-4C9B-96B9-BECB55D4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619A2-DA0B-4141-81EA-C6E4B9C5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C700-7226-4C35-B962-FD280CD6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5D8A6-2C95-4064-8BB8-09DECEF0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A8E0E-8461-4F12-A228-F3245FBD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BCB24-8EE5-4A78-BB00-FA48067E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40398-7458-4F05-A1A2-6131AA51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BEC0C-40C0-4599-95F5-720D15C8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2731D-B2E7-40BD-9BEC-E3C3D5B6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EB306-FE6B-4D20-B0DF-5CB5B228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C8895-876A-4B02-95F6-CF4CC1FF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6F361-5A81-47B5-81CF-4EDE1A88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405C9-437F-4AB9-85EB-BF7F13B1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BDBD-62F1-45A1-83C7-285CBA89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8EE53-E5D1-4182-913A-04190FF5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4FB2A-0022-46A9-8B13-DA2AB277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B5E93-CAFB-4D1E-860D-A4FCEB7E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50BD6-EBAA-4267-80FE-53A89728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62702-FC7B-4302-8C85-51B3EF48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565AB-85B3-4643-9181-D602FB15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72511-5081-48CD-88C4-B85FF7B4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A89E1-62D4-4E25-B552-375B9A4B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793D7-0E28-4D18-9D9F-BCA4B07A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8EAAF-4909-4B76-871B-85D1F6F3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4313-2BC1-47E5-B4C2-76886B78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8DAEBA-3240-4817-B66C-F80A00A8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24928-9CCF-46BD-ABE8-03A164AD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7F4A4-5F3F-446A-B0D5-F82EFD8D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C31D0-567C-467F-9033-C4923A51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D0677-19ED-414A-B396-E7B16ACE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BB0A2-9B1B-4F03-B94F-C51B85A4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CDD79-A937-410A-92AD-A7EFCEA5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1BEF-A23E-4D28-9BBD-B53B0BAE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980D-BACE-4597-87B8-6120E239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EC9A-1C1C-4842-BF34-7E64EA75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8D1E-DF1F-4079-87A8-D76EF667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154-A640-4C8D-BE93-01DA3725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4BBE-5D6B-4DCE-9E13-17888BA9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8F6A-3A83-4C20-8429-6C50001C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4102-12EB-4C25-AC11-B563E3E4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B132-FC98-4AC9-BDB7-640D9F01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6D00-C60E-4C34-AB41-F7FD9DDA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FE61-9A2E-44B9-AB3E-87EB07F6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1F2E-A83B-4EDF-A65D-94FA5FB3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DCE77-1A94-4330-A3C1-085E719C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A8FDA-FAAA-4EF1-B9DD-D7669DC1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1E198-02EC-4063-80E4-FD7284E8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4E4-79CF-4823-9D45-94DABACA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DFDC-89F3-4DD8-8A57-974D7759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14A0D-D941-485E-90B1-D1009E70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EB635-E5C1-40A2-A595-7103139A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233C5-F0E8-4EDE-8437-236B3544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98519-0659-4F8A-97D6-ED59A52F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DD080-B4AB-4DA6-84CD-6067CC5E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D3FA-2962-46EB-8CE8-215F3872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E5A10-F83C-4964-9796-EA9EAC82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C8330-CF2B-47E1-8EFC-0E914BD2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53F9B-B207-494E-A571-11AAE02F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BE7-9122-4E94-B3B9-AD748E76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E19EA-531D-4D08-BC75-E4385E46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381F3-02AB-48EB-B1C6-4A78D059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9055C-0E48-4D78-BBC2-A0D03B40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08877-8158-453D-B383-800CCC6C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90240-4C83-4A0F-9ABF-08471DA0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EB645-4ABE-41E2-9E3B-250C9B17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8A777-F816-41D8-BCDF-378CB0A9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0ED3C-70F2-4D54-B2B4-9A65024E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F18F2-FCD6-464C-A956-6A1D6683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0BAD5-FD25-4445-81FE-0377FC75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89C3-9BC3-4906-8F2B-1F2CBF8B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B6D0A-F2BB-40CF-80FA-7813E71E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BF80E-B7FC-4B8D-B849-3B0CEC15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4BF1A-267B-4B19-8F96-9051E2C3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C77ED-968D-4E6E-A52F-E76886DF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53CF4-D791-45CE-8C82-5D70E4F8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5EF57-0F6E-4B44-AC69-32CC4CF2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CC424-2231-48DF-B57E-30AF68F4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2EFC5-7389-439C-950F-4FB09439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A6F00-FF3C-4ABC-B63B-31037E36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52063-A013-4EE3-9422-204ECD64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7143-F94E-4066-8376-885DD9FD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2F66E-C8AC-4014-A95E-43DD5E29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C90D2-1DE7-480D-A45D-646B6FA4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63E6C-0E72-4BCF-8ECE-F509AF54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88C71-1AAE-4A73-BB39-5A75F333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BE920-B880-4AA2-87DD-4533F996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8312F-1464-4E2A-959B-6080270A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E0C57-7073-417C-86A6-65AEB77B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AD831-FAF4-4EEE-8E82-85FF81D3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DE2CD-CF80-4494-8222-843DBF83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91F35-4A19-4875-B635-FD21DF8C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D80D-254B-45DC-8314-BA5313B0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8CE5A-9286-442E-82F1-85B73908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E0032-9206-49E2-BA58-316AD3ED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0994D-F927-4BB8-9A20-453BA952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A0D90-0E41-4C2F-9636-3D653677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8AF8C-E53C-4D20-A75D-B11491E4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CFAF7-8216-464E-BC27-32FA6E01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9E03C-68B6-4914-9436-7DA80235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CC245-B484-48AE-BCB0-63C3C236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DD986-F521-4801-B701-E8FB03B3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EDB72-6968-4139-9739-F403C90F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2F03-F3E5-44FF-A0EF-135CF946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9069E-AAB5-4C2B-AE93-FEE51219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1FDB3-C455-4E00-AA09-7EF9C303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FCD5F-8B7C-4A33-B2B6-3C3D2C23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0814A-37B0-405B-B932-AFE17656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A29FF-B41A-4E99-BE9A-1D7DA0FC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07EFB-A5B9-4632-B622-31E2E1D4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518F0-0643-4FB9-8717-8DCD006B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25077-66FC-4F5B-9AA6-EFA8EE76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633B3-F1B8-4DF3-A3FA-4A10F6B9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49E10-68AC-45E8-BCEC-5F994FC3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373-25F2-498E-9A21-E6E31E8B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5E801-873D-4403-818B-80A0094C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000FA-FB96-4F82-B2C3-8F72643C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506B1-FB43-4A47-975D-91C17A02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9D907-BBB4-498F-9BA7-5185BB3C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A7C8C-2BFC-472F-BABC-0E49CAB6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1012C-CB28-42F5-975D-FD20ECD0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43635-B3B0-4A9B-9037-64CC258C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85501-25EA-45BA-96B7-5FE3DBA4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BE8B0-3FD3-4DDF-B22A-58FEAA4F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EA537-5F03-4527-8E45-A0492234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0887-6C71-48D3-AE0B-6A26D2A02892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51B5-EBB6-4040-9712-993C124F8F43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2F3A-62C7-439E-AFFE-F1E0A002EC8D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2884-D279-4605-B4C9-A49125B4CED4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3DC9-0546-4C9C-A55B-26DD309B9CD9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PP\ProFi_PowPt_backgrounds2012_3-2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2779560" y="6508800"/>
            <a:ext cx="409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F872-46EA-474C-BBA8-01811DFB9695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:\PP\ProFi_PowPt_backgrounds2012_3-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Footer Placeholder 4"/>
          <p:cNvSpPr/>
          <p:nvPr/>
        </p:nvSpPr>
        <p:spPr>
          <a:xfrm>
            <a:off x="2779560" y="6508800"/>
            <a:ext cx="409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95BF-F964-481D-AC75-52A2F868DC03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:\PP\ProFi_PowPt_backgrounds2012_3-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4"/>
          <p:cNvSpPr/>
          <p:nvPr/>
        </p:nvSpPr>
        <p:spPr>
          <a:xfrm>
            <a:off x="2779560" y="6508800"/>
            <a:ext cx="409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avjetovanje za računovodstvene djelatnike Primošten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717F-1679-461A-B35B-EA64244DA271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F:\PP\ProFi_PowPt_backgrounds2012_3-8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B68F-5DCC-4B9D-8AA6-A215B481F46E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F:\PP\ProFi_PowPt_backgrounds2012_3-12.jpg"/>
          <p:cNvPicPr/>
          <p:nvPr/>
        </p:nvPicPr>
        <p:blipFill>
          <a:blip r:embed="rId2"/>
          <a:stretch/>
        </p:blipFill>
        <p:spPr>
          <a:xfrm>
            <a:off x="-304920" y="-233280"/>
            <a:ext cx="9753840" cy="7324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75B6-59DC-46FB-97AC-B0954D7E903A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8D7F-14E3-494A-9E5B-9ADAD0A63255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95C1-946F-441E-98CB-AE6C12E17DC2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2484000" y="6356520"/>
            <a:ext cx="403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C196-9CEF-4082-A5CC-26218C95264F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FISKALNA ODGOVORNOST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iskustva, impresije, naj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Dragan Planjan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dragan@enel.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108000" y="1447920"/>
            <a:ext cx="88916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4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6046920" cy="17240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6077160" cy="1638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3934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Hval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Iskustva (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laz u aplikaci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rivi link za ulaz 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 aplikacij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Lozin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hortc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12600" y="4179960"/>
            <a:ext cx="4415040" cy="21286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"/>
          <p:cNvPicPr/>
          <p:nvPr/>
        </p:nvPicPr>
        <p:blipFill>
          <a:blip r:embed="rId2"/>
          <a:stretch/>
        </p:blipFill>
        <p:spPr>
          <a:xfrm>
            <a:off x="4405320" y="1844640"/>
            <a:ext cx="483228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20130514_1600_47.avi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569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Iskustva (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spravan naziv ba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FINxxx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1" descr=""/>
          <p:cNvPicPr/>
          <p:nvPr/>
        </p:nvPicPr>
        <p:blipFill>
          <a:blip r:embed="rId1"/>
          <a:stretch/>
        </p:blipFill>
        <p:spPr>
          <a:xfrm>
            <a:off x="4067280" y="1700280"/>
            <a:ext cx="50418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Iskustva (I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mjene u excel tablic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voz tab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.000.000,00 </a:t>
            </a:r>
            <a:r>
              <a:rPr b="0" lang="hr-H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1000000,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rcRect l="0" t="48231" r="0" b="17369"/>
          <a:stretch/>
        </p:blipFill>
        <p:spPr>
          <a:xfrm>
            <a:off x="395280" y="5726160"/>
            <a:ext cx="6408720" cy="11476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"/>
          <p:cNvPicPr/>
          <p:nvPr/>
        </p:nvPicPr>
        <p:blipFill>
          <a:blip r:embed="rId2"/>
          <a:srcRect l="23696" t="21621" r="5315" b="46323"/>
          <a:stretch/>
        </p:blipFill>
        <p:spPr>
          <a:xfrm>
            <a:off x="628560" y="3500280"/>
            <a:ext cx="59436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Iskustva (IV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Broj dodatnih korisn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Tip korisn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rimjenjivost pitanja na obveznika je u korelaciji sa tipom (klasifikacijom) korisnika. Tako, prema izvoru financiranja, razlikujemo pet tipova obveznik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Razdjeli državnog proraču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 u="sng">
                <a:solidFill>
                  <a:srgbClr val="000000"/>
                </a:solidFill>
                <a:uFillTx/>
                <a:latin typeface="Calibri"/>
              </a:rPr>
              <a:t>Proračunski korisnici državnog proraču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 u="sng">
                <a:solidFill>
                  <a:srgbClr val="000000"/>
                </a:solidFill>
                <a:uFillTx/>
                <a:latin typeface="Calibri"/>
              </a:rPr>
              <a:t>Proračunski korisnici JLP(R)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Izvanproračunski korisnic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JL(P)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impr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lan otklanjanja slabosti i nepravil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vješće o otklonjenim slabostima i nepravilnost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Broj predviđenih znakova u pojedinim polj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ključavanje aplik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itanje 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466560" y="4869000"/>
            <a:ext cx="858204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aj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odavanje dokumenta uz svako pit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ava korisnika jedne ustan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avljanje greš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FISKALNA ODGOVORNOST 2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1" descr="image001"/>
          <p:cNvPicPr/>
          <p:nvPr/>
        </p:nvPicPr>
        <p:blipFill>
          <a:blip r:embed="rId1"/>
          <a:stretch/>
        </p:blipFill>
        <p:spPr>
          <a:xfrm>
            <a:off x="0" y="1557360"/>
            <a:ext cx="694836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08:50:49Z</dcterms:created>
  <dc:creator>Gorana Sivić Rušinović</dc:creator>
  <dc:description/>
  <dc:language>en-US</dc:language>
  <cp:lastModifiedBy>toni</cp:lastModifiedBy>
  <dcterms:modified xsi:type="dcterms:W3CDTF">2013-05-23T09:27:06Z</dcterms:modified>
  <cp:revision>17</cp:revision>
  <dc:subject/>
  <dc:title>PowerPoint Presentation</dc:title>
</cp:coreProperties>
</file>