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4C0-26F6-4A35-9820-9E8DD334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9B1-7926-4F4F-9F96-FFF79AF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D2789-7DEF-4D68-9629-D85AAC21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9D054-EDA7-4E0F-9DA0-7EC02C3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F2D40-3115-416E-93B4-1173327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401D0-D8C4-437F-BF06-972F36A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74FC-F82E-43DF-A81C-3D7F72A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1555A-3DD7-461B-A4FD-735CC6C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A4BB9-B77A-4AE2-A9AE-C0CA485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586F1-0603-463D-B14B-991DE9F2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CCB1C-283F-4496-B337-754CFB02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28635-657C-4975-A49A-1100354D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68E-7F1A-4FC2-A30C-92395194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265A5-85A0-4BCB-8F6E-C7C1EC6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2C2E-B66F-460D-BC3C-6A411399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17D2-54F3-49AA-8635-FC82182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0D4B0-DE2D-440D-AC67-69C9D0C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6F65A-CBCC-4F88-9454-483F5FBC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D6AF-79F1-41EC-863C-252C122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371D5-2A13-45CB-92C6-1650AD6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93B75-16DA-4DC1-9276-0EB5243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81CB7-83C7-4977-8F15-B0942902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DA916-2E47-4D5C-A33B-0B63A44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6C3-D114-4703-8D49-C2F3CC81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C887-10D9-4D7C-BA98-771DDB7F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056DD-5166-47F3-93B5-5FA39D34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78BA8-1273-4564-B88D-AC50A6E8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7C17-91E4-42FE-B9E2-09BDFC0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968F-F2FC-4A72-9F48-307C9C05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60A6-250D-4F5A-9E77-D3EF24E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1213-198C-48C1-B74F-D7469AE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75C68-0228-4FE9-B7CF-40C64AF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EC796-7CF9-41C1-B1E8-82ABF76C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90106-D8C7-4817-86E6-17C07BB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58D-0C49-4748-AAC5-2D820F05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77D11-4F18-4A46-A744-0DA2BE6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48FC7-6107-42DF-8663-C0169DB4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CD47-8004-45D4-A012-B577F868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D8305-F225-46B1-ABD0-99693946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9C1C3-5331-4F00-AA54-B2B0D24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6F735-A8AD-4E04-87C7-CECD6987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2EDFD-2604-4A6F-A793-98A3DECD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57697-B070-4C56-B9CF-99F3A8CF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9554C-E128-4CD6-8558-C638D8A7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FA782-6722-45D6-ADBF-11609933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913-D23F-4EE4-A84C-1C173A2C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E9BE4-1087-4787-8741-1B52CFC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784EB-3B6A-4C3F-9626-BE93D71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A693F-6ED3-4D59-870D-F2B2F261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BFDD8-754C-4C22-AA0A-08831548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66027-5E57-4DF3-88FA-856E50E8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1E6B5-3695-4F94-902D-01F02BF3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93037-A644-4FD6-A2DC-F8F299E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56AFA-9077-4631-8FED-9539291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CB74F-99AA-463D-8B15-DC89E8DA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D0FAD-6CE0-4C5D-B2A9-42329421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C9E-EBE7-4B4F-840F-31AAF964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F1F9C-6E53-44C2-B17B-927E988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0B008-409C-4531-A6F0-128DD5D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9676B-4EAF-4FCE-A7B2-1C4931A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F2D62-83C1-412A-9668-6720B9A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1196E-0CF2-40CB-BAC8-8B2BEF3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3AF50-BDE0-4339-842B-5E3B66F9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F4552-33FE-4C96-BDC7-8504B6B7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6106-03A9-4D17-BBDC-2973A522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871-A083-4D93-B9AD-479A795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63C0-1740-4F84-8D42-B559B90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E9B-EF44-48CB-9534-BB1AFF8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0DD-5E2A-4BE3-A6C2-8AB14BF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8D0-5CF2-421A-9FB0-6E478FB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D56-FEE4-4ED8-8C37-7C1874A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E73-90A1-44A2-B067-F5B90EA4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EDBA-55BE-41D1-AE43-73E4C03E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4CE-87F9-45B1-929E-661AF136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0751-E33D-4FD6-964F-A1FDBD4D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AB00-CC9B-4682-90F4-C7BD0B7D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C7AB-6259-4693-A394-4070335F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F4F1-7D2A-42D1-8B74-E72763D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14A8-2535-4D51-8E68-B31335A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E9C-BA42-47EC-A245-1A8A1DC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89C3-A823-4F0E-81AA-5137896D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06F7-9482-4A7C-8099-B4329BE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4E49-1C82-4014-84E8-7E94C7E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A552-9C6B-4359-9765-CD4195E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CAFF-65A7-491B-B539-5DF6C62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8CCC-04B9-4E8D-AC2F-E5F65C07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5F67-1E05-42C5-B34B-605279EE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F1FF-5E52-463E-9472-986C3E1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3FFF-2DF5-48C6-A68F-EA1736F0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5BA3-D0FD-4258-A7FD-9F67DA3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20E-B22A-4799-A9BD-39B4FB7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2E24-0DA9-4317-8D6C-48E1AE5B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66D1-25D6-433A-812E-F37EC14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9F67-4CF9-4A1E-A943-C3D957F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0F80-8AE4-44B8-B20B-20FBD03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8292-4FBE-4483-BA80-159816B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45402-5A90-496F-8DE7-8DB3917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48AF-D50B-412B-BE3B-F807BC8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AC36-2FCD-4848-B8E1-6F930AEB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CC70-702A-45BE-BE1F-BB61C826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E61B-D55E-499F-A6A6-0DD7714E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49F-6245-4F25-B6FE-351379E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5B02-A65C-4417-8782-15C1C66A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4BDD-891A-463A-9BB9-DCDD506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8E6A-4000-4722-BDB8-4B7AC7D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055B-4223-4B89-B4B5-18A2339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0BDA-ABBD-4C3B-BB29-BD77384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4E94-A0F7-4488-BD9E-B2F343C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2AB7-A89E-4754-948B-508B0BC7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6275-2AF2-4CB6-BCA0-BBC0C63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2316-68F8-4E7E-BFA4-BED9671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1E01-B7CF-441F-815B-516CD702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A1A-4AE6-4E9F-A3C9-C361685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AB38-CF9F-4BD6-9BFA-3AE9DD91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8812E-E933-454C-9515-3ACA637D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BA64-03D1-4F62-8037-1062CBD7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EDE2-7981-4AB4-B3DE-E1CE62A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3EF9-1BCE-467B-BF33-AF89201A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6100-F59F-47B4-AAFB-7789763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B3A5F-4D15-45E7-A99A-D62C8FA4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5943-22CF-4AC0-ACD8-329EFA5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3199-DDC7-41A2-A7B6-90F5AE1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7A53-CA3E-484C-B9F1-68853F9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8EA-0BA0-4080-A0D2-3ED317D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801F-CFA1-41B3-A54B-002C3EA1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B9E6-8413-4F12-A8DE-A7513283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A98CB-704A-4CB1-8F36-4982D16F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6237-68AC-4DB6-8A64-1747C51A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7917-3CF8-43E8-8E8D-9DAF2FF4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4B9A-2BD0-4BC3-8E00-72DABBBE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07C9-E8E8-495F-8AA7-7AB4B59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F671-06E9-49AB-B84E-0072929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2914-9603-4263-80DA-0FE5505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F275A-4354-4942-8243-A5AE398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51D-11E1-4F1D-A8F3-86C807D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A77E-BD78-4F4F-A012-8754183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8E5C-8FA3-48B8-A516-9DA4D19E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3D586-7190-409B-A115-351048F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4F39-7C4B-400D-8417-1F77AAA4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C1B3-B8E2-491B-84D5-1F92ACB8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6F45-57C6-422C-B8D4-FD74004E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089B9-9570-4406-93E0-10029F8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10B1-B656-41DE-8BAB-F5B1278D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E87AA-F417-469C-8611-23DE2921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EFA9-C1D2-4001-9CE7-D5AD135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9F5-BB8F-4157-8844-81F7315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ED1F-59FC-422A-81F7-C209FEF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825B-2059-4E06-BD65-480BC62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762FB-49EA-4E8A-8E39-A2BA4B6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694F6-E669-4246-A97D-8BAFC6B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9CDCE-A300-4321-910D-5A7CE14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2C84-B22C-4CC5-9832-3BBD7E0E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C0EE-1977-4C19-8F8E-CB409295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E3650-EF7C-4FE9-89A9-0E4E0BE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2585E-EC13-49F4-AE37-A81E03F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8B1C8-C837-4BD8-8B83-121B908F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Opatija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50C-9563-4ADC-8D90-F818B83987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5EE-378F-49BC-A990-2D836CF171C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AEC-EDD1-4E3F-B230-192B00F6E3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5DD6-8D71-4341-BCBF-1107063624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4E4-AFCB-4074-BAF4-C788ACA463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7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9187-2AAD-403F-A4A1-1853A564FB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3278-9E01-49BC-B171-33D48CFC0A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CBEB-BD49-4EA0-B4F7-66EE1EAF29B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BE5-2CAB-4C29-9BC6-61B15C234A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1D2-32FD-43B2-9853-320EDCE74E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CEA-7B46-465E-8C6B-61AAF9C8565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6CD-5827-44ED-A505-E75A9DEA4D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E66-6179-49AF-A469-D1E84EA539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rofi.enel.hr/" TargetMode="External"/><Relationship Id="rId2" Type="http://schemas.openxmlformats.org/officeDocument/2006/relationships/hyperlink" Target="http://centri.enel.hr/" TargetMode="External"/><Relationship Id="rId3" Type="http://schemas.openxmlformats.org/officeDocument/2006/relationships/hyperlink" Target="http://profi.enel.hr/" TargetMode="External"/><Relationship Id="rId4" Type="http://schemas.openxmlformats.org/officeDocument/2006/relationships/hyperlink" Target="http://centri.enel.hr/" TargetMode="External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ćenje izvršenja nabave po ugovo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ša Kela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sa.kelava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rcRect l="0" t="0" r="8128" b="40369"/>
          <a:stretch/>
        </p:blipFill>
        <p:spPr>
          <a:xfrm>
            <a:off x="642960" y="1785960"/>
            <a:ext cx="8370720" cy="407196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5"/>
          <p:cNvCxnSpPr/>
          <p:nvPr/>
        </p:nvCxnSpPr>
        <p:spPr>
          <a:xfrm flipH="1">
            <a:off x="8357760" y="3071520"/>
            <a:ext cx="357840" cy="5720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5" name="Straight Arrow Connector 11"/>
          <p:cNvCxnSpPr/>
          <p:nvPr/>
        </p:nvCxnSpPr>
        <p:spPr>
          <a:xfrm>
            <a:off x="7000560" y="3214440"/>
            <a:ext cx="857880" cy="786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6" name="Straight Arrow Connector 12"/>
          <p:cNvCxnSpPr/>
          <p:nvPr/>
        </p:nvCxnSpPr>
        <p:spPr>
          <a:xfrm flipH="1">
            <a:off x="8500680" y="3786120"/>
            <a:ext cx="357840" cy="572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67" name="Rectangle 14"/>
          <p:cNvSpPr/>
          <p:nvPr/>
        </p:nvSpPr>
        <p:spPr>
          <a:xfrm>
            <a:off x="5857920" y="5286240"/>
            <a:ext cx="242892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Cijena je informativni po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rcRect l="0" t="0" r="2252" b="23986"/>
          <a:stretch/>
        </p:blipFill>
        <p:spPr>
          <a:xfrm>
            <a:off x="714240" y="1643040"/>
            <a:ext cx="8143920" cy="4746600"/>
          </a:xfrm>
          <a:prstGeom prst="rect">
            <a:avLst/>
          </a:prstGeom>
          <a:ln w="0">
            <a:noFill/>
          </a:ln>
        </p:spPr>
      </p:pic>
      <p:cxnSp>
        <p:nvCxnSpPr>
          <p:cNvPr id="570" name="Straight Arrow Connector 5"/>
          <p:cNvCxnSpPr/>
          <p:nvPr/>
        </p:nvCxnSpPr>
        <p:spPr>
          <a:xfrm flipH="1" flipV="1">
            <a:off x="5357160" y="5500440"/>
            <a:ext cx="857880" cy="35784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1" name="Rectangle 6"/>
          <p:cNvSpPr/>
          <p:nvPr/>
        </p:nvSpPr>
        <p:spPr>
          <a:xfrm>
            <a:off x="1214280" y="5214960"/>
            <a:ext cx="2571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I neknjižene prim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rcRect l="0" t="0" r="9139" b="39975"/>
          <a:stretch/>
        </p:blipFill>
        <p:spPr>
          <a:xfrm>
            <a:off x="785880" y="1714680"/>
            <a:ext cx="7643880" cy="42145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4000680" y="5072040"/>
            <a:ext cx="4357440" cy="986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Korištenje dugmeta STANJE ARTIKLA PO UGOVORU ako ne postoji ug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rcRect l="0" t="0" r="23087" b="25000"/>
          <a:stretch/>
        </p:blipFill>
        <p:spPr>
          <a:xfrm>
            <a:off x="571680" y="1643040"/>
            <a:ext cx="76435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77" name="Straight Arrow Connector 5"/>
          <p:cNvCxnSpPr/>
          <p:nvPr/>
        </p:nvCxnSpPr>
        <p:spPr>
          <a:xfrm>
            <a:off x="5785200" y="2928600"/>
            <a:ext cx="429480" cy="7866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71680" y="16426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osti u Skladišnom poslovanju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 opciono 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rcRect l="0" t="0" r="23235" b="42219"/>
          <a:stretch/>
        </p:blipFill>
        <p:spPr>
          <a:xfrm>
            <a:off x="714240" y="2286000"/>
            <a:ext cx="7500960" cy="3929040"/>
          </a:xfrm>
          <a:prstGeom prst="rect">
            <a:avLst/>
          </a:prstGeom>
          <a:ln w="0">
            <a:noFill/>
          </a:ln>
        </p:spPr>
      </p:pic>
      <p:cxnSp>
        <p:nvCxnSpPr>
          <p:cNvPr id="581" name="Straight Arrow Connector 5"/>
          <p:cNvCxnSpPr/>
          <p:nvPr/>
        </p:nvCxnSpPr>
        <p:spPr>
          <a:xfrm>
            <a:off x="285840" y="1856880"/>
            <a:ext cx="714960" cy="35820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2" name="Straight Arrow Connector 6"/>
          <p:cNvCxnSpPr/>
          <p:nvPr/>
        </p:nvCxnSpPr>
        <p:spPr>
          <a:xfrm>
            <a:off x="428760" y="4857840"/>
            <a:ext cx="714960" cy="35784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rcRect l="0" t="0" r="23242" b="48799"/>
          <a:stretch/>
        </p:blipFill>
        <p:spPr>
          <a:xfrm>
            <a:off x="928800" y="2286000"/>
            <a:ext cx="7286400" cy="3643200"/>
          </a:xfrm>
          <a:prstGeom prst="rect">
            <a:avLst/>
          </a:prstGeom>
          <a:ln w="0">
            <a:noFill/>
          </a:ln>
        </p:spPr>
      </p:pic>
      <p:cxnSp>
        <p:nvCxnSpPr>
          <p:cNvPr id="585" name="Straight Arrow Connector 5"/>
          <p:cNvCxnSpPr/>
          <p:nvPr/>
        </p:nvCxnSpPr>
        <p:spPr>
          <a:xfrm flipH="1" flipV="1">
            <a:off x="2642400" y="3214440"/>
            <a:ext cx="2072520" cy="4291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6" name="Straight Arrow Connector 6"/>
          <p:cNvCxnSpPr/>
          <p:nvPr/>
        </p:nvCxnSpPr>
        <p:spPr>
          <a:xfrm flipH="1" flipV="1">
            <a:off x="7429320" y="3929040"/>
            <a:ext cx="429120" cy="6433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0" t="0" r="8128" b="40369"/>
          <a:stretch/>
        </p:blipFill>
        <p:spPr>
          <a:xfrm>
            <a:off x="642960" y="1785960"/>
            <a:ext cx="8370720" cy="4071960"/>
          </a:xfrm>
          <a:prstGeom prst="rect">
            <a:avLst/>
          </a:prstGeom>
          <a:ln w="0">
            <a:noFill/>
          </a:ln>
        </p:spPr>
      </p:pic>
      <p:cxnSp>
        <p:nvCxnSpPr>
          <p:cNvPr id="589" name="Straight Arrow Connector 5"/>
          <p:cNvCxnSpPr/>
          <p:nvPr/>
        </p:nvCxnSpPr>
        <p:spPr>
          <a:xfrm flipH="1">
            <a:off x="8357760" y="3071520"/>
            <a:ext cx="357840" cy="5720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0" name="Straight Arrow Connector 11"/>
          <p:cNvCxnSpPr/>
          <p:nvPr/>
        </p:nvCxnSpPr>
        <p:spPr>
          <a:xfrm>
            <a:off x="7000560" y="3214440"/>
            <a:ext cx="857880" cy="786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1" name="Straight Arrow Connector 12"/>
          <p:cNvCxnSpPr/>
          <p:nvPr/>
        </p:nvCxnSpPr>
        <p:spPr>
          <a:xfrm flipH="1">
            <a:off x="8500680" y="3786120"/>
            <a:ext cx="357840" cy="572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2" name="Rectangle 14"/>
          <p:cNvSpPr/>
          <p:nvPr/>
        </p:nvSpPr>
        <p:spPr>
          <a:xfrm>
            <a:off x="5857920" y="5286240"/>
            <a:ext cx="242892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Cijena je informativni po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rcRect l="0" t="0" r="23087" b="25000"/>
          <a:stretch/>
        </p:blipFill>
        <p:spPr>
          <a:xfrm>
            <a:off x="571680" y="1643040"/>
            <a:ext cx="764352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95" name="Straight Arrow Connector 5"/>
          <p:cNvCxnSpPr/>
          <p:nvPr/>
        </p:nvCxnSpPr>
        <p:spPr>
          <a:xfrm>
            <a:off x="5785200" y="2928600"/>
            <a:ext cx="429480" cy="7866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osti u Planu nabav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( opcion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4500720" cy="4171680"/>
          </a:xfrm>
          <a:prstGeom prst="rect">
            <a:avLst/>
          </a:prstGeom>
          <a:ln w="0">
            <a:noFill/>
          </a:ln>
        </p:spPr>
      </p:pic>
      <p:cxnSp>
        <p:nvCxnSpPr>
          <p:cNvPr id="599" name="Straight Arrow Connector 5"/>
          <p:cNvCxnSpPr/>
          <p:nvPr/>
        </p:nvCxnSpPr>
        <p:spPr>
          <a:xfrm>
            <a:off x="1857240" y="4714920"/>
            <a:ext cx="858240" cy="7149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rcRect l="0" t="0" r="59037" b="76816"/>
          <a:stretch/>
        </p:blipFill>
        <p:spPr>
          <a:xfrm>
            <a:off x="357120" y="1857240"/>
            <a:ext cx="8420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iranje nabave – što je do sad napravljeno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lan nabave uput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'  trajno dostupna na ENEL-ovim portalima (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rof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entr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) u verziji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( patchu )  8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iranje nabave – što je novo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Plana nabave uputa II di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’ trajno dostupna na ENEL-ovim portalima (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rof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entri.enel.h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) u verziji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( patchu ) 20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rcRect l="26069" t="43061" r="2705" b="6594"/>
          <a:stretch/>
        </p:blipFill>
        <p:spPr>
          <a:xfrm>
            <a:off x="714240" y="1714680"/>
            <a:ext cx="7685280" cy="4071600"/>
          </a:xfrm>
          <a:prstGeom prst="rect">
            <a:avLst/>
          </a:prstGeom>
          <a:ln w="0">
            <a:noFill/>
          </a:ln>
        </p:spPr>
      </p:pic>
      <p:cxnSp>
        <p:nvCxnSpPr>
          <p:cNvPr id="604" name="Straight Arrow Connector 5"/>
          <p:cNvCxnSpPr/>
          <p:nvPr/>
        </p:nvCxnSpPr>
        <p:spPr>
          <a:xfrm>
            <a:off x="5642640" y="4214520"/>
            <a:ext cx="1143720" cy="1215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05" name="Rectangle 6"/>
          <p:cNvSpPr/>
          <p:nvPr/>
        </p:nvSpPr>
        <p:spPr>
          <a:xfrm>
            <a:off x="3929040" y="3286080"/>
            <a:ext cx="27147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Calibri"/>
              </a:rPr>
              <a:t>V A Ž N 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rcRect l="0" t="0" r="34190" b="48799"/>
          <a:stretch/>
        </p:blipFill>
        <p:spPr>
          <a:xfrm>
            <a:off x="928800" y="1857240"/>
            <a:ext cx="7348320" cy="4286520"/>
          </a:xfrm>
          <a:prstGeom prst="rect">
            <a:avLst/>
          </a:prstGeom>
          <a:ln w="0">
            <a:noFill/>
          </a:ln>
        </p:spPr>
      </p:pic>
      <p:cxnSp>
        <p:nvCxnSpPr>
          <p:cNvPr id="608" name="Straight Arrow Connector 5"/>
          <p:cNvCxnSpPr/>
          <p:nvPr/>
        </p:nvCxnSpPr>
        <p:spPr>
          <a:xfrm>
            <a:off x="6214680" y="4571640"/>
            <a:ext cx="857880" cy="21492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09" name="Rectangle 7"/>
          <p:cNvSpPr/>
          <p:nvPr/>
        </p:nvSpPr>
        <p:spPr>
          <a:xfrm>
            <a:off x="4714920" y="2500200"/>
            <a:ext cx="3000240" cy="15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duvj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Skenirati ugovor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staviti ga u odgovarajući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rcRect l="0" t="0" r="34478" b="48420"/>
          <a:stretch/>
        </p:blipFill>
        <p:spPr>
          <a:xfrm>
            <a:off x="571680" y="1643040"/>
            <a:ext cx="7642080" cy="4500720"/>
          </a:xfrm>
          <a:prstGeom prst="rect">
            <a:avLst/>
          </a:prstGeom>
          <a:ln w="0">
            <a:noFill/>
          </a:ln>
        </p:spPr>
      </p:pic>
      <p:cxnSp>
        <p:nvCxnSpPr>
          <p:cNvPr id="612" name="Straight Arrow Connector 5"/>
          <p:cNvCxnSpPr/>
          <p:nvPr/>
        </p:nvCxnSpPr>
        <p:spPr>
          <a:xfrm flipH="1" flipV="1">
            <a:off x="1428120" y="2928240"/>
            <a:ext cx="786600" cy="429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13" name="Straight Arrow Connector 7"/>
          <p:cNvCxnSpPr/>
          <p:nvPr/>
        </p:nvCxnSpPr>
        <p:spPr>
          <a:xfrm>
            <a:off x="4070880" y="3714840"/>
            <a:ext cx="572040" cy="6433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rcRect l="0" t="0" r="32171" b="47062"/>
          <a:stretch/>
        </p:blipFill>
        <p:spPr>
          <a:xfrm>
            <a:off x="785880" y="1785960"/>
            <a:ext cx="7203960" cy="4214880"/>
          </a:xfrm>
          <a:prstGeom prst="rect">
            <a:avLst/>
          </a:prstGeom>
          <a:ln w="0">
            <a:noFill/>
          </a:ln>
        </p:spPr>
      </p:pic>
      <p:cxnSp>
        <p:nvCxnSpPr>
          <p:cNvPr id="616" name="Straight Arrow Connector 5"/>
          <p:cNvCxnSpPr/>
          <p:nvPr/>
        </p:nvCxnSpPr>
        <p:spPr>
          <a:xfrm flipH="1" flipV="1">
            <a:off x="5928840" y="5571720"/>
            <a:ext cx="858240" cy="5724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rcRect l="0" t="0" r="904" b="4798"/>
          <a:stretch/>
        </p:blipFill>
        <p:spPr>
          <a:xfrm>
            <a:off x="1785960" y="1714680"/>
            <a:ext cx="5702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va izvješća u planu nab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rcRect l="0" t="0" r="50592" b="76673"/>
          <a:stretch/>
        </p:blipFill>
        <p:spPr>
          <a:xfrm>
            <a:off x="500040" y="2428920"/>
            <a:ext cx="8067600" cy="285732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5"/>
          <p:cNvCxnSpPr/>
          <p:nvPr/>
        </p:nvCxnSpPr>
        <p:spPr>
          <a:xfrm>
            <a:off x="3714480" y="4071600"/>
            <a:ext cx="142956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23" name="Straight Arrow Connector 7"/>
          <p:cNvCxnSpPr/>
          <p:nvPr/>
        </p:nvCxnSpPr>
        <p:spPr>
          <a:xfrm>
            <a:off x="3714480" y="4285800"/>
            <a:ext cx="1429560" cy="500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rcRect l="7659" t="2028" r="32381" b="31850"/>
          <a:stretch/>
        </p:blipFill>
        <p:spPr>
          <a:xfrm>
            <a:off x="1500120" y="1643040"/>
            <a:ext cx="5357880" cy="465300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"/>
          <p:cNvSpPr/>
          <p:nvPr/>
        </p:nvSpPr>
        <p:spPr>
          <a:xfrm>
            <a:off x="6215040" y="4000680"/>
            <a:ext cx="2700360" cy="171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Dijaloški okvir za izvješće </a:t>
            </a: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Planirano/Nabavlj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rcRect l="0" t="24444" r="0" b="17781"/>
          <a:stretch/>
        </p:blipFill>
        <p:spPr>
          <a:xfrm>
            <a:off x="214200" y="1785960"/>
            <a:ext cx="8572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rcRect l="8057" t="9764" r="33352" b="43361"/>
          <a:stretch/>
        </p:blipFill>
        <p:spPr>
          <a:xfrm>
            <a:off x="928800" y="1643040"/>
            <a:ext cx="7381800" cy="442908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5"/>
          <p:cNvSpPr/>
          <p:nvPr/>
        </p:nvSpPr>
        <p:spPr>
          <a:xfrm>
            <a:off x="6286680" y="4214880"/>
            <a:ext cx="2857320" cy="14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Dijaloški okvir za izvješ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alibri"/>
              </a:rPr>
              <a:t>Stanje artikla po ugov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rcRect l="0" t="22461" r="28225" b="18947"/>
          <a:stretch/>
        </p:blipFill>
        <p:spPr>
          <a:xfrm>
            <a:off x="857160" y="1643040"/>
            <a:ext cx="7000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istematizaciju procesa i dokumenata vezenih za poslove javne nab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risniku je omogućeno da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dio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kumenata koje propisuje zakon o javnoj nabavi ( plan nabave, tenedere i ugovore )  izrađuje i pohranjuje na jedno zajedničko mjesto te da ih sa tog zajedničkog mjesta koristi u svrhu obja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aci su svima ( uz odgovarajuće korisničko ime i lozinku ) dostupni, jasni i imaju odgovarajuće, zakonom propisane, for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ljučak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zentirane  novosti u planiranju nabave nude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jednostavan i praktičan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 za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kontrol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zvršenja plana nabave i pratećih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ugovor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Hvala na pažnji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donosi nova verzija 03.40.01 patch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ama u aplikacijama i izvještajnom ala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mogućena potpuna informacija o trenutnoj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ršenosti ugo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formacije su pregledne i jasne te se na osnovu njih lakše donose ispravn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e odluk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mogućeno spremanje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sv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kumentacije na jedno, svima dostupno, mjes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aplik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redišnje mjesto za izvršavanje plana nabave je materijalno knjigovodstvo ( opciono Skladišno poslovanje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jvažniji dokument pri izvršenju plana nabave tj. ugovora je Prim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duvjeti za praćenje izvr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e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i predmeti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i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 plan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a pripadajućim troškovnic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Zaključan plan nabav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i </a:t>
            </a: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definiran i potvrđen ugovor sa ažuriranim troškovnikom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 aplikacija Plan nabav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3" descr=""/>
          <p:cNvPicPr/>
          <p:nvPr/>
        </p:nvPicPr>
        <p:blipFill>
          <a:blip r:embed="rId1"/>
          <a:srcRect l="0" t="8391" r="29949" b="46294"/>
          <a:stretch/>
        </p:blipFill>
        <p:spPr>
          <a:xfrm>
            <a:off x="357120" y="1714680"/>
            <a:ext cx="8358120" cy="397980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5"/>
          <p:cNvCxnSpPr/>
          <p:nvPr/>
        </p:nvCxnSpPr>
        <p:spPr>
          <a:xfrm>
            <a:off x="6143400" y="3857400"/>
            <a:ext cx="1215000" cy="5007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rcRect l="0" t="0" r="30030" b="64601"/>
          <a:stretch/>
        </p:blipFill>
        <p:spPr>
          <a:xfrm>
            <a:off x="714240" y="1714680"/>
            <a:ext cx="8080560" cy="31431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4"/>
          <p:cNvSpPr/>
          <p:nvPr/>
        </p:nvSpPr>
        <p:spPr>
          <a:xfrm>
            <a:off x="1143000" y="5000760"/>
            <a:ext cx="414324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Ažuriran troškov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alibri"/>
              </a:rPr>
              <a:t>Preduvjet za izvršavanje ugo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ovosti u planiranju naba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8115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materijalnom knjigovodst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rcRect l="0" t="0" r="23242" b="48799"/>
          <a:stretch/>
        </p:blipFill>
        <p:spPr>
          <a:xfrm>
            <a:off x="928800" y="2286000"/>
            <a:ext cx="7286400" cy="364320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5"/>
          <p:cNvCxnSpPr/>
          <p:nvPr/>
        </p:nvCxnSpPr>
        <p:spPr>
          <a:xfrm flipH="1" flipV="1">
            <a:off x="2642400" y="3214440"/>
            <a:ext cx="2072520" cy="4291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1" name="Straight Arrow Connector 6"/>
          <p:cNvCxnSpPr/>
          <p:nvPr/>
        </p:nvCxnSpPr>
        <p:spPr>
          <a:xfrm flipH="1" flipV="1">
            <a:off x="7429320" y="3929040"/>
            <a:ext cx="429120" cy="64332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toni</cp:lastModifiedBy>
  <dcterms:modified xsi:type="dcterms:W3CDTF">2013-05-23T09:28:55Z</dcterms:modified>
  <cp:revision>333</cp:revision>
  <dc:subject/>
  <dc:title>PowerPoint Presentation</dc:title>
</cp:coreProperties>
</file>