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29F-7ABF-48F2-82C6-62C88739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7CB-9F47-47CB-92F0-2445C6FA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F4758-A18A-4B4B-8530-A7ED5C8F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8F726-6DCC-4D73-A960-0A244D2B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99298-8D66-4C53-93CC-889783B4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30897-C272-4BDC-98C4-C065DF9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DAD64-BB42-4A20-8962-9CEEE7E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B523-6E02-4E7A-8C82-2BE6571F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F2573-6536-41A2-B845-5293B452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97513-BFCD-4CC3-8976-8F2A3AF9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99824-8CDB-4EB0-A961-4976F3C2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1782-A2F1-4E5D-A5B7-D26F7554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3D0-C408-4607-A484-19188D49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164D6-AFAC-4A50-A585-73E11532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3007C-B488-4233-AEFC-26C7469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81CFA-4EAA-4AE6-9F14-57D245A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3135-71E2-495C-AE1A-2ADAF952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A2DB5-225E-4E59-9466-64D2A764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FD877-FE52-477B-9F4C-7A2268C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C85EC-CDCF-4A48-9D3B-F9B0E489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F8A60-4643-4FF0-BB53-E96750E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672C6-4F56-4572-A1AE-ED964AC7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49500-ED5B-4D20-85F1-3F0DC30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D2A-C3D9-4BF8-9280-64FCF0D2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FAC41-3EF1-4826-B716-9B63C741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C1B76-DB34-45BE-9306-B1EDFD25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B3B3-CB58-47E0-9955-60B541D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0B32B-F66E-4653-9BBF-446D18B3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16593-6100-43C0-8C55-D845F477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476DA-A320-4BF6-8AFD-15AA338B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3031A-7C2E-4D08-9087-4263A6B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02FF3-06D1-458F-877C-6DE5C09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2A1D-299C-441C-8FD9-6DEBAF9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943FF-9985-402A-9061-EA92B25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5DBB-7B83-4B7F-A3AA-E86375D1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622B2-5F2E-4ED1-8506-FCF11C65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C2AD1-5642-4AAC-A26B-3C97D397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6A852-A774-4B14-867A-4DB550DB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F33A-3F9D-46E0-A72F-9C597C82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00E4A-3D70-4874-A6D8-6B6DAFF2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FCBC8-EA02-46D1-AE9E-FF37E6E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C8BEA-4468-4023-BCAA-5CD2896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C292A-3A75-47A6-9FAA-34EB21B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E1A2B-5DAC-4063-B798-741A3BDD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870B7-FE29-4BCE-8C4F-E65AA929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3C5-AC95-48C7-BAD6-98F409E0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95B06-3F97-4B03-BDF5-7D93B00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8C829-B6CF-489E-B1CE-6A9AC49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5CBB3-4A85-4544-9FB8-36B7121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F2A37-B5B4-46E7-AE81-B70AA137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13D7F-07F1-40AC-9EAA-DBA31850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549C7-36BC-4E90-90D5-F45B6A28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D634C-3C31-486E-90AA-72DE3C2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C7437-DE2C-44FF-A9CA-8513B3A4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3EC35-448E-48CF-93C1-C2F6FA6A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33B5C-64CE-4A66-A9D4-3CE2EFC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433-1E4C-454A-884F-E43770E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72907-CD72-4234-8704-FBFA2C4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D124C-3C0E-4D8A-A87A-8AFF998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9FE5A-7196-4DE5-9E93-7A6A069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E172-C255-4B4F-AE39-B0AE29B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7AE9C-AA9E-4373-BFC7-370AD37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6A178-9087-46A7-AF32-578A8951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90911-A1A7-4071-A8A6-7D5D2FF7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6D97-42F7-408C-83CD-7BEC7E08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177-72F9-4497-B40D-4EB12852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2762-8E13-454D-A479-8806D25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22B7-4053-4E3F-969E-39E056D7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D1A-6CB9-43F0-9EED-A0E857ED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B1B2-9FCE-4273-A254-AEABA74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6947-FF62-4D2A-96C6-9DC0E20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E5E2-22D6-4B5E-83FE-6983ED4E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9D42-EB33-4AEE-AE56-F247480F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DC71-396C-4485-BB48-C82189B2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98BC-0A5C-471D-8503-90B6C236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2A92-5F32-4E34-BF91-6377C86A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E178-0297-4D61-B037-6DAE8807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6146-0081-41EB-90E7-2AF001B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2DEA-64E2-4886-847A-E1387A30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CF2-F764-450A-A826-04C3FCDD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9316-7ED6-4E1F-8BEB-C40DA510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A0FD-D1A0-4F4E-BFB6-6A21210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75E5-88AE-416A-B91A-1451C4C1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FAB9-53A5-4A83-B19A-D799CF5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24F7-13A2-4E10-8AAF-D9E590A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E5DE-758D-4B08-BFBA-504A60C0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2AF8-55A7-41F4-B365-6649D958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4833-16EA-4D77-9B14-E80551CE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3186-B1D3-4357-B7C7-AF3474A7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4624-13D1-4B12-B6FA-17142E45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932-2027-45EF-B419-A856AAB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8671-65A0-4335-B75B-CF4A7FEB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34FF-9294-40E4-BDD1-A9945DE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0628-D9E8-4D92-AD01-695169F3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79A9-A8F9-4A87-9DE8-1E67B6C3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2E44-A67E-4D4C-A2DF-90C83E98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D183-10E4-4EE3-8D83-CE07F9F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8A65B-E626-47ED-A2E6-E66445CC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1C35-2D47-45DB-956D-AF2B97F0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877C-9122-4A8C-ACD7-5AE39C29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64CDB-4618-4031-B60B-E3610EE2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FA0-B046-4309-93F1-6A6949C9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65B0-2C6C-4D7F-94C4-BECFDFB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BA96-F3DD-4E6D-96E3-2C3E0418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A9BF1-2C1B-434C-8A09-6A21DEDE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B2845-999B-40ED-9185-2F0D7160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ED28-FA68-4743-B1D6-A5DDCBB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F1A4-949B-4185-9716-778C290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6E5BF-C5B4-4254-8B81-3E962F0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B0CC-61AE-44C7-AE49-E492AB1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4985-DFEF-4919-BD39-7ED62315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F126-24CB-4732-928B-FF63EE1F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D34-322D-4D4F-B863-B08C4836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B0624-9AF0-476F-AFA5-7518DF8D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2031-8DAF-4CA7-80CA-2786F67E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E177-C178-44EB-A89E-695CB28E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11A2-26E2-4EE2-893D-E2849488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468AA-79C7-40FC-8949-0AC4D7D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316FA-1F50-4594-82A7-4F68459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678C-E14B-4E46-8079-EE21D124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F4C4-5D72-496F-9B29-8F19E40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A2C0E-624D-4E3D-93B0-27DFE906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B8F8-2234-4C08-96C1-0C10426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886-EFA5-41B3-BB78-CE773BE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8A162-5E32-48CE-B9FC-B73A6DC1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2C96-1B37-49FF-ABCE-48D17D9D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49A4-C4D8-4571-A0DA-9E40F289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839B0-1F7F-4553-A7BE-E660A62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2BE7-29D7-4776-8D7D-617B590E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4D29-FC4D-4AE5-8742-9AAC165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A289-8DED-4B97-9B3C-1DE5811D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92B67-8093-4F92-9532-B1B4B44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D338-2677-42E4-97D2-27E7213C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AC26-EC55-4F7D-8243-1BD23AD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537-5DDB-451B-A640-A1F870C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45482-76A7-4662-BB1F-3CB7BDF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5FB2-01DD-4311-BFB9-5907CB1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82A7-6A0E-40D1-A0B6-943E0C3A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B53B-384D-4357-99BC-BF1FDC22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ADE5-30AA-459D-893C-5F3488A1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AF0A-5417-4A18-A1B5-87DEAC6D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54B27-AC75-49D3-B4D0-2AC449A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1A5C-3F07-4BD9-A827-20C8DF0F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704E-DEF5-4C2A-B4FD-8CF1FC44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CB40-CE7A-41C3-BAC9-522C330B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DD5-3D24-49C8-B237-165C995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6ACE-CC34-4B8A-9BAD-FFC31A8B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CE533-BC75-4C59-8521-B1A858C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4292-BA5E-48E2-86E4-C0FB847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B3F0-C11D-48E2-AEF0-2CAE894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1E98A-FF98-4853-8D47-4F03398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FF748-419E-4CB4-BD36-C3800E2B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1ECE3-60FD-48E3-9E69-A02EEA06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E9EC5-0226-4ADE-AA77-E7AED2E6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DC6FB-6CC0-417F-8C41-72C9B96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F2886-DFE2-4E2C-AA1A-781DB676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Savjetovanje za računovodstvene djelatnike Primošten 2013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C0D2-EC0A-409A-A66D-5A4B714036E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0D1-429B-494A-91AF-1036A592867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774-E5F1-4A7E-836C-889DDE6DA85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6339-7FF8-4FF1-AD4D-87381352481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BDC-0C2F-49C7-8228-AC0E637569E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1.jpg"/>
          <p:cNvPicPr/>
          <p:nvPr/>
        </p:nvPicPr>
        <p:blipFill>
          <a:blip r:embed="rId2"/>
          <a:stretch/>
        </p:blipFill>
        <p:spPr>
          <a:xfrm>
            <a:off x="-28728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00360" y="630252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F21F-0434-4420-A85D-DC25BEBFFCD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BCFF-2D1B-43F0-98A1-C44461C3861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C31E-96EE-432A-AA03-0CE5D15D558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PP\ProFi_PowPt_backgrounds2012_3-10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5584-8E83-4FEE-B785-97E65543C4A0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4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DD2-947A-4AA8-BBD6-7EB16F25EB0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0FC-469D-467E-897B-9E244AE0C1F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E52-E839-4C6D-9D47-DA1200268E1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A90-701A-413E-BB52-2A84D45310D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egled patcheva u prvom dijelu god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rcRect l="0" t="5404" r="28524" b="81870"/>
          <a:stretch/>
        </p:blipFill>
        <p:spPr>
          <a:xfrm>
            <a:off x="-63360" y="1844640"/>
            <a:ext cx="9165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rcRect l="0" t="5404" r="9430" b="46865"/>
          <a:stretch/>
        </p:blipFill>
        <p:spPr>
          <a:xfrm>
            <a:off x="79200" y="1773360"/>
            <a:ext cx="90648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rcRect l="0" t="5404" r="7677" b="78691"/>
          <a:stretch/>
        </p:blipFill>
        <p:spPr>
          <a:xfrm>
            <a:off x="0" y="1916280"/>
            <a:ext cx="9325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66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rcRect l="0" t="5404" r="45229" b="45276"/>
          <a:stretch/>
        </p:blipFill>
        <p:spPr>
          <a:xfrm>
            <a:off x="971640" y="1450800"/>
            <a:ext cx="6980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5404" r="39261" b="70733"/>
          <a:stretch/>
        </p:blipFill>
        <p:spPr>
          <a:xfrm>
            <a:off x="0" y="2205000"/>
            <a:ext cx="88059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rcRect l="0" t="5404" r="48810" b="80281"/>
          <a:stretch/>
        </p:blipFill>
        <p:spPr>
          <a:xfrm>
            <a:off x="250920" y="1571760"/>
            <a:ext cx="8512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rcRect l="0" t="6998" r="17783" b="54823"/>
          <a:stretch/>
        </p:blipFill>
        <p:spPr>
          <a:xfrm>
            <a:off x="324000" y="1487520"/>
            <a:ext cx="8880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rcRect l="0" t="5404" r="24885" b="53233"/>
          <a:stretch/>
        </p:blipFill>
        <p:spPr>
          <a:xfrm>
            <a:off x="0" y="1413000"/>
            <a:ext cx="9144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rcRect l="0" t="5404" r="52390" b="40502"/>
          <a:stretch/>
        </p:blipFill>
        <p:spPr>
          <a:xfrm>
            <a:off x="971640" y="1347840"/>
            <a:ext cx="5761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0" t="5404" r="21363" b="70733"/>
          <a:stretch/>
        </p:blipFill>
        <p:spPr>
          <a:xfrm>
            <a:off x="-27000" y="1557360"/>
            <a:ext cx="9174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#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rcRect l="0" t="5404" r="42841" b="62776"/>
          <a:stretch/>
        </p:blipFill>
        <p:spPr>
          <a:xfrm>
            <a:off x="611280" y="1450800"/>
            <a:ext cx="83595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8:27Z</dcterms:created>
  <dc:creator>Gorana Sivić Rušinović</dc:creator>
  <dc:description/>
  <dc:language>en-US</dc:language>
  <cp:lastModifiedBy>toni</cp:lastModifiedBy>
  <dcterms:modified xsi:type="dcterms:W3CDTF">2013-05-23T09:29:09Z</dcterms:modified>
  <cp:revision>15</cp:revision>
  <dc:subject/>
  <dc:title>PowerPoint Presentation</dc:title>
</cp:coreProperties>
</file>