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42D-27A3-4C65-A7FB-42B24EE8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AB2-D9E5-4F68-AC19-D5BD6E87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E07BC-900D-4D3C-82CF-C8783667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503EA-ECFE-48A7-8881-B353EED5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1F80C-C889-4523-8F41-B329A007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B7D2D-1C85-441C-930A-8198670E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6AA9A-958A-4BB1-AF28-14F7045A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C8B35-DCA1-46DF-B1C8-EE175ED3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F488B-592A-4AD3-8781-C1A8311F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C1DDE-C6BC-478A-8241-373B0A00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E398E-3E03-4703-A911-686B4B2B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39EFB-58A6-4A1D-92FA-728F2392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462-72FE-4E5C-8481-A2C97571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4906A-36F6-42C3-A510-09751BF2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8E828-A231-491B-A009-B1265317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DEE32-F2E0-421C-B684-8213360C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432C5-5E52-4720-9361-4589C0D9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271AE-C6BE-4026-A6A4-92BCF3E3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0FFBB-D82F-4D65-AEC6-22DA967E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10EF6-2B0D-4576-93EF-8B73DD4D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FA3E6-55C8-45ED-A43E-792B12E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DC98C-FEA7-40FF-9F04-ED243E8B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122FF-887A-43BC-A7CF-E64F8CFB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C3F-820A-482D-AFAB-7DD25602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17D2C-25C3-4AEF-A0F7-5D6D2AE1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80391-078E-4B9F-9196-8477A0E6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3D2AA-9592-4728-9E37-269DBF21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4297E-E586-43EF-8B2B-C613A617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2EE09-D45F-438E-A313-8C88BB5E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83209-996F-4154-8166-90384262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BF760-7383-4160-A1FD-7FA60DC1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6FD08-3F7C-40D1-B5EC-B5F02C6E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0B45A-F3E8-450C-BE4D-6C9DC71C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0AB7D-9C0D-4E8D-AFDD-AC5FA26C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CFEF-851D-4D34-A4E4-D5BA5B19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9EAC1-150D-4932-A3EF-459308F5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9F77C-D5AC-4BD9-BCF3-FBABFE29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E43DB-591C-4738-85E2-A48699B7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C4DBA-421F-4C36-9224-E1C438AC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D7F69-EA03-4EC5-9806-08528D37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E3CBF-BD4E-4EF5-9316-FCB6778A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1E99C-88A7-4A07-956D-35CA9579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46BEF-0ACD-4B4A-9AD8-BBCBD70C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C282E-0D26-45BA-BB08-264038BF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F21D2-637B-4FCB-922A-01487559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C0F4-D8EA-4C42-841A-A259ABC6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204C7-3762-4B00-B7A4-9172B067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445F0-2A45-452C-AA80-1532E7D0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65460-F638-4CE2-9B1C-76A944EA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1E8CF-289F-4F39-B2B5-02C5B9E7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F657E-1D5D-4232-A8C3-5E04BC80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BD4E3-7A8E-481A-A612-3625ECD7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46D3B-155B-4FF6-BE85-7B7C353A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8AC6C-F98C-4BD5-955D-953832AE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E3346-4ED7-4D3A-81CC-69781788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98431-FCAA-4678-94CB-923A4879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768C-DA18-43EE-AB0D-64F84B1A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31C38-FCB6-4457-88F9-D63F64F1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E2558-DFB8-42C1-B763-D1D016BE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93F2F-3498-4D03-88AD-2FE433CA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14D86-BC69-4869-A0AC-1F070DE0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86AFF-A47F-4820-9A3A-EE961A6A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9C2EE-DB4C-43DB-A971-DC168776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86D26-D4A0-4C3C-A88D-F6A0346C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C356-E338-4BE8-8075-8FE81140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C1E5-EAD8-4075-A1DA-2B5CFDC9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8E07-DFD3-431F-B252-9BD8B107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2D16-371D-4718-BC7A-581D99BF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23A-042D-4658-A494-35E15FD6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2E09-F5E5-4D9F-B6FF-E3DA0627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90B8-0944-4A4E-BA93-EB44BCAE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3546-13AC-45B5-8F34-635FEF85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FD2D-1FAE-4EBE-9D4C-D11FC775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9CA7-B274-445C-9F6C-00C0EFAC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8A0C-A194-4F6F-B589-6B1AD9A4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C811-B0C4-48D8-B1A1-80213AB7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C8D23-8DA1-4A24-80B9-45771B3D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A912-5CD8-4E75-BC67-77196DD8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8FB7-76DA-4419-8293-2CB33B44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CE6-E605-472C-B301-FA3C9626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9183D-21F6-4D8C-AA0B-F19BF1A7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CACA-57F8-43D4-AB63-0BD7E747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03E0-666C-4D63-AB4D-9E73F49F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DEC2-1900-4CC2-A0D1-025B76A5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6430-4192-495C-A214-7311CAAA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EA9A-3EFC-4B7E-8ECE-3D9C859D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DA93A-F47D-4881-81FE-AD23B23D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0B05C-590C-4471-9013-DF1D8F77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58548-9E09-4D5A-91E6-0C3057B9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E9491-1915-4817-A779-94DCBBA5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1A3-CE91-441F-88E0-D664427C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0A402-8529-4293-BE1C-EDB966EF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01F18-8556-40C7-A40B-E91DC2F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180ED-838A-4E78-A81C-42493903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BBD25-7C50-4EAB-911C-B9061D48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C6D9A-27A4-46E4-9B74-D286AA8B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F8030-D927-43A7-940B-2B9DFE9D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1A3C-818C-4E1D-AF5D-586AF924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1BE28-AD9F-401B-9DB3-F75A4B01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9ED10-91DF-423C-8547-778E1C33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34690-AE23-4B50-95C8-4ED270C4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28F-67E5-4C14-9BDC-4AE916A2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F44E0-293C-403F-BECE-027F2DA4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02BEE-7E80-4225-A0CF-85AF20BF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C770A-E65C-4694-B407-5C3CC589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26AEA-9414-4F29-8454-C694832D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DA17D-69A8-4DF0-8020-EF5E578C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A08B1-EE13-4908-BB99-418BEA77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4F1B3-F902-492A-A21E-7CDD0EEE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F0728-F74B-4C36-B19B-4008EA63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47A41-1A9C-4E0C-ADCE-9FC899E6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B2526-F117-4C6D-B98F-CD0B1B27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854-551C-4D54-836D-57398AC1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461BB-3800-495E-88E8-A30C9274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3A3E4-78D9-4585-B995-670395C6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36E26-C5A1-4100-9B76-AD5D7F4D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53A73-C446-4064-88D2-C05D2B90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D0FA5-09C4-40CE-BB43-315F04DD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B7F4D-2933-48EC-92BB-7E941E84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2B0D2-47AC-4921-A974-4A91B59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F226A-D6D6-43A8-BC01-904F3F7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D486-F6C7-4A3B-8889-3747CA96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C6721-E38C-45F1-8071-B359A215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2AD-B7B4-42D8-BCE7-14973264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BCE54-D40D-48EE-8F3D-DD620B80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A2C36-656E-4AB5-BA81-E846D1A0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07BED-DF46-4E6C-AEA9-A48BF32E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4DD08-79D9-49DC-8E87-E018360B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F41B2-9F17-4A07-9310-DDF0DFD6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76C6C-504D-4118-A720-8773F8BF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6C58F-7763-44B3-81AF-60242CA4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26B8E-5274-4CED-AC95-ECDF260C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F43E9-1162-4A7B-A9FB-CA195927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6412E-93E9-4609-B99B-6658FA3C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F34-D1BD-4D87-BC2C-77E8DD61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7DB61-8EEE-4946-BC17-3C6140CB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E1E63-5123-4975-AFB4-BB534370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6C92B-9D8A-45E2-BCC6-F077C693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BDFBC-7B19-43ED-A757-353634A2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90A5-6529-4176-921E-A2D30C8A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841CB-3139-4743-A6FE-9D5081B0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CBEDF-0FE7-4EE2-B062-F8839EB3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301B5-A1D3-41C5-9BAC-92470636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292C2-CF4A-4E57-B3D0-4CA447AF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6E02C-DC3F-440D-A099-45CE2116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50A-F658-4E8D-8A06-7D8AAB5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138C5-A3BB-40BF-ABFC-13F7EB5D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90F3F-C25E-42F7-ABDB-078D5988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7A20C-2A18-4BB4-BA72-197C69D4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C4B7E-7401-41F9-B36E-1FE117EF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C1214-8014-4EEC-ABD2-F25378A4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9E884-AD6E-4CE5-9C38-B34C54E3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F4020-DBAB-4125-9EAA-E06C8AE2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B0975-D25E-4981-A646-8FC3B4B3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1D7A1-DAC9-4494-912D-109AF664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CE1D6-8534-4B5E-8D44-0CAA8D6F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C3D7-7A58-40E3-97AE-448B898AA0E5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7196-4099-4AED-B065-727FAF14FF4F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A0F2-2DB9-4BFC-A902-0DD7C9763CDD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395B-864F-4D57-91A3-935738E9A003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9329-2F37-4B7C-96E7-C4F036F8E337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PP\ProFi_PowPt_backgrounds2012_3-2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2779560" y="6508800"/>
            <a:ext cx="409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4E84-740A-44E2-A1FB-33568FB7F249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:\PP\ProFi_PowPt_backgrounds2012_3-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4"/>
          <p:cNvSpPr/>
          <p:nvPr/>
        </p:nvSpPr>
        <p:spPr>
          <a:xfrm>
            <a:off x="2779560" y="6508800"/>
            <a:ext cx="409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8DEE-BD5B-4D69-87FF-1A95EBD8FE4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\PP\ProFi_PowPt_backgrounds2012_3-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2779560" y="6508800"/>
            <a:ext cx="409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47D2-03C6-46D8-B101-EC08C4803596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F:\PP\ProFi_PowPt_backgrounds2012_3-8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9B02-1CBC-4AB8-BD20-A31FA4B52655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F:\PP\ProFi_PowPt_backgrounds2012_3-12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EEFB-7053-499D-875F-F2DA52D5EEE8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9411-09CA-4FF8-84EC-5E8034EAA50F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6BF6-F79B-4DD1-9BDB-954498A2CF75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2464-CB3E-4C40-BE1C-8CB21AFF2D35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JOPPD - Izmjene u izvještajnom sustavu plać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Identifikator obras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38060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dentifikator obrasca sastoji se od pet znamen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ve dvije označavaju godi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eostale tri označavaju redni broj dana u godini kada je obavljena isplata, odnosno kada je dospjela obveza plaćanja propisanih javnih da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imjer: za 20.01.2014. identifikator bi bio </a:t>
            </a:r>
            <a:r>
              <a:rPr b="0" lang="hr-HR" sz="2800" spc="-1" strike="noStrike">
                <a:solidFill>
                  <a:srgbClr val="c00000"/>
                </a:solidFill>
                <a:latin typeface="Calibri"/>
              </a:rPr>
              <a:t>14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vom se identifikatoru dodaje i podatak           Vrsta izvješća                 U jednom danu je moguće dostaviti po jedan izvorni obrazac, jedan ispravak i jednu dopunu.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ight Arrow 3"/>
          <p:cNvSpPr/>
          <p:nvPr/>
        </p:nvSpPr>
        <p:spPr>
          <a:xfrm>
            <a:off x="3363840" y="4962600"/>
            <a:ext cx="862200" cy="295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fbfb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Sadržaj obras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anica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daci o podnositelju izvješć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daci o obvezniku plać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umarni podaci sa stranice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anica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daci o primateljima po vidu is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lično kao kod RS-m obrasca, ali sada imamo 36 podataka + 2 dodatna podat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11120" y="22320"/>
            <a:ext cx="84088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00000"/>
                </a:solidFill>
                <a:latin typeface="Calibri"/>
              </a:rPr>
              <a:t>Stranic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rcRect l="8209" t="20446" r="5953" b="3908"/>
          <a:stretch/>
        </p:blipFill>
        <p:spPr>
          <a:xfrm>
            <a:off x="-7920" y="44280"/>
            <a:ext cx="6026040" cy="4118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"/>
          <p:cNvPicPr/>
          <p:nvPr/>
        </p:nvPicPr>
        <p:blipFill>
          <a:blip r:embed="rId2"/>
          <a:srcRect l="8021" t="40149" r="6089" b="15795"/>
          <a:stretch/>
        </p:blipFill>
        <p:spPr>
          <a:xfrm>
            <a:off x="-15840" y="4149720"/>
            <a:ext cx="6033960" cy="2401920"/>
          </a:xfrm>
          <a:prstGeom prst="rect">
            <a:avLst/>
          </a:prstGeom>
          <a:ln w="0">
            <a:noFill/>
          </a:ln>
        </p:spPr>
      </p:pic>
      <p:sp>
        <p:nvSpPr>
          <p:cNvPr id="597" name="Freeform 5"/>
          <p:cNvSpPr/>
          <p:nvPr/>
        </p:nvSpPr>
        <p:spPr>
          <a:xfrm rot="5400000">
            <a:off x="3004200" y="3567600"/>
            <a:ext cx="44640" cy="5983200"/>
          </a:xfrm>
          <a:prstGeom prst="pie">
            <a:avLst/>
          </a:prstGeom>
          <a:noFill/>
          <a:ln w="19080">
            <a:solidFill>
              <a:srgbClr val="40404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00000"/>
                </a:solidFill>
                <a:latin typeface="Calibri"/>
              </a:rPr>
              <a:t>Stranic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6443280" y="1600200"/>
            <a:ext cx="2243160" cy="45259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" descr=""/>
          <p:cNvPicPr/>
          <p:nvPr/>
        </p:nvPicPr>
        <p:blipFill>
          <a:blip r:embed="rId2"/>
          <a:srcRect l="8497" t="26969" r="5581" b="50002"/>
          <a:stretch/>
        </p:blipFill>
        <p:spPr>
          <a:xfrm>
            <a:off x="250920" y="344520"/>
            <a:ext cx="6121440" cy="12747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"/>
          <p:cNvPicPr/>
          <p:nvPr/>
        </p:nvPicPr>
        <p:blipFill>
          <a:blip r:embed="rId3"/>
          <a:srcRect l="8434" t="61706" r="5624" b="5159"/>
          <a:stretch/>
        </p:blipFill>
        <p:spPr>
          <a:xfrm>
            <a:off x="250920" y="1557360"/>
            <a:ext cx="6108480" cy="18288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4"/>
          <a:srcRect l="8707" t="29790" r="5880" b="15111"/>
          <a:stretch/>
        </p:blipFill>
        <p:spPr>
          <a:xfrm>
            <a:off x="263520" y="3386160"/>
            <a:ext cx="6095880" cy="3054240"/>
          </a:xfrm>
          <a:prstGeom prst="rect">
            <a:avLst/>
          </a:prstGeom>
          <a:ln w="0">
            <a:noFill/>
          </a:ln>
        </p:spPr>
      </p:pic>
      <p:sp>
        <p:nvSpPr>
          <p:cNvPr id="603" name="Freeform 7"/>
          <p:cNvSpPr/>
          <p:nvPr/>
        </p:nvSpPr>
        <p:spPr>
          <a:xfrm rot="5400000">
            <a:off x="3271320" y="-2725560"/>
            <a:ext cx="61920" cy="6078600"/>
          </a:xfrm>
          <a:prstGeom prst="pie">
            <a:avLst/>
          </a:prstGeom>
          <a:noFill/>
          <a:ln w="19080">
            <a:solidFill>
              <a:srgbClr val="40404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00000"/>
                </a:solidFill>
                <a:latin typeface="Calibri"/>
              </a:rPr>
              <a:t>                                   </a:t>
            </a:r>
            <a:r>
              <a:rPr b="0" lang="hr-HR" sz="4000" spc="-1" strike="noStrike">
                <a:solidFill>
                  <a:srgbClr val="c00000"/>
                </a:solidFill>
                <a:latin typeface="Calibri"/>
              </a:rPr>
              <a:t>Stranica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rcRect l="5720" t="33661" r="48660" b="26600"/>
          <a:stretch/>
        </p:blipFill>
        <p:spPr>
          <a:xfrm>
            <a:off x="104760" y="765000"/>
            <a:ext cx="5261040" cy="2509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"/>
          <p:cNvPicPr/>
          <p:nvPr/>
        </p:nvPicPr>
        <p:blipFill>
          <a:blip r:embed="rId2"/>
          <a:srcRect l="32643" t="32262" r="4990" b="26091"/>
          <a:stretch/>
        </p:blipFill>
        <p:spPr>
          <a:xfrm>
            <a:off x="1627200" y="3357720"/>
            <a:ext cx="7265880" cy="2657160"/>
          </a:xfrm>
          <a:prstGeom prst="rect">
            <a:avLst/>
          </a:prstGeom>
          <a:ln w="0">
            <a:noFill/>
          </a:ln>
        </p:spPr>
      </p:pic>
      <p:sp>
        <p:nvSpPr>
          <p:cNvPr id="607" name="Freeform 7"/>
          <p:cNvSpPr/>
          <p:nvPr/>
        </p:nvSpPr>
        <p:spPr>
          <a:xfrm>
            <a:off x="5318280" y="982800"/>
            <a:ext cx="95040" cy="2290680"/>
          </a:xfrm>
          <a:prstGeom prst="pie">
            <a:avLst/>
          </a:prstGeom>
          <a:noFill/>
          <a:ln w="19080">
            <a:solidFill>
              <a:srgbClr val="26262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11"/>
          <p:cNvSpPr/>
          <p:nvPr/>
        </p:nvSpPr>
        <p:spPr>
          <a:xfrm rot="10800000">
            <a:off x="1576440" y="3644640"/>
            <a:ext cx="95040" cy="2369880"/>
          </a:xfrm>
          <a:prstGeom prst="pie">
            <a:avLst/>
          </a:prstGeom>
          <a:noFill/>
          <a:ln w="19080">
            <a:solidFill>
              <a:srgbClr val="26262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Left-Right Arrow 9"/>
          <p:cNvSpPr/>
          <p:nvPr/>
        </p:nvSpPr>
        <p:spPr>
          <a:xfrm>
            <a:off x="395280" y="2421000"/>
            <a:ext cx="3313080" cy="503280"/>
          </a:xfrm>
          <a:prstGeom prst="leftRightArrow">
            <a:avLst>
              <a:gd name="adj1" fmla="val 50000"/>
              <a:gd name="adj2" fmla="val 50073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eft-Right Arrow 15"/>
          <p:cNvSpPr/>
          <p:nvPr/>
        </p:nvSpPr>
        <p:spPr>
          <a:xfrm>
            <a:off x="1671480" y="5157720"/>
            <a:ext cx="3908520" cy="503280"/>
          </a:xfrm>
          <a:prstGeom prst="leftRightArrow">
            <a:avLst>
              <a:gd name="adj1" fmla="val 50000"/>
              <a:gd name="adj2" fmla="val 50084"/>
            </a:avLst>
          </a:prstGeom>
          <a:solidFill>
            <a:srgbClr val="4b974d"/>
          </a:solidFill>
          <a:ln w="25560">
            <a:solidFill>
              <a:srgbClr val="326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eft-Right Arrow 16"/>
          <p:cNvSpPr/>
          <p:nvPr/>
        </p:nvSpPr>
        <p:spPr>
          <a:xfrm>
            <a:off x="5688000" y="5157720"/>
            <a:ext cx="1224000" cy="503280"/>
          </a:xfrm>
          <a:prstGeom prst="leftRightArrow">
            <a:avLst>
              <a:gd name="adj1" fmla="val 50000"/>
              <a:gd name="adj2" fmla="val 500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Left-Right Arrow 17"/>
          <p:cNvSpPr/>
          <p:nvPr/>
        </p:nvSpPr>
        <p:spPr>
          <a:xfrm>
            <a:off x="3757680" y="2421000"/>
            <a:ext cx="885600" cy="503280"/>
          </a:xfrm>
          <a:prstGeom prst="leftRightArrow">
            <a:avLst>
              <a:gd name="adj1" fmla="val 50000"/>
              <a:gd name="adj2" fmla="val 50011"/>
            </a:avLst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TextBox 13" descr=""/>
          <p:cNvPicPr/>
          <p:nvPr/>
        </p:nvPicPr>
        <p:blipFill>
          <a:blip r:embed="rId3"/>
          <a:stretch/>
        </p:blipFill>
        <p:spPr>
          <a:xfrm>
            <a:off x="4535640" y="2225520"/>
            <a:ext cx="1047600" cy="895680"/>
          </a:xfrm>
          <a:prstGeom prst="rect">
            <a:avLst/>
          </a:prstGeom>
          <a:ln w="0">
            <a:noFill/>
          </a:ln>
        </p:spPr>
      </p:pic>
      <p:pic>
        <p:nvPicPr>
          <p:cNvPr id="614" name="TextBox 19" descr=""/>
          <p:cNvPicPr/>
          <p:nvPr/>
        </p:nvPicPr>
        <p:blipFill>
          <a:blip r:embed="rId4"/>
          <a:stretch/>
        </p:blipFill>
        <p:spPr>
          <a:xfrm>
            <a:off x="7126200" y="4986360"/>
            <a:ext cx="974880" cy="84780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14"/>
          <p:cNvSpPr/>
          <p:nvPr/>
        </p:nvSpPr>
        <p:spPr>
          <a:xfrm>
            <a:off x="5705640" y="1628640"/>
            <a:ext cx="682560" cy="18432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8"/>
          <p:cNvSpPr/>
          <p:nvPr/>
        </p:nvSpPr>
        <p:spPr>
          <a:xfrm>
            <a:off x="6457680" y="148896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jelat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23"/>
          <p:cNvSpPr/>
          <p:nvPr/>
        </p:nvSpPr>
        <p:spPr>
          <a:xfrm>
            <a:off x="5705640" y="2036880"/>
            <a:ext cx="682560" cy="18396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26"/>
          <p:cNvSpPr/>
          <p:nvPr/>
        </p:nvSpPr>
        <p:spPr>
          <a:xfrm>
            <a:off x="5746680" y="982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daci 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27"/>
          <p:cNvSpPr/>
          <p:nvPr/>
        </p:nvSpPr>
        <p:spPr>
          <a:xfrm>
            <a:off x="6490440" y="189864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zdoblju i satima 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28"/>
          <p:cNvSpPr/>
          <p:nvPr/>
        </p:nvSpPr>
        <p:spPr>
          <a:xfrm>
            <a:off x="5705640" y="2486160"/>
            <a:ext cx="682560" cy="183960"/>
          </a:xfrm>
          <a:prstGeom prst="rect">
            <a:avLst/>
          </a:prstGeom>
          <a:solidFill>
            <a:srgbClr val="4b974d"/>
          </a:solidFill>
          <a:ln w="25560">
            <a:solidFill>
              <a:srgbClr val="326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29"/>
          <p:cNvSpPr/>
          <p:nvPr/>
        </p:nvSpPr>
        <p:spPr>
          <a:xfrm>
            <a:off x="6462720" y="23479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oprinos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0"/>
          <p:cNvSpPr/>
          <p:nvPr/>
        </p:nvSpPr>
        <p:spPr>
          <a:xfrm>
            <a:off x="5705640" y="2894040"/>
            <a:ext cx="682560" cy="183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31"/>
          <p:cNvSpPr/>
          <p:nvPr/>
        </p:nvSpPr>
        <p:spPr>
          <a:xfrm>
            <a:off x="6489000" y="275580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rezu i prire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Stranica 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ako, kao i do sada na B stranici RS-m obrasca za istu osobu postoji mogućnost unosa više redova, način se unosa razlikuj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ako se  uvodi mogućnost preklapanja razdobl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rimj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ko je osoba u dijelu mjeseca bila na bolovanju na teret HZZO-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u jednom redu će biti prikazano da je osoba cijeli mjesec radi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a u drugom će se iskazati period u kojem je bila na bolovanj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Proširen skup podat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69800" y="20095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e vrste isplata </a:t>
            </a:r>
            <a:r>
              <a:rPr b="0" lang="hr-HR" sz="3200" spc="-1" strike="noStrike">
                <a:solidFill>
                  <a:srgbClr val="39733a"/>
                </a:solidFill>
                <a:latin typeface="Calibri"/>
              </a:rPr>
              <a:t>po djelatniku </a:t>
            </a: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na koje se plaćaju doprino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Content Placeholder 2"/>
          <p:cNvSpPr/>
          <p:nvPr/>
        </p:nvSpPr>
        <p:spPr>
          <a:xfrm>
            <a:off x="469800" y="3797280"/>
            <a:ext cx="82296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ve vrste isplata </a:t>
            </a:r>
            <a:r>
              <a:rPr b="0" lang="hr-HR" sz="3000" spc="-1" strike="noStrike">
                <a:solidFill>
                  <a:srgbClr val="39733a"/>
                </a:solidFill>
                <a:latin typeface="Calibri"/>
              </a:rPr>
              <a:t>po djelatniku </a:t>
            </a:r>
            <a:r>
              <a:rPr b="0" lang="hr-HR" sz="3000" spc="-1" strike="noStrike">
                <a:solidFill>
                  <a:srgbClr val="c00000"/>
                </a:solidFill>
                <a:latin typeface="Calibri"/>
              </a:rPr>
              <a:t>na koje se plaćaju doprin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ve vrste isplata </a:t>
            </a:r>
            <a:r>
              <a:rPr b="0" lang="hr-HR" sz="3000" spc="-1" strike="noStrike">
                <a:solidFill>
                  <a:srgbClr val="39733a"/>
                </a:solidFill>
                <a:latin typeface="Calibri"/>
              </a:rPr>
              <a:t>po djelatniku </a:t>
            </a:r>
            <a:r>
              <a:rPr b="0" lang="hr-HR" sz="3000" spc="-1" strike="noStrike">
                <a:solidFill>
                  <a:srgbClr val="c00000"/>
                </a:solidFill>
                <a:latin typeface="Calibri"/>
              </a:rPr>
              <a:t>na koje se NE plaćaju porezi i doprin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daci </a:t>
            </a:r>
            <a:r>
              <a:rPr b="0" lang="hr-HR" sz="3000" spc="-1" strike="noStrike">
                <a:solidFill>
                  <a:srgbClr val="39733a"/>
                </a:solidFill>
                <a:latin typeface="Calibri"/>
              </a:rPr>
              <a:t>po djelatniku </a:t>
            </a:r>
            <a:r>
              <a:rPr b="0" lang="hr-HR" sz="3000" spc="-1" strike="noStrike">
                <a:solidFill>
                  <a:srgbClr val="c00000"/>
                </a:solidFill>
                <a:latin typeface="Calibri"/>
              </a:rPr>
              <a:t>o doprinosima NA plaću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ounded Rectangle 5"/>
          <p:cNvSpPr/>
          <p:nvPr/>
        </p:nvSpPr>
        <p:spPr>
          <a:xfrm>
            <a:off x="324000" y="2009880"/>
            <a:ext cx="8135640" cy="1120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Rounded Rectangle 6"/>
          <p:cNvSpPr/>
          <p:nvPr/>
        </p:nvSpPr>
        <p:spPr>
          <a:xfrm>
            <a:off x="324000" y="3713040"/>
            <a:ext cx="8135640" cy="2605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TextBox 7" descr=""/>
          <p:cNvPicPr/>
          <p:nvPr/>
        </p:nvPicPr>
        <p:blipFill>
          <a:blip r:embed="rId1"/>
          <a:stretch/>
        </p:blipFill>
        <p:spPr>
          <a:xfrm>
            <a:off x="384120" y="1341360"/>
            <a:ext cx="2322720" cy="676440"/>
          </a:xfrm>
          <a:prstGeom prst="rect">
            <a:avLst/>
          </a:prstGeom>
          <a:ln w="0">
            <a:noFill/>
          </a:ln>
        </p:spPr>
      </p:pic>
      <p:pic>
        <p:nvPicPr>
          <p:cNvPr id="632" name="Rectangle 8" descr=""/>
          <p:cNvPicPr/>
          <p:nvPr/>
        </p:nvPicPr>
        <p:blipFill>
          <a:blip r:embed="rId2"/>
          <a:stretch/>
        </p:blipFill>
        <p:spPr>
          <a:xfrm>
            <a:off x="450720" y="3048120"/>
            <a:ext cx="16034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Šifrarni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nositelj izvješća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čin isplate / izvršenja obve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jecatelj primitka / osiguran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mici / obveze doprin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eoporezivi primici / primici koji se ne smatraju dohotk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Content Placeholder 2"/>
          <p:cNvSpPr/>
          <p:nvPr/>
        </p:nvSpPr>
        <p:spPr>
          <a:xfrm>
            <a:off x="7004160" y="1614600"/>
            <a:ext cx="1958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anica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anica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6" name="Straight Arrow Connector 5"/>
          <p:cNvCxnSpPr/>
          <p:nvPr/>
        </p:nvCxnSpPr>
        <p:spPr>
          <a:xfrm>
            <a:off x="6116400" y="1931760"/>
            <a:ext cx="810360" cy="108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37" name="Right Brace 6"/>
          <p:cNvSpPr/>
          <p:nvPr/>
        </p:nvSpPr>
        <p:spPr>
          <a:xfrm>
            <a:off x="6184800" y="2217600"/>
            <a:ext cx="630360" cy="2864160"/>
          </a:xfrm>
          <a:custGeom>
            <a:avLst/>
            <a:gdLst>
              <a:gd name="textAreaLeft" fmla="*/ 0 w 630360"/>
              <a:gd name="textAreaRight" fmla="*/ 227520 w 630360"/>
              <a:gd name="textAreaTop" fmla="*/ 86400 h 2864160"/>
              <a:gd name="textAreaBottom" fmla="*/ 2777760 h 286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44"/>
                  <a:pt x="10800" y="2087"/>
                </a:cubicBezTo>
                <a:lnTo>
                  <a:pt x="10800" y="8713"/>
                </a:lnTo>
                <a:cubicBezTo>
                  <a:pt x="10800" y="9757"/>
                  <a:pt x="16200" y="10800"/>
                  <a:pt x="21600" y="10800"/>
                </a:cubicBezTo>
                <a:cubicBezTo>
                  <a:pt x="16200" y="10800"/>
                  <a:pt x="10800" y="11844"/>
                  <a:pt x="10800" y="12887"/>
                </a:cubicBezTo>
                <a:lnTo>
                  <a:pt x="10800" y="19513"/>
                </a:lnTo>
                <a:cubicBezTo>
                  <a:pt x="10800" y="20557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Primjeri šifrarn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68360" y="1484280"/>
            <a:ext cx="3465360" cy="1657440"/>
          </a:xfrm>
          <a:prstGeom prst="rect">
            <a:avLst/>
          </a:prstGeom>
          <a:noFill/>
          <a:ln w="15840">
            <a:solidFill>
              <a:srgbClr val="404040"/>
            </a:solidFill>
            <a:miter/>
          </a:ln>
          <a:effectLst>
            <a:outerShdw dist="25560" dir="5400000" blurRad="0" rotWithShape="0">
              <a:srgbClr val="7f7f7f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dnositelj izvješć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avna oso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Fizička oso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68000" y="3284640"/>
            <a:ext cx="8351640" cy="2952720"/>
          </a:xfrm>
          <a:prstGeom prst="rect">
            <a:avLst/>
          </a:prstGeom>
          <a:noFill/>
          <a:ln w="15840">
            <a:solidFill>
              <a:srgbClr val="404040"/>
            </a:solidFill>
            <a:miter/>
          </a:ln>
          <a:effectLst>
            <a:outerShdw dist="25560" dir="5400000" blurRad="0" rotWithShape="0">
              <a:srgbClr val="7f7f7f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tjecatelj primitka /osiguran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0001 Radnik po osnovi nesamostalnog 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0002 Radnik koji se prvi put zapošljava ( Zakon o doprinosi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0003 Novozaposlena osoba ( Zakon o poticaju zapošljavan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 . . . . . . .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4001 Stjecatelj drugog dohotka bez obveze plaćanja doprin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4002 Stjecatelj drugog dohotka sa obvezom plaćanja doprin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Content Placeholder 2"/>
          <p:cNvSpPr/>
          <p:nvPr/>
        </p:nvSpPr>
        <p:spPr>
          <a:xfrm>
            <a:off x="4572000" y="1773360"/>
            <a:ext cx="3467160" cy="1368360"/>
          </a:xfrm>
          <a:prstGeom prst="rect">
            <a:avLst/>
          </a:prstGeom>
          <a:noFill/>
          <a:ln w="15840">
            <a:solidFill>
              <a:srgbClr val="404040"/>
            </a:solidFill>
            <a:miter/>
          </a:ln>
          <a:effectLst>
            <a:outerShdw dist="12600" dir="54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ačin is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0  Nema ispl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1  Isplate na tekući raču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Primjeri šifrarn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Content Placeholder 2"/>
          <p:cNvSpPr/>
          <p:nvPr/>
        </p:nvSpPr>
        <p:spPr>
          <a:xfrm>
            <a:off x="468360" y="1484280"/>
            <a:ext cx="8567640" cy="4176720"/>
          </a:xfrm>
          <a:prstGeom prst="rect">
            <a:avLst/>
          </a:prstGeom>
          <a:noFill/>
          <a:ln w="15840">
            <a:solidFill>
              <a:srgbClr val="404040"/>
            </a:solidFill>
            <a:miter/>
          </a:ln>
          <a:effectLst>
            <a:outerShdw dist="12600" dir="54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imici /obveze doprin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0001-0019 Primici po osnovi radnog odn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0101-0119 Poduzetnička plać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0201-0299 Primici temeljem sudske pre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0301-0319 Primici po osnovu mir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0401-0499 Ostali primici od nesamostalnog r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1001-3099 Primici od kapitala / imovinskih prava / osigur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4001-4099 Primici od kojih se utvrđuje drugi dohod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Calibri"/>
              </a:rPr>
              <a:t>5001-5729 Ostale obveze doprinosa (stručno osposobljavan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JOPPD – Jedinstveni obrazac za poreze, prireze i doprin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e i dopune Pravilnika o porezu na dohodak trebale su biti donesene do 30.01.201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vim pravilnikom trebao je biti propis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blik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adržaj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ok 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ačin dostavljanja novog obras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Primjeri šifrarn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68000" y="1627200"/>
            <a:ext cx="8351640" cy="4394160"/>
          </a:xfrm>
          <a:prstGeom prst="rect">
            <a:avLst/>
          </a:prstGeom>
          <a:noFill/>
          <a:ln w="15840">
            <a:solidFill>
              <a:srgbClr val="404040"/>
            </a:solidFill>
            <a:miter/>
          </a:ln>
          <a:effectLst>
            <a:outerShdw dist="25560" dir="5400000" blurRad="0" rotWithShape="0">
              <a:srgbClr val="7f7f7f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Calibri"/>
              </a:rPr>
              <a:t>Neoporezivi primici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08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ječji doplat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16  Naknade štete zbog posljedica nesreće na r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17  Naknade troškova prijevoza i noćenja na sl. putova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18  Naknada za korištenje privatnog automobila u službene svr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19  Troškovi prijevoza na pos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20  Potpore u slučaju smr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21  Darovi dje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22  Božićnice, naknade za godišnji odmor, jubilarne na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26  Otpremnine                                                                  . . . . . . . . 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JOPPD vs R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2211120" y="1446120"/>
            <a:ext cx="446076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jednička obiljež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16"/>
          <p:cNvGrpSpPr/>
          <p:nvPr/>
        </p:nvGrpSpPr>
        <p:grpSpPr>
          <a:xfrm>
            <a:off x="860400" y="4213080"/>
            <a:ext cx="2225880" cy="776520"/>
            <a:chOff x="860400" y="4213080"/>
            <a:chExt cx="2225880" cy="776520"/>
          </a:xfrm>
        </p:grpSpPr>
        <p:sp>
          <p:nvSpPr>
            <p:cNvPr id="649" name="TextBox 9"/>
            <p:cNvSpPr/>
            <p:nvPr/>
          </p:nvSpPr>
          <p:spPr>
            <a:xfrm>
              <a:off x="1141920" y="440064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Doprinosi IZ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Oval 11"/>
            <p:cNvSpPr/>
            <p:nvPr/>
          </p:nvSpPr>
          <p:spPr>
            <a:xfrm>
              <a:off x="860400" y="4213080"/>
              <a:ext cx="2225880" cy="77652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Rounded Rectangle 12"/>
          <p:cNvSpPr/>
          <p:nvPr/>
        </p:nvSpPr>
        <p:spPr>
          <a:xfrm>
            <a:off x="566640" y="2786040"/>
            <a:ext cx="3233880" cy="2562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Content Placeholder 5"/>
          <p:cNvSpPr/>
          <p:nvPr/>
        </p:nvSpPr>
        <p:spPr>
          <a:xfrm>
            <a:off x="654120" y="2311560"/>
            <a:ext cx="3227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tranica A - sumar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ounded Rectangle 14"/>
          <p:cNvSpPr/>
          <p:nvPr/>
        </p:nvSpPr>
        <p:spPr>
          <a:xfrm>
            <a:off x="4487760" y="2749680"/>
            <a:ext cx="4579920" cy="3444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Content Placeholder 5"/>
          <p:cNvSpPr/>
          <p:nvPr/>
        </p:nvSpPr>
        <p:spPr>
          <a:xfrm>
            <a:off x="4452840" y="2274840"/>
            <a:ext cx="4235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tranica B – po djelatni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Group 17"/>
          <p:cNvGrpSpPr/>
          <p:nvPr/>
        </p:nvGrpSpPr>
        <p:grpSpPr>
          <a:xfrm>
            <a:off x="4911840" y="4960800"/>
            <a:ext cx="2225520" cy="776520"/>
            <a:chOff x="4911840" y="4960800"/>
            <a:chExt cx="2225520" cy="776520"/>
          </a:xfrm>
        </p:grpSpPr>
        <p:sp>
          <p:nvSpPr>
            <p:cNvPr id="656" name="TextBox 18"/>
            <p:cNvSpPr/>
            <p:nvPr/>
          </p:nvSpPr>
          <p:spPr>
            <a:xfrm>
              <a:off x="5193360" y="514836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Doprinosi IZ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Oval 19"/>
            <p:cNvSpPr/>
            <p:nvPr/>
          </p:nvSpPr>
          <p:spPr>
            <a:xfrm>
              <a:off x="4911840" y="4960800"/>
              <a:ext cx="2225520" cy="77652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oup 30"/>
          <p:cNvGrpSpPr/>
          <p:nvPr/>
        </p:nvGrpSpPr>
        <p:grpSpPr>
          <a:xfrm>
            <a:off x="6696000" y="4146480"/>
            <a:ext cx="1344600" cy="649440"/>
            <a:chOff x="6696000" y="4146480"/>
            <a:chExt cx="1344600" cy="649440"/>
          </a:xfrm>
        </p:grpSpPr>
        <p:sp>
          <p:nvSpPr>
            <p:cNvPr id="659" name="TextBox 21"/>
            <p:cNvSpPr/>
            <p:nvPr/>
          </p:nvSpPr>
          <p:spPr>
            <a:xfrm>
              <a:off x="6860520" y="4206600"/>
              <a:ext cx="10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Bru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Oval 22"/>
            <p:cNvSpPr/>
            <p:nvPr/>
          </p:nvSpPr>
          <p:spPr>
            <a:xfrm>
              <a:off x="6696000" y="4146480"/>
              <a:ext cx="1344600" cy="64944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1" name="Group 31"/>
          <p:cNvGrpSpPr/>
          <p:nvPr/>
        </p:nvGrpSpPr>
        <p:grpSpPr>
          <a:xfrm>
            <a:off x="7461360" y="5165640"/>
            <a:ext cx="1344600" cy="649440"/>
            <a:chOff x="7461360" y="5165640"/>
            <a:chExt cx="1344600" cy="649440"/>
          </a:xfrm>
        </p:grpSpPr>
        <p:sp>
          <p:nvSpPr>
            <p:cNvPr id="662" name="TextBox 23"/>
            <p:cNvSpPr/>
            <p:nvPr/>
          </p:nvSpPr>
          <p:spPr>
            <a:xfrm>
              <a:off x="7625880" y="5225760"/>
              <a:ext cx="10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Ne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Oval 24"/>
            <p:cNvSpPr/>
            <p:nvPr/>
          </p:nvSpPr>
          <p:spPr>
            <a:xfrm>
              <a:off x="7461360" y="5165640"/>
              <a:ext cx="1344600" cy="64944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TextBox 26"/>
          <p:cNvSpPr/>
          <p:nvPr/>
        </p:nvSpPr>
        <p:spPr>
          <a:xfrm>
            <a:off x="865440" y="321300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daci o obvez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Oval 27"/>
          <p:cNvSpPr/>
          <p:nvPr/>
        </p:nvSpPr>
        <p:spPr>
          <a:xfrm>
            <a:off x="693720" y="3024360"/>
            <a:ext cx="2841480" cy="777600"/>
          </a:xfrm>
          <a:prstGeom prst="ellipse">
            <a:avLst/>
          </a:prstGeom>
          <a:noFill/>
          <a:ln w="25560">
            <a:solidFill>
              <a:srgbClr val="2626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32"/>
          <p:cNvGrpSpPr/>
          <p:nvPr/>
        </p:nvGrpSpPr>
        <p:grpSpPr>
          <a:xfrm>
            <a:off x="4602240" y="2944800"/>
            <a:ext cx="2843280" cy="776160"/>
            <a:chOff x="4602240" y="2944800"/>
            <a:chExt cx="2843280" cy="776160"/>
          </a:xfrm>
        </p:grpSpPr>
        <p:sp>
          <p:nvSpPr>
            <p:cNvPr id="667" name="TextBox 28"/>
            <p:cNvSpPr/>
            <p:nvPr/>
          </p:nvSpPr>
          <p:spPr>
            <a:xfrm>
              <a:off x="4775760" y="3132360"/>
              <a:ext cx="253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Podaci o djelatniku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val 29"/>
            <p:cNvSpPr/>
            <p:nvPr/>
          </p:nvSpPr>
          <p:spPr>
            <a:xfrm>
              <a:off x="4602240" y="2944800"/>
              <a:ext cx="2843280" cy="77616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9" name="Group 37"/>
          <p:cNvGrpSpPr/>
          <p:nvPr/>
        </p:nvGrpSpPr>
        <p:grpSpPr>
          <a:xfrm>
            <a:off x="7510320" y="3424320"/>
            <a:ext cx="1452600" cy="595080"/>
            <a:chOff x="7510320" y="3424320"/>
            <a:chExt cx="1452600" cy="595080"/>
          </a:xfrm>
        </p:grpSpPr>
        <p:sp>
          <p:nvSpPr>
            <p:cNvPr id="670" name="TextBox 38"/>
            <p:cNvSpPr/>
            <p:nvPr/>
          </p:nvSpPr>
          <p:spPr>
            <a:xfrm>
              <a:off x="7786080" y="3490200"/>
              <a:ext cx="9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Oval 39"/>
            <p:cNvSpPr/>
            <p:nvPr/>
          </p:nvSpPr>
          <p:spPr>
            <a:xfrm>
              <a:off x="7510320" y="3424320"/>
              <a:ext cx="1452600" cy="59508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47840" y="2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JOPPD vs R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649680" y="1557360"/>
            <a:ext cx="1612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l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ounded Rectangle 3"/>
          <p:cNvSpPr/>
          <p:nvPr/>
        </p:nvSpPr>
        <p:spPr>
          <a:xfrm>
            <a:off x="0" y="1798560"/>
            <a:ext cx="3314880" cy="3557520"/>
          </a:xfrm>
          <a:custGeom>
            <a:avLst/>
            <a:gdLst>
              <a:gd name="textAreaLeft" fmla="*/ 161640 w 3314880"/>
              <a:gd name="textAreaRight" fmla="*/ 3153240 w 3314880"/>
              <a:gd name="textAreaTop" fmla="*/ 161640 h 3557520"/>
              <a:gd name="textAreaBottom" fmla="*/ 3395880 h 3557520"/>
            </a:gdLst>
            <a:ahLst/>
            <a:rect l="textAreaLeft" t="textAreaTop" r="textAreaRight" b="textAreaBottom"/>
            <a:pathLst>
              <a:path w="21600" h="23181">
                <a:moveTo>
                  <a:pt x="3600" y="0"/>
                </a:moveTo>
                <a:arcTo wR="3600" hR="3600" stAng="16200000" swAng="-5400000"/>
                <a:lnTo>
                  <a:pt x="0" y="19581"/>
                </a:lnTo>
                <a:arcTo wR="3600" hR="3600" stAng="10800000" swAng="-5400000"/>
                <a:lnTo>
                  <a:pt x="18000" y="231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Rounded Rectangle 5"/>
          <p:cNvSpPr/>
          <p:nvPr/>
        </p:nvSpPr>
        <p:spPr>
          <a:xfrm>
            <a:off x="3800520" y="2243160"/>
            <a:ext cx="5267160" cy="352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Group 20"/>
          <p:cNvGrpSpPr/>
          <p:nvPr/>
        </p:nvGrpSpPr>
        <p:grpSpPr>
          <a:xfrm>
            <a:off x="66600" y="1890720"/>
            <a:ext cx="2597400" cy="1020600"/>
            <a:chOff x="66600" y="1890720"/>
            <a:chExt cx="2597400" cy="1020600"/>
          </a:xfrm>
        </p:grpSpPr>
        <p:sp>
          <p:nvSpPr>
            <p:cNvPr id="677" name="Oval 7"/>
            <p:cNvSpPr/>
            <p:nvPr/>
          </p:nvSpPr>
          <p:spPr>
            <a:xfrm>
              <a:off x="66600" y="1890720"/>
              <a:ext cx="2597400" cy="102060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8"/>
            <p:cNvSpPr/>
            <p:nvPr/>
          </p:nvSpPr>
          <p:spPr>
            <a:xfrm>
              <a:off x="252360" y="2007000"/>
              <a:ext cx="223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Bruto i osnovica za doprinos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" name="Group 19"/>
          <p:cNvGrpSpPr/>
          <p:nvPr/>
        </p:nvGrpSpPr>
        <p:grpSpPr>
          <a:xfrm>
            <a:off x="857160" y="3040200"/>
            <a:ext cx="2295720" cy="626760"/>
            <a:chOff x="857160" y="3040200"/>
            <a:chExt cx="2295720" cy="626760"/>
          </a:xfrm>
        </p:grpSpPr>
        <p:sp>
          <p:nvSpPr>
            <p:cNvPr id="680" name="Oval 9"/>
            <p:cNvSpPr/>
            <p:nvPr/>
          </p:nvSpPr>
          <p:spPr>
            <a:xfrm>
              <a:off x="857160" y="3040200"/>
              <a:ext cx="2235600" cy="62676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TextBox 10"/>
            <p:cNvSpPr/>
            <p:nvPr/>
          </p:nvSpPr>
          <p:spPr>
            <a:xfrm>
              <a:off x="857160" y="3134880"/>
              <a:ext cx="229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Iznos za isplatu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1155600" y="4238640"/>
            <a:ext cx="2003400" cy="1041480"/>
            <a:chOff x="1155600" y="4238640"/>
            <a:chExt cx="2003400" cy="1041480"/>
          </a:xfrm>
        </p:grpSpPr>
        <p:sp>
          <p:nvSpPr>
            <p:cNvPr id="683" name="Oval 13"/>
            <p:cNvSpPr/>
            <p:nvPr/>
          </p:nvSpPr>
          <p:spPr>
            <a:xfrm>
              <a:off x="1155600" y="4238640"/>
              <a:ext cx="2003400" cy="104148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TextBox 14"/>
            <p:cNvSpPr/>
            <p:nvPr/>
          </p:nvSpPr>
          <p:spPr>
            <a:xfrm>
              <a:off x="1396440" y="4343760"/>
              <a:ext cx="157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Šifrarnici (VO, OO…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Group 16"/>
          <p:cNvGrpSpPr/>
          <p:nvPr/>
        </p:nvGrpSpPr>
        <p:grpSpPr>
          <a:xfrm>
            <a:off x="50760" y="3846600"/>
            <a:ext cx="1451160" cy="595080"/>
            <a:chOff x="50760" y="3846600"/>
            <a:chExt cx="1451160" cy="595080"/>
          </a:xfrm>
        </p:grpSpPr>
        <p:sp>
          <p:nvSpPr>
            <p:cNvPr id="686" name="TextBox 17"/>
            <p:cNvSpPr/>
            <p:nvPr/>
          </p:nvSpPr>
          <p:spPr>
            <a:xfrm>
              <a:off x="325800" y="3912480"/>
              <a:ext cx="9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Oval 18"/>
            <p:cNvSpPr/>
            <p:nvPr/>
          </p:nvSpPr>
          <p:spPr>
            <a:xfrm>
              <a:off x="50760" y="3846600"/>
              <a:ext cx="1451160" cy="59508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8" name="Group 21"/>
          <p:cNvGrpSpPr/>
          <p:nvPr/>
        </p:nvGrpSpPr>
        <p:grpSpPr>
          <a:xfrm>
            <a:off x="3889440" y="2583000"/>
            <a:ext cx="2003400" cy="1041120"/>
            <a:chOff x="3889440" y="2583000"/>
            <a:chExt cx="2003400" cy="1041120"/>
          </a:xfrm>
        </p:grpSpPr>
        <p:sp>
          <p:nvSpPr>
            <p:cNvPr id="689" name="Oval 22"/>
            <p:cNvSpPr/>
            <p:nvPr/>
          </p:nvSpPr>
          <p:spPr>
            <a:xfrm>
              <a:off x="3889440" y="2583000"/>
              <a:ext cx="2003400" cy="104112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TextBox 23"/>
            <p:cNvSpPr/>
            <p:nvPr/>
          </p:nvSpPr>
          <p:spPr>
            <a:xfrm>
              <a:off x="4130280" y="2688120"/>
              <a:ext cx="157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Novi šifrarnic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1" name="Group 24"/>
          <p:cNvGrpSpPr/>
          <p:nvPr/>
        </p:nvGrpSpPr>
        <p:grpSpPr>
          <a:xfrm>
            <a:off x="5191200" y="3638520"/>
            <a:ext cx="2225520" cy="776160"/>
            <a:chOff x="5191200" y="3638520"/>
            <a:chExt cx="2225520" cy="776160"/>
          </a:xfrm>
        </p:grpSpPr>
        <p:sp>
          <p:nvSpPr>
            <p:cNvPr id="692" name="TextBox 25"/>
            <p:cNvSpPr/>
            <p:nvPr/>
          </p:nvSpPr>
          <p:spPr>
            <a:xfrm>
              <a:off x="5505120" y="3795840"/>
              <a:ext cx="18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Doprinosi N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Oval 26"/>
            <p:cNvSpPr/>
            <p:nvPr/>
          </p:nvSpPr>
          <p:spPr>
            <a:xfrm>
              <a:off x="5191200" y="3638520"/>
              <a:ext cx="2225520" cy="77616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4" name="Group 28"/>
          <p:cNvGrpSpPr/>
          <p:nvPr/>
        </p:nvGrpSpPr>
        <p:grpSpPr>
          <a:xfrm>
            <a:off x="4027320" y="4356000"/>
            <a:ext cx="1452600" cy="594000"/>
            <a:chOff x="4027320" y="4356000"/>
            <a:chExt cx="1452600" cy="594000"/>
          </a:xfrm>
        </p:grpSpPr>
        <p:sp>
          <p:nvSpPr>
            <p:cNvPr id="695" name="TextBox 29"/>
            <p:cNvSpPr/>
            <p:nvPr/>
          </p:nvSpPr>
          <p:spPr>
            <a:xfrm>
              <a:off x="4299120" y="442188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Porez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Oval 30"/>
            <p:cNvSpPr/>
            <p:nvPr/>
          </p:nvSpPr>
          <p:spPr>
            <a:xfrm>
              <a:off x="4027320" y="4356000"/>
              <a:ext cx="1452600" cy="59400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7" name="Group 31"/>
          <p:cNvGrpSpPr/>
          <p:nvPr/>
        </p:nvGrpSpPr>
        <p:grpSpPr>
          <a:xfrm>
            <a:off x="7236000" y="4257720"/>
            <a:ext cx="1717560" cy="595440"/>
            <a:chOff x="7236000" y="4257720"/>
            <a:chExt cx="1717560" cy="595440"/>
          </a:xfrm>
        </p:grpSpPr>
        <p:sp>
          <p:nvSpPr>
            <p:cNvPr id="698" name="TextBox 32"/>
            <p:cNvSpPr/>
            <p:nvPr/>
          </p:nvSpPr>
          <p:spPr>
            <a:xfrm>
              <a:off x="7585920" y="432396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Sati rad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Oval 33"/>
            <p:cNvSpPr/>
            <p:nvPr/>
          </p:nvSpPr>
          <p:spPr>
            <a:xfrm>
              <a:off x="7236000" y="4257720"/>
              <a:ext cx="1717560" cy="595440"/>
            </a:xfrm>
            <a:prstGeom prst="ellipse">
              <a:avLst/>
            </a:prstGeom>
            <a:noFill/>
            <a:ln w="25560">
              <a:solidFill>
                <a:srgbClr val="26262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0" name="Oval 34"/>
          <p:cNvSpPr/>
          <p:nvPr/>
        </p:nvSpPr>
        <p:spPr>
          <a:xfrm>
            <a:off x="6275520" y="2576520"/>
            <a:ext cx="2649240" cy="1090440"/>
          </a:xfrm>
          <a:prstGeom prst="ellipse">
            <a:avLst/>
          </a:prstGeom>
          <a:noFill/>
          <a:ln w="25560">
            <a:solidFill>
              <a:srgbClr val="2626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35"/>
          <p:cNvSpPr/>
          <p:nvPr/>
        </p:nvSpPr>
        <p:spPr>
          <a:xfrm>
            <a:off x="6681960" y="2673360"/>
            <a:ext cx="18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oprinosi IZ - anali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36"/>
          <p:cNvSpPr/>
          <p:nvPr/>
        </p:nvSpPr>
        <p:spPr>
          <a:xfrm flipV="1">
            <a:off x="5221440" y="4697280"/>
            <a:ext cx="2501640" cy="928800"/>
          </a:xfrm>
          <a:prstGeom prst="ellipse">
            <a:avLst/>
          </a:prstGeom>
          <a:noFill/>
          <a:ln w="25560">
            <a:solidFill>
              <a:srgbClr val="2626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37"/>
          <p:cNvSpPr/>
          <p:nvPr/>
        </p:nvSpPr>
        <p:spPr>
          <a:xfrm>
            <a:off x="5611680" y="475920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oporezivi prim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Content Placeholder 5"/>
          <p:cNvSpPr/>
          <p:nvPr/>
        </p:nvSpPr>
        <p:spPr>
          <a:xfrm>
            <a:off x="-85680" y="3159000"/>
            <a:ext cx="12240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Na stranici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"/>
          <p:cNvPicPr/>
          <p:nvPr/>
        </p:nvPicPr>
        <p:blipFill>
          <a:blip r:embed="rId1"/>
          <a:srcRect l="36626" t="20189" r="35591" b="7071"/>
          <a:stretch/>
        </p:blipFill>
        <p:spPr>
          <a:xfrm>
            <a:off x="0" y="598320"/>
            <a:ext cx="4010040" cy="5751720"/>
          </a:xfrm>
          <a:prstGeom prst="rect">
            <a:avLst/>
          </a:prstGeom>
          <a:ln w="0">
            <a:noFill/>
          </a:ln>
        </p:spPr>
      </p:pic>
      <p:sp>
        <p:nvSpPr>
          <p:cNvPr id="706" name="Flowchart: Manual Operation 3"/>
          <p:cNvSpPr/>
          <p:nvPr/>
        </p:nvSpPr>
        <p:spPr>
          <a:xfrm rot="5400000">
            <a:off x="2669400" y="4048200"/>
            <a:ext cx="3241800" cy="561960"/>
          </a:xfrm>
          <a:prstGeom prst="flowChartManualOperation">
            <a:avLst/>
          </a:prstGeom>
          <a:solidFill>
            <a:srgbClr val="a6a6a6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2"/>
          <a:srcRect l="58614" t="50852" r="29329" b="22681"/>
          <a:stretch/>
        </p:blipFill>
        <p:spPr>
          <a:xfrm>
            <a:off x="4572000" y="2270160"/>
            <a:ext cx="4640400" cy="3736800"/>
          </a:xfrm>
          <a:prstGeom prst="rect">
            <a:avLst/>
          </a:prstGeom>
          <a:ln w="0">
            <a:noFill/>
          </a:ln>
        </p:spPr>
      </p:pic>
      <p:sp>
        <p:nvSpPr>
          <p:cNvPr id="708" name="Straight Connector 9"/>
          <p:cNvSpPr/>
          <p:nvPr/>
        </p:nvSpPr>
        <p:spPr>
          <a:xfrm>
            <a:off x="5937120" y="3995640"/>
            <a:ext cx="24480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traight Connector 10"/>
          <p:cNvSpPr/>
          <p:nvPr/>
        </p:nvSpPr>
        <p:spPr>
          <a:xfrm>
            <a:off x="5937120" y="4869000"/>
            <a:ext cx="24480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traight Connector 11"/>
          <p:cNvSpPr/>
          <p:nvPr/>
        </p:nvSpPr>
        <p:spPr>
          <a:xfrm>
            <a:off x="5937120" y="5754600"/>
            <a:ext cx="24480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556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RS obrazac 2002. g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ight Brace 24"/>
          <p:cNvSpPr/>
          <p:nvPr/>
        </p:nvSpPr>
        <p:spPr>
          <a:xfrm>
            <a:off x="8626320" y="4060800"/>
            <a:ext cx="150840" cy="806400"/>
          </a:xfrm>
          <a:custGeom>
            <a:avLst/>
            <a:gdLst>
              <a:gd name="textAreaLeft" fmla="*/ 0 w 150840"/>
              <a:gd name="textAreaRight" fmla="*/ 54360 w 150840"/>
              <a:gd name="textAreaTop" fmla="*/ 3960 h 806400"/>
              <a:gd name="textAreaBottom" fmla="*/ 80244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16200" y="10800"/>
                  <a:pt x="21600" y="10800"/>
                </a:cubicBezTo>
                <a:cubicBezTo>
                  <a:pt x="162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ight Brace 27"/>
          <p:cNvSpPr/>
          <p:nvPr/>
        </p:nvSpPr>
        <p:spPr>
          <a:xfrm>
            <a:off x="8626320" y="4948200"/>
            <a:ext cx="150840" cy="806400"/>
          </a:xfrm>
          <a:custGeom>
            <a:avLst/>
            <a:gdLst>
              <a:gd name="textAreaLeft" fmla="*/ 0 w 150840"/>
              <a:gd name="textAreaRight" fmla="*/ 54360 w 150840"/>
              <a:gd name="textAreaTop" fmla="*/ 3960 h 806400"/>
              <a:gd name="textAreaBottom" fmla="*/ 80244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16200" y="10800"/>
                  <a:pt x="21600" y="10800"/>
                </a:cubicBezTo>
                <a:cubicBezTo>
                  <a:pt x="162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25"/>
          <p:cNvSpPr/>
          <p:nvPr/>
        </p:nvSpPr>
        <p:spPr>
          <a:xfrm rot="16200000">
            <a:off x="8337240" y="410148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c00000"/>
                </a:solidFill>
                <a:latin typeface="Calibri"/>
              </a:rPr>
              <a:t>DOPRINOSI  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26"/>
          <p:cNvSpPr/>
          <p:nvPr/>
        </p:nvSpPr>
        <p:spPr>
          <a:xfrm rot="16200000">
            <a:off x="8669520" y="519840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c00000"/>
                </a:solidFill>
                <a:latin typeface="Calibri"/>
              </a:rPr>
              <a:t>PORE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5" descr=""/>
          <p:cNvPicPr/>
          <p:nvPr/>
        </p:nvPicPr>
        <p:blipFill>
          <a:blip r:embed="rId1"/>
          <a:srcRect l="4788" t="25468" r="4569" b="14313"/>
          <a:stretch/>
        </p:blipFill>
        <p:spPr>
          <a:xfrm>
            <a:off x="1527120" y="2879640"/>
            <a:ext cx="7426440" cy="32544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4" descr=""/>
          <p:cNvPicPr/>
          <p:nvPr/>
        </p:nvPicPr>
        <p:blipFill>
          <a:blip r:embed="rId2"/>
          <a:srcRect l="7150" t="27926" r="21171" b="13524"/>
          <a:stretch/>
        </p:blipFill>
        <p:spPr>
          <a:xfrm>
            <a:off x="0" y="793800"/>
            <a:ext cx="5468760" cy="294624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556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RS obrazac 2002. g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9"/>
          <p:cNvSpPr/>
          <p:nvPr/>
        </p:nvSpPr>
        <p:spPr>
          <a:xfrm>
            <a:off x="5413320" y="1785960"/>
            <a:ext cx="95400" cy="1954080"/>
          </a:xfrm>
          <a:prstGeom prst="pie">
            <a:avLst/>
          </a:prstGeom>
          <a:noFill/>
          <a:ln w="19080">
            <a:solidFill>
              <a:srgbClr val="26262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reeform 10"/>
          <p:cNvSpPr/>
          <p:nvPr/>
        </p:nvSpPr>
        <p:spPr>
          <a:xfrm>
            <a:off x="1479600" y="4068720"/>
            <a:ext cx="95040" cy="2065320"/>
          </a:xfrm>
          <a:prstGeom prst="pie">
            <a:avLst/>
          </a:prstGeom>
          <a:noFill/>
          <a:ln w="19080">
            <a:solidFill>
              <a:srgbClr val="26262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1"/>
          <p:cNvSpPr/>
          <p:nvPr/>
        </p:nvSpPr>
        <p:spPr>
          <a:xfrm>
            <a:off x="4100400" y="272556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c00000"/>
                </a:solidFill>
                <a:latin typeface="Calibri"/>
              </a:rPr>
              <a:t>SA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2"/>
          <p:cNvSpPr/>
          <p:nvPr/>
        </p:nvSpPr>
        <p:spPr>
          <a:xfrm>
            <a:off x="6840360" y="41990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c00000"/>
                </a:solidFill>
                <a:latin typeface="Calibri"/>
              </a:rPr>
              <a:t>PORE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13"/>
          <p:cNvSpPr/>
          <p:nvPr/>
        </p:nvSpPr>
        <p:spPr>
          <a:xfrm>
            <a:off x="4241880" y="419904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c00000"/>
                </a:solidFill>
                <a:latin typeface="Calibri"/>
              </a:rPr>
              <a:t>DOPRINOSI  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Za sada - Prijedlog Praviln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 stranicama porezne uprave postoji </a:t>
            </a:r>
            <a:r>
              <a:rPr b="0" lang="hr-HR" sz="1800" spc="-1" strike="noStrike">
                <a:solidFill>
                  <a:srgbClr val="c00000"/>
                </a:solidFill>
                <a:latin typeface="Calibri"/>
              </a:rPr>
              <a:t>Prijedlog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Pravilnika o porezu na dohod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rcRect l="8952" t="7925" r="53607" b="52300"/>
          <a:stretch/>
        </p:blipFill>
        <p:spPr>
          <a:xfrm>
            <a:off x="611280" y="2133720"/>
            <a:ext cx="65325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Datum uvođe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ma najavama iz Ministarstva financija      predloženi je datum za uvođenje novog obrasca od </a:t>
            </a: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01. srpnja 2013.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odine mijenja se sa </a:t>
            </a: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01. siječnja 201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vo je definiran datum 01.travnja 2013. godine, ali on, kao što znamo nije izpoštov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eć se zna da su neke odredbe izmijenjene, ali je tekst na stranicama Porezne uprave neizmijenj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brazac JOPPD bi trebao zamijeniti slijedeće obrasce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749160" y="1568520"/>
            <a:ext cx="3097440" cy="252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749160" y="18572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26433"/>
                </a:solidFill>
                <a:latin typeface="Calibri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1541520" y="33685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254061"/>
                </a:solidFill>
                <a:latin typeface="Calibri"/>
              </a:rPr>
              <a:t>RS-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538200" y="26748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26433"/>
                </a:solidFill>
                <a:latin typeface="Calibri"/>
              </a:rPr>
              <a:t>IDD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2179800" y="253224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26433"/>
                </a:solidFill>
                <a:latin typeface="Calibri"/>
              </a:rPr>
              <a:t>ID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8"/>
          <p:cNvSpPr/>
          <p:nvPr/>
        </p:nvSpPr>
        <p:spPr>
          <a:xfrm>
            <a:off x="1947960" y="179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26433"/>
                </a:solidFill>
                <a:latin typeface="Calibri"/>
              </a:rPr>
              <a:t>I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4932360" y="2367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Calibri"/>
              </a:rPr>
              <a:t>JOPP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10"/>
          <p:cNvSpPr/>
          <p:nvPr/>
        </p:nvSpPr>
        <p:spPr>
          <a:xfrm>
            <a:off x="4932360" y="2128680"/>
            <a:ext cx="2376360" cy="1189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Oval 11"/>
          <p:cNvSpPr/>
          <p:nvPr/>
        </p:nvSpPr>
        <p:spPr>
          <a:xfrm>
            <a:off x="1282680" y="4421160"/>
            <a:ext cx="2232000" cy="1079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26433"/>
                </a:solidFill>
                <a:latin typeface="Calibri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ight Arrow 12"/>
          <p:cNvSpPr/>
          <p:nvPr/>
        </p:nvSpPr>
        <p:spPr>
          <a:xfrm>
            <a:off x="3995640" y="2644920"/>
            <a:ext cx="647640" cy="3142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39733a"/>
          </a:solidFill>
          <a:ln w="25560">
            <a:solidFill>
              <a:srgbClr val="326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ight Arrow 13"/>
          <p:cNvSpPr/>
          <p:nvPr/>
        </p:nvSpPr>
        <p:spPr>
          <a:xfrm rot="19491000">
            <a:off x="3571920" y="3489480"/>
            <a:ext cx="1396800" cy="31428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39733a"/>
          </a:solidFill>
          <a:ln w="25560">
            <a:solidFill>
              <a:srgbClr val="326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traight Connector 16"/>
          <p:cNvSpPr/>
          <p:nvPr/>
        </p:nvSpPr>
        <p:spPr>
          <a:xfrm flipH="1">
            <a:off x="1614600" y="4233960"/>
            <a:ext cx="1125360" cy="1366920"/>
          </a:xfrm>
          <a:prstGeom prst="line">
            <a:avLst/>
          </a:prstGeom>
          <a:ln w="255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itle 1"/>
          <p:cNvSpPr/>
          <p:nvPr/>
        </p:nvSpPr>
        <p:spPr>
          <a:xfrm>
            <a:off x="4319640" y="4038480"/>
            <a:ext cx="5065560" cy="22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razac JOPPD sadržavat će podatke 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254061"/>
                </a:solidFill>
                <a:latin typeface="Calibri"/>
              </a:rPr>
              <a:t>doprinosim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hr-HR" sz="3200" spc="-1" strike="noStrike">
                <a:solidFill>
                  <a:srgbClr val="254061"/>
                </a:solidFill>
                <a:latin typeface="Calibri"/>
              </a:rPr>
              <a:t>IZ plać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 NA plaću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26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26433"/>
                </a:solidFill>
                <a:latin typeface="Calibri"/>
              </a:rPr>
              <a:t>porezu i prire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Content Placeholder 2" descr=""/>
          <p:cNvPicPr/>
          <p:nvPr/>
        </p:nvPicPr>
        <p:blipFill>
          <a:blip r:embed="rId1"/>
          <a:stretch/>
        </p:blipFill>
        <p:spPr>
          <a:xfrm>
            <a:off x="450720" y="1494000"/>
            <a:ext cx="8242560" cy="543060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00000"/>
                </a:solidFill>
                <a:latin typeface="Calibri"/>
              </a:rPr>
              <a:t>Razlozi uvođenja novog obras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2. Brže dostavljanje podataka o primic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jkasnije do kraja idućeg radnog dana u odnosu na datum ispl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znim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Za neoporezive primitke može se dostavljati 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nevnoj, i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jesečnoj osnov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va iznimka vrijedi samo za isplate koje su u potpunosti neoporezive, dakle za primitke koji su u dijelu oporezivi , obaveza je na dnevnoj osnov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00000"/>
                </a:solidFill>
                <a:latin typeface="Calibri"/>
              </a:rPr>
              <a:t>Razlozi uvođenja novog obras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2"/>
          <p:cNvSpPr/>
          <p:nvPr/>
        </p:nvSpPr>
        <p:spPr>
          <a:xfrm>
            <a:off x="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77920" y="37800"/>
            <a:ext cx="8454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7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Calibri"/>
              </a:rPr>
              <a:t>Razlozi uvođenja novog obras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3. Racionalizacija administriranja različitih državnih instituci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0" descr=""/>
          <p:cNvPicPr/>
          <p:nvPr/>
        </p:nvPicPr>
        <p:blipFill>
          <a:blip r:embed="rId1"/>
          <a:srcRect l="0" t="11905" r="5969" b="21905"/>
          <a:stretch/>
        </p:blipFill>
        <p:spPr>
          <a:xfrm>
            <a:off x="6558120" y="3213000"/>
            <a:ext cx="1933560" cy="720720"/>
          </a:xfrm>
          <a:prstGeom prst="rect">
            <a:avLst/>
          </a:prstGeom>
          <a:ln w="0">
            <a:noFill/>
          </a:ln>
        </p:spPr>
      </p:pic>
      <p:grpSp>
        <p:nvGrpSpPr>
          <p:cNvPr id="572" name="Group 11"/>
          <p:cNvGrpSpPr/>
          <p:nvPr/>
        </p:nvGrpSpPr>
        <p:grpSpPr>
          <a:xfrm>
            <a:off x="365040" y="2523960"/>
            <a:ext cx="2125800" cy="1540080"/>
            <a:chOff x="365040" y="2523960"/>
            <a:chExt cx="2125800" cy="1540080"/>
          </a:xfrm>
        </p:grpSpPr>
        <p:pic>
          <p:nvPicPr>
            <p:cNvPr id="573" name="Picture 7" descr=""/>
            <p:cNvPicPr/>
            <p:nvPr/>
          </p:nvPicPr>
          <p:blipFill>
            <a:blip r:embed="rId2"/>
            <a:stretch/>
          </p:blipFill>
          <p:spPr>
            <a:xfrm>
              <a:off x="365040" y="2882880"/>
              <a:ext cx="21258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Box 6"/>
            <p:cNvSpPr/>
            <p:nvPr/>
          </p:nvSpPr>
          <p:spPr>
            <a:xfrm>
              <a:off x="365040" y="2523960"/>
              <a:ext cx="212580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c000"/>
                  </a:solidFill>
                  <a:latin typeface="Arial Narrow"/>
                </a:rPr>
                <a:t>POREZNA UPRAV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5" name="Picture 12" descr=""/>
          <p:cNvPicPr/>
          <p:nvPr/>
        </p:nvPicPr>
        <p:blipFill>
          <a:blip r:embed="rId3"/>
          <a:stretch/>
        </p:blipFill>
        <p:spPr>
          <a:xfrm>
            <a:off x="6659640" y="1909800"/>
            <a:ext cx="1654200" cy="1301760"/>
          </a:xfrm>
          <a:prstGeom prst="rect">
            <a:avLst/>
          </a:prstGeom>
          <a:ln w="0">
            <a:noFill/>
          </a:ln>
        </p:spPr>
      </p:pic>
      <p:sp>
        <p:nvSpPr>
          <p:cNvPr id="576" name="Content Placeholder 2"/>
          <p:cNvSpPr/>
          <p:nvPr/>
        </p:nvSpPr>
        <p:spPr>
          <a:xfrm>
            <a:off x="318960" y="1125360"/>
            <a:ext cx="8456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036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ema važećim propisima podatke prikupljaju Porezna uprava i Reg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ikupljene podatke koriste HZMO, HZZO i HZ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11" descr=""/>
          <p:cNvPicPr/>
          <p:nvPr/>
        </p:nvPicPr>
        <p:blipFill>
          <a:blip r:embed="rId4"/>
          <a:srcRect l="0" t="10560" r="5005" b="8181"/>
          <a:stretch/>
        </p:blipFill>
        <p:spPr>
          <a:xfrm>
            <a:off x="6558120" y="3994200"/>
            <a:ext cx="2160360" cy="1062000"/>
          </a:xfrm>
          <a:prstGeom prst="rect">
            <a:avLst/>
          </a:prstGeom>
          <a:ln w="0">
            <a:noFill/>
          </a:ln>
        </p:spPr>
      </p:pic>
      <p:pic>
        <p:nvPicPr>
          <p:cNvPr id="578" name="Rounded Rectangle 7" descr=""/>
          <p:cNvPicPr/>
          <p:nvPr/>
        </p:nvPicPr>
        <p:blipFill>
          <a:blip r:embed="rId5"/>
          <a:stretch/>
        </p:blipFill>
        <p:spPr>
          <a:xfrm>
            <a:off x="3700440" y="3340080"/>
            <a:ext cx="1766880" cy="1871640"/>
          </a:xfrm>
          <a:prstGeom prst="rect">
            <a:avLst/>
          </a:prstGeom>
          <a:ln w="0">
            <a:noFill/>
          </a:ln>
        </p:spPr>
      </p:pic>
      <p:sp>
        <p:nvSpPr>
          <p:cNvPr id="579" name="Right Arrow 10"/>
          <p:cNvSpPr/>
          <p:nvPr/>
        </p:nvSpPr>
        <p:spPr>
          <a:xfrm rot="1688400">
            <a:off x="2565000" y="3246480"/>
            <a:ext cx="1081080" cy="5904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0" name="Group 1"/>
          <p:cNvGrpSpPr/>
          <p:nvPr/>
        </p:nvGrpSpPr>
        <p:grpSpPr>
          <a:xfrm>
            <a:off x="460440" y="4094640"/>
            <a:ext cx="3260160" cy="1545840"/>
            <a:chOff x="460440" y="4094640"/>
            <a:chExt cx="3260160" cy="1545840"/>
          </a:xfrm>
        </p:grpSpPr>
        <p:pic>
          <p:nvPicPr>
            <p:cNvPr id="581" name="Picture 6" descr="http://www.regos.hr/img/regos-logo.png"/>
            <p:cNvPicPr/>
            <p:nvPr/>
          </p:nvPicPr>
          <p:blipFill>
            <a:blip r:embed="rId6"/>
            <a:srcRect l="0" t="0" r="47769" b="0"/>
            <a:stretch/>
          </p:blipFill>
          <p:spPr>
            <a:xfrm>
              <a:off x="460440" y="5087520"/>
              <a:ext cx="2507400" cy="5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Right Arrow 21"/>
            <p:cNvSpPr/>
            <p:nvPr/>
          </p:nvSpPr>
          <p:spPr>
            <a:xfrm rot="19536000">
              <a:off x="2568240" y="4348080"/>
              <a:ext cx="1080000" cy="590760"/>
            </a:xfrm>
            <a:prstGeom prst="rightArrow">
              <a:avLst>
                <a:gd name="adj1" fmla="val 50000"/>
                <a:gd name="adj2" fmla="val 4996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Right Arrow 12"/>
          <p:cNvSpPr/>
          <p:nvPr/>
        </p:nvSpPr>
        <p:spPr>
          <a:xfrm>
            <a:off x="5580000" y="3933720"/>
            <a:ext cx="720720" cy="592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4" name="Group 2"/>
          <p:cNvGrpSpPr/>
          <p:nvPr/>
        </p:nvGrpSpPr>
        <p:grpSpPr>
          <a:xfrm>
            <a:off x="5448600" y="4796640"/>
            <a:ext cx="3612960" cy="1374120"/>
            <a:chOff x="5448600" y="4796640"/>
            <a:chExt cx="3612960" cy="1374120"/>
          </a:xfrm>
        </p:grpSpPr>
        <p:pic>
          <p:nvPicPr>
            <p:cNvPr id="585" name="Picture 6" descr="http://www.regos.hr/img/regos-logo.png"/>
            <p:cNvPicPr/>
            <p:nvPr/>
          </p:nvPicPr>
          <p:blipFill>
            <a:blip r:embed="rId7"/>
            <a:srcRect l="0" t="0" r="47769" b="0"/>
            <a:stretch/>
          </p:blipFill>
          <p:spPr>
            <a:xfrm>
              <a:off x="6553440" y="5617800"/>
              <a:ext cx="2508120" cy="5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ight Arrow 18"/>
            <p:cNvSpPr/>
            <p:nvPr/>
          </p:nvSpPr>
          <p:spPr>
            <a:xfrm rot="1503600">
              <a:off x="5522760" y="4997520"/>
              <a:ext cx="1080360" cy="59076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alibri"/>
              </a:rPr>
              <a:t>Tri oblika izvješćav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vorni obrazac  …………..  Vrsta izvješća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imici isplaćeni na određeni dan, odnosno obveze doprinosa, poreza i prirez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spravak ………………………. Vrsta izvješća 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To je ispravak ranije ispostavljenog obrasca u slučaju ustanovljenih grešaka ili novih okol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opuna………………………… Vrsta izvješća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ad nakon predaje izvornog obrasca trebamo isplatiti dodatni primitak ili uplatiti porez ili doprinos koji nije iskazan na izvornom obras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8:50:49Z</dcterms:created>
  <dc:creator>Gorana Sivić Rušinović</dc:creator>
  <dc:description/>
  <dc:language>en-US</dc:language>
  <cp:lastModifiedBy>toni</cp:lastModifiedBy>
  <dcterms:modified xsi:type="dcterms:W3CDTF">2013-05-23T09:27:50Z</dcterms:modified>
  <cp:revision>74</cp:revision>
  <dc:subject/>
  <dc:title>PowerPoint Presentation</dc:title>
</cp:coreProperties>
</file>