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  <p:sldId id="292" r:id="rId50"/>
    <p:sldId id="293" r:id="rId51"/>
    <p:sldId id="294" r:id="rId52"/>
    <p:sldId id="295" r:id="rId53"/>
    <p:sldId id="296" r:id="rId54"/>
    <p:sldId id="297" r:id="rId55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slide" Target="slides/slide37.xml"/><Relationship Id="rId51" Type="http://schemas.openxmlformats.org/officeDocument/2006/relationships/slide" Target="slides/slide38.xml"/><Relationship Id="rId52" Type="http://schemas.openxmlformats.org/officeDocument/2006/relationships/slide" Target="slides/slide39.xml"/><Relationship Id="rId53" Type="http://schemas.openxmlformats.org/officeDocument/2006/relationships/slide" Target="slides/slide40.xml"/><Relationship Id="rId54" Type="http://schemas.openxmlformats.org/officeDocument/2006/relationships/slide" Target="slides/slide41.xml"/><Relationship Id="rId55" Type="http://schemas.openxmlformats.org/officeDocument/2006/relationships/slide" Target="slides/slide42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970DAF-1484-4FA6-9749-18CA4A9A9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67457D-D17C-4EF5-97EF-159EB664E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845B2DC-FFA6-4397-B1AC-3A59E319EF1E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8CE52A9-2CDE-490F-890E-29C4BC0AC45A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8BC0B1C-3172-48F3-892A-642892E7250F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DE28468-A90F-4F64-A257-75A6FE339C2B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7BEA48F-DA9E-4DA2-BF0B-B8FE0E6A016A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4648110-16D6-48F9-9337-49C6896751F6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E79E7A1-13CE-49D7-87FD-2F9F8F7EFF6B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30A4F18-02EC-4ADD-9AD3-13A78060060E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18407B8-2D70-418D-BFC6-4112B2ADC73A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6B73EC-8C3A-4F7D-A835-8B618DB4F2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A289E-F37F-4FCC-90D0-B1CE4B97B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12BAF1-B1DB-427A-A871-CB25571BF0DF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EAD347-FAA8-444F-8E0E-1500D1C1F240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9415B4-DFD3-4C77-A1F2-B54A4CDF14E0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F793CB-2F58-4FF6-A573-EABAE700A191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548294-62C3-4B77-B5B6-C1778EE2B1B0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08EA80-70B6-4EF0-9D8F-B23F852ADBD7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28B22F-C6CD-4408-BB4C-9DD8A5A08526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5A5AEE-A511-446C-AA1E-B1A939783A64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205393-5898-4932-A350-32C46786B244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023464-3583-4F90-8E02-23C80A7D48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E7258A-F37A-4B53-8341-6D9CC5630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B3186D-AE63-475C-9EAE-08F95EA01675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DFEB128-7672-4A68-B79C-039B3F80C4F5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879E7DC-081B-4E2C-9CB9-B214F13D2C1C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CB7053B-5437-4851-B259-7534DE2BDF4A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BE7DAC4-F43E-4EA2-92B8-1FA2EAA607C1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F678E1C-9DE1-498B-A7C0-156C8025E847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4DDD7E6-D5CD-4EBE-B991-F1FFA5A5ADDE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C7E8ED8-7924-4EB3-A4E0-009DB3BA04E9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1A75422-CB2A-494D-A4F9-4F77D8238639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B67E333-BB4E-4DD8-B765-FF8956FFC9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0714F1-5053-4CC8-A577-C37E4D80DDC5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4B1E8E7-EED2-45FC-AC82-4A4B834B1469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7B25F1A-A8D8-43B4-A30A-D218AF5B16FD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D68E440-8991-4426-A6B1-D2496E89DB4F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BF0C8D-67C1-433D-A952-04EF771B4D5E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4CA12E-4FC8-4E1D-A279-20F1A8451AFA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80CC62-9C7B-46F9-9A09-29286C9FD613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7CE159-04EC-438A-94FC-6AC114B46704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9C3842-5C63-4765-AC7E-C61DFCE6CE09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A977B1-64B1-4C11-B964-53370F4A9F98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42295B-80A9-4EBB-AC61-063F1170C0F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21638B-7356-4DB9-849D-EC3EEF283F6C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F7BB6E-51F5-48D9-A804-E8D05E3A0C2D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864A75-9FBF-4AA4-8D3B-4A7E98E85FFA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B2E51A-9C23-4A76-B19B-7AB3ED091DF5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F7697E-DAED-4004-B65B-9A33A13F78D2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088830-A7E3-4504-8EB0-2A7064EEB46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E21BD1-F13C-492B-AC3D-3C771F95E85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48A63A-8EB2-46FE-82E6-459A5B34847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8D73A9-0BA0-4A2C-94FA-3FAA17A249A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96D25C-DA12-451C-AF6B-DC22D94F2E9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5C5F62-91A5-4424-B1A6-463AA7072A3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DAE8D9-DC3C-4CF3-817B-4C85915F4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C6BD4A-7D3C-4971-B9C3-E1A33604679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6A5334-862B-4D1E-8EA6-939BEE8CFE5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2E2B76-3652-4237-99B0-983D72F6B22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C1A3C2-D498-4151-AE15-5AFE36BFE84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E00CC0-8388-4924-91BB-A1F7A9738B1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EFDD48F-C53F-471E-9ECB-15660F9692B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3E9B93E-A313-4E1A-85A2-C8CF9AAC150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2A9FB6E-4A6F-42D8-A683-F322A9A0558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EBA3DCB-B3E4-4D2F-A114-745194DB54B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D37E595-75C4-440C-A348-2804F87325A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029410-7A99-44A9-BDB8-17462B161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6B9C390-9279-4276-AEE2-BDB4EF8198E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12187D2-D48F-4365-816A-AEA0F7E2D73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073438B-9E3D-4BEC-B60D-62FE0E220D6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7928B23-374B-49D0-AD80-C9891CDFC08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7E4688A-871C-4458-9EF2-12A7A09196F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C2714CA-C56E-45F6-9D81-BD2B9ADC5E1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77D0E71-B2B9-48B8-9551-BCE5EB2D7CB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EBBDDE-E193-4776-B500-38D704A82D0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74D6F4-1BE0-496B-8E0F-C06C1BF5072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91B52F-0355-4165-91D8-E8F6B12C17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2D9AB-BFF5-45B5-AA55-C5AA80D26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014D86-0BB0-4751-A74B-B4DBA811C89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8164A6-53BF-4266-8E24-3819D6F6CF1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5C3031-A663-4BC9-8B78-9B4C763A8FE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9F2529-04DF-4755-8D1F-4F5D672E0A9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024D5C-F939-4639-8C44-32569673329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D6F31A-D2F8-4A93-98F4-510D20D0861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C84F32-CE0D-47C8-A4B1-5A9205FD20C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2DF1DC-18D6-4242-93D8-4B81643C575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B9D261-2B19-492D-BB5F-AF20D23AB698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3EB4204-181A-466C-BDD7-26C985B696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036779-57A4-4F7B-A1F2-44460A25D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9229A24-B02B-4FC8-8040-9EE634792A01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A141CA8-1539-47C4-A71E-DBFEE228FE09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6160498-F34D-4530-97FC-C62029599F5D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1244CB0-E8CF-44AD-82B3-5B0686BFF41A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2944D22-E605-4A69-91F2-439DEC4DDCDE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F024CCD-BCD7-41CF-BFD0-D531192399F4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2773A58-568B-4917-AD25-279A0D00FB24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F7762BD-A54C-4178-BBE0-9172EA523C3A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4B031E1-1AD7-443C-B46C-F596DC2F9DF3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E82A8D3-87EE-4663-A932-19DF3D6C14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DC00B3-C6CA-49FB-AEFD-074124997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C2CD3E1-D055-40E1-B861-1205078052C5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D41D28B-7C58-4843-8E20-46212CBF6DC3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0612801-4989-4881-B4C8-61DEAF714BA3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4B7E569-FB63-4B92-93F9-FACD73BF31C7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95615EA-D8BB-4504-8564-58B26C25050C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DA734F0-549D-4002-8722-A9BD719BC06E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8DB1580-C26E-4A3A-8ECC-07568A8EDB51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1C9A137-5BAA-48C5-88FA-69DCA062EC5E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6D31043-561F-4768-971B-F75C387B5784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4D6921F-D489-4BCA-B3BA-0B5A70931A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A3019A-3E67-4C5F-A3C5-BE42F44FF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F6CE325-E35D-4B9D-B382-6C8C35D19085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874F3F5-5ED5-4D4F-AB5D-C8DF0B4F69DE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2DDAE97-4C6C-49E2-94EE-88783927A68C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955612-8F1E-4012-942A-3ACC14CE4C94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FA0F46-B48B-4F09-90ED-4884B2390B00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0B6173-A7F3-4E5F-8B4B-0A150E88DC82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6261AD-3548-404C-95FF-CA8CB1EAFF8E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95EF3D-3C7F-4162-9ED0-740ECB91B227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321355-DAD3-46E1-A0AF-0B78B64E14CC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71F125-85BB-450C-B4C5-8F8A471FF1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6A59AD-EE78-464C-87A0-69DE23A6B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ECC301-2F32-44C3-8A8B-0B9E56983C46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D533E0-EF59-44B8-89AD-75E242BE6D95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D50D86-6C13-4093-BE03-E775F42359BD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81F882-0C1A-4E12-BCDA-FD3E6BCF5178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BD207D-6367-4D7A-AB04-78534551C788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9CE0299-F80E-4CFA-BFCD-5B72DF335B9B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06B99AD-53D7-4E71-95BC-C599C3E45A76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14D5D53-626A-46D9-B1B1-37EAD31102FD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D927F6B-1B2A-42C2-81C2-129A2DE74FCF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20B9DDE-CBDB-4D8D-ADA8-445D3C6A73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5C0533-3105-461A-92BB-625A5973C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CCBC1C1-CC40-4279-901C-2A624A3C22B5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1454DF0-38BA-4ACD-A42A-115AA7FCC59C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4242F8F-DC41-4B3A-98BF-E881D839E90C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33ECCE7-B389-4877-86A5-063F84D80590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AFE78A6-4513-4FF1-B517-AE492D43FE21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0B1AD20-55D2-460D-9EA0-B1B0375AB1D0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23E027A-A65B-4470-A458-EA7BFAD912E1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9FC6455-6B0F-4102-964A-AEBBF0B13E62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2190729-56C2-4080-BD0C-21D6492FE6FC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8CFE556-A267-4914-9D96-BB863C30F9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182520">
              <a:spcBef>
                <a:spcPts val="601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730080" indent="-182520">
              <a:spcBef>
                <a:spcPts val="601"/>
              </a:spcBef>
              <a:buClr>
                <a:srgbClr val="4f81bd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004760" indent="-182520"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187280" indent="-136440"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187280" indent="-136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187280" indent="-136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468000" y="18720"/>
            <a:ext cx="777564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316720" y="18720"/>
            <a:ext cx="7189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B3A5A-79DD-4171-9E9D-37AA22FB5BF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8100720" y="6492960"/>
            <a:ext cx="104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5" name="Slika 9" descr=""/>
          <p:cNvPicPr/>
          <p:nvPr/>
        </p:nvPicPr>
        <p:blipFill>
          <a:blip r:embed="rId2"/>
          <a:stretch/>
        </p:blipFill>
        <p:spPr>
          <a:xfrm>
            <a:off x="3949560" y="6504120"/>
            <a:ext cx="1414440" cy="326880"/>
          </a:xfrm>
          <a:prstGeom prst="rect">
            <a:avLst/>
          </a:prstGeom>
          <a:ln w="0">
            <a:noFill/>
          </a:ln>
        </p:spPr>
      </p:pic>
      <p:pic>
        <p:nvPicPr>
          <p:cNvPr id="396" name="Slika 10" descr=""/>
          <p:cNvPicPr/>
          <p:nvPr/>
        </p:nvPicPr>
        <p:blipFill>
          <a:blip r:embed="rId3"/>
          <a:stretch/>
        </p:blipFill>
        <p:spPr>
          <a:xfrm>
            <a:off x="7885080" y="6357960"/>
            <a:ext cx="1236600" cy="490680"/>
          </a:xfrm>
          <a:prstGeom prst="rect">
            <a:avLst/>
          </a:prstGeom>
          <a:ln w="0">
            <a:noFill/>
          </a:ln>
        </p:spPr>
      </p:pic>
      <p:pic>
        <p:nvPicPr>
          <p:cNvPr id="397" name="Slika 11" descr=""/>
          <p:cNvPicPr/>
          <p:nvPr/>
        </p:nvPicPr>
        <p:blipFill>
          <a:blip r:embed="rId4"/>
          <a:stretch/>
        </p:blipFill>
        <p:spPr>
          <a:xfrm>
            <a:off x="0" y="6108840"/>
            <a:ext cx="826920" cy="749160"/>
          </a:xfrm>
          <a:prstGeom prst="rect">
            <a:avLst/>
          </a:prstGeom>
          <a:ln w="0">
            <a:noFill/>
          </a:ln>
        </p:spPr>
      </p:pic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182520">
              <a:spcBef>
                <a:spcPts val="601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730080" indent="-182520">
              <a:spcBef>
                <a:spcPts val="601"/>
              </a:spcBef>
              <a:buClr>
                <a:srgbClr val="4f81bd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004760" indent="-182520"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187280" indent="-136440"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187280" indent="-136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187280" indent="-136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ftr" idx="20"/>
          </p:nvPr>
        </p:nvSpPr>
        <p:spPr>
          <a:xfrm>
            <a:off x="468000" y="18720"/>
            <a:ext cx="777564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 type="sldNum" idx="21"/>
          </p:nvPr>
        </p:nvSpPr>
        <p:spPr>
          <a:xfrm>
            <a:off x="8316720" y="18720"/>
            <a:ext cx="7189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08E0D-0A16-4B8C-A298-142649756C4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9" name="Slika 8" descr=""/>
          <p:cNvPicPr/>
          <p:nvPr/>
        </p:nvPicPr>
        <p:blipFill>
          <a:blip r:embed="rId2"/>
          <a:stretch/>
        </p:blipFill>
        <p:spPr>
          <a:xfrm>
            <a:off x="3949560" y="6504120"/>
            <a:ext cx="1414440" cy="326880"/>
          </a:xfrm>
          <a:prstGeom prst="rect">
            <a:avLst/>
          </a:prstGeom>
          <a:ln w="0">
            <a:noFill/>
          </a:ln>
        </p:spPr>
      </p:pic>
      <p:pic>
        <p:nvPicPr>
          <p:cNvPr id="440" name="Slika 9" descr=""/>
          <p:cNvPicPr/>
          <p:nvPr/>
        </p:nvPicPr>
        <p:blipFill>
          <a:blip r:embed="rId3"/>
          <a:stretch/>
        </p:blipFill>
        <p:spPr>
          <a:xfrm>
            <a:off x="0" y="6108840"/>
            <a:ext cx="826920" cy="749160"/>
          </a:xfrm>
          <a:prstGeom prst="rect">
            <a:avLst/>
          </a:prstGeom>
          <a:ln w="0">
            <a:noFill/>
          </a:ln>
        </p:spPr>
      </p:pic>
      <p:pic>
        <p:nvPicPr>
          <p:cNvPr id="441" name="Slika 10" descr=""/>
          <p:cNvPicPr/>
          <p:nvPr/>
        </p:nvPicPr>
        <p:blipFill>
          <a:blip r:embed="rId4"/>
          <a:stretch/>
        </p:blipFill>
        <p:spPr>
          <a:xfrm>
            <a:off x="7885080" y="6357960"/>
            <a:ext cx="1236600" cy="490680"/>
          </a:xfrm>
          <a:prstGeom prst="rect">
            <a:avLst/>
          </a:prstGeom>
          <a:ln w="0">
            <a:noFill/>
          </a:ln>
        </p:spPr>
      </p:pic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182520">
              <a:spcBef>
                <a:spcPts val="601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730080" indent="-182520">
              <a:spcBef>
                <a:spcPts val="601"/>
              </a:spcBef>
              <a:buClr>
                <a:srgbClr val="4f81bd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004760" indent="-182520"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187280" indent="-136440"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187280" indent="-136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187280" indent="-136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 type="ftr" idx="22"/>
          </p:nvPr>
        </p:nvSpPr>
        <p:spPr>
          <a:xfrm>
            <a:off x="468000" y="18720"/>
            <a:ext cx="777564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 type="sldNum" idx="23"/>
          </p:nvPr>
        </p:nvSpPr>
        <p:spPr>
          <a:xfrm>
            <a:off x="8316720" y="18720"/>
            <a:ext cx="7189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BF626-2443-4C99-94BD-44A35E04B59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3" name="Slika 8" descr=""/>
          <p:cNvPicPr/>
          <p:nvPr/>
        </p:nvPicPr>
        <p:blipFill>
          <a:blip r:embed="rId2"/>
          <a:stretch/>
        </p:blipFill>
        <p:spPr>
          <a:xfrm>
            <a:off x="3949560" y="6504120"/>
            <a:ext cx="1414440" cy="326880"/>
          </a:xfrm>
          <a:prstGeom prst="rect">
            <a:avLst/>
          </a:prstGeom>
          <a:ln w="0">
            <a:noFill/>
          </a:ln>
        </p:spPr>
      </p:pic>
      <p:pic>
        <p:nvPicPr>
          <p:cNvPr id="484" name="Slika 9" descr=""/>
          <p:cNvPicPr/>
          <p:nvPr/>
        </p:nvPicPr>
        <p:blipFill>
          <a:blip r:embed="rId3"/>
          <a:stretch/>
        </p:blipFill>
        <p:spPr>
          <a:xfrm>
            <a:off x="0" y="6108840"/>
            <a:ext cx="826920" cy="749160"/>
          </a:xfrm>
          <a:prstGeom prst="rect">
            <a:avLst/>
          </a:prstGeom>
          <a:ln w="0">
            <a:noFill/>
          </a:ln>
        </p:spPr>
      </p:pic>
      <p:pic>
        <p:nvPicPr>
          <p:cNvPr id="485" name="Slika 10" descr=""/>
          <p:cNvPicPr/>
          <p:nvPr/>
        </p:nvPicPr>
        <p:blipFill>
          <a:blip r:embed="rId4"/>
          <a:stretch/>
        </p:blipFill>
        <p:spPr>
          <a:xfrm>
            <a:off x="7885080" y="6357960"/>
            <a:ext cx="1236600" cy="490680"/>
          </a:xfrm>
          <a:prstGeom prst="rect">
            <a:avLst/>
          </a:prstGeom>
          <a:ln w="0">
            <a:noFill/>
          </a:ln>
        </p:spPr>
      </p:pic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182520">
              <a:spcBef>
                <a:spcPts val="601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730080" indent="-182520">
              <a:spcBef>
                <a:spcPts val="601"/>
              </a:spcBef>
              <a:buClr>
                <a:srgbClr val="4f81bd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004760" indent="-182520"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187280" indent="-136440"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187280" indent="-136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187280" indent="-136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 type="ftr" idx="24"/>
          </p:nvPr>
        </p:nvSpPr>
        <p:spPr>
          <a:xfrm>
            <a:off x="468000" y="18720"/>
            <a:ext cx="777564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 type="sldNum" idx="25"/>
          </p:nvPr>
        </p:nvSpPr>
        <p:spPr>
          <a:xfrm>
            <a:off x="8316720" y="18720"/>
            <a:ext cx="7189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70286-E60F-4FC8-AB62-64AD3FD3554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Slika 3" descr=""/>
          <p:cNvPicPr/>
          <p:nvPr/>
        </p:nvPicPr>
        <p:blipFill>
          <a:blip r:embed="rId2"/>
          <a:stretch/>
        </p:blipFill>
        <p:spPr>
          <a:xfrm>
            <a:off x="3951360" y="6521400"/>
            <a:ext cx="1414440" cy="327240"/>
          </a:xfrm>
          <a:prstGeom prst="rect">
            <a:avLst/>
          </a:prstGeom>
          <a:ln w="0">
            <a:noFill/>
          </a:ln>
        </p:spPr>
      </p:pic>
      <p:pic>
        <p:nvPicPr>
          <p:cNvPr id="44" name="Slika 9" descr=""/>
          <p:cNvPicPr/>
          <p:nvPr/>
        </p:nvPicPr>
        <p:blipFill>
          <a:blip r:embed="rId3"/>
          <a:stretch/>
        </p:blipFill>
        <p:spPr>
          <a:xfrm>
            <a:off x="0" y="6108840"/>
            <a:ext cx="826920" cy="749160"/>
          </a:xfrm>
          <a:prstGeom prst="rect">
            <a:avLst/>
          </a:prstGeom>
          <a:ln w="0">
            <a:noFill/>
          </a:ln>
        </p:spPr>
      </p:pic>
      <p:pic>
        <p:nvPicPr>
          <p:cNvPr id="45" name="Slika 10" descr=""/>
          <p:cNvPicPr/>
          <p:nvPr/>
        </p:nvPicPr>
        <p:blipFill>
          <a:blip r:embed="rId4"/>
          <a:stretch/>
        </p:blipFill>
        <p:spPr>
          <a:xfrm>
            <a:off x="7885080" y="6357960"/>
            <a:ext cx="1236600" cy="490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182520">
              <a:spcBef>
                <a:spcPts val="601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730080" indent="-182520">
              <a:spcBef>
                <a:spcPts val="601"/>
              </a:spcBef>
              <a:buClr>
                <a:srgbClr val="4f81bd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004760" indent="-182520"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187280" indent="-136440"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187280" indent="-136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187280" indent="-136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4"/>
          </p:nvPr>
        </p:nvSpPr>
        <p:spPr>
          <a:xfrm>
            <a:off x="468000" y="18720"/>
            <a:ext cx="777564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5"/>
          </p:nvPr>
        </p:nvSpPr>
        <p:spPr>
          <a:xfrm>
            <a:off x="8316720" y="18720"/>
            <a:ext cx="7189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90230-80BD-4C62-8A66-C986CCA926D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Slika 8" descr=""/>
          <p:cNvPicPr/>
          <p:nvPr/>
        </p:nvPicPr>
        <p:blipFill>
          <a:blip r:embed="rId2"/>
          <a:stretch/>
        </p:blipFill>
        <p:spPr>
          <a:xfrm>
            <a:off x="3949560" y="6504120"/>
            <a:ext cx="1414440" cy="326880"/>
          </a:xfrm>
          <a:prstGeom prst="rect">
            <a:avLst/>
          </a:prstGeom>
          <a:ln w="0">
            <a:noFill/>
          </a:ln>
        </p:spPr>
      </p:pic>
      <p:pic>
        <p:nvPicPr>
          <p:cNvPr id="88" name="Slika 10" descr=""/>
          <p:cNvPicPr/>
          <p:nvPr/>
        </p:nvPicPr>
        <p:blipFill>
          <a:blip r:embed="rId3"/>
          <a:stretch/>
        </p:blipFill>
        <p:spPr>
          <a:xfrm>
            <a:off x="0" y="6108840"/>
            <a:ext cx="826920" cy="749160"/>
          </a:xfrm>
          <a:prstGeom prst="rect">
            <a:avLst/>
          </a:prstGeom>
          <a:ln w="0">
            <a:noFill/>
          </a:ln>
        </p:spPr>
      </p:pic>
      <p:pic>
        <p:nvPicPr>
          <p:cNvPr id="89" name="Slika 11" descr=""/>
          <p:cNvPicPr/>
          <p:nvPr/>
        </p:nvPicPr>
        <p:blipFill>
          <a:blip r:embed="rId4"/>
          <a:stretch/>
        </p:blipFill>
        <p:spPr>
          <a:xfrm>
            <a:off x="7885080" y="6357960"/>
            <a:ext cx="1236600" cy="4906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182520">
              <a:spcBef>
                <a:spcPts val="601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730080" indent="-182520">
              <a:spcBef>
                <a:spcPts val="601"/>
              </a:spcBef>
              <a:buClr>
                <a:srgbClr val="4f81bd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004760" indent="-182520"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187280" indent="-136440"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187280" indent="-136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187280" indent="-136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ftr" idx="6"/>
          </p:nvPr>
        </p:nvSpPr>
        <p:spPr>
          <a:xfrm>
            <a:off x="468000" y="18720"/>
            <a:ext cx="777564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sldNum" idx="7"/>
          </p:nvPr>
        </p:nvSpPr>
        <p:spPr>
          <a:xfrm>
            <a:off x="8316720" y="18720"/>
            <a:ext cx="7189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DD265-3515-4DBC-A8D5-214013F0984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Slika 8" descr=""/>
          <p:cNvPicPr/>
          <p:nvPr/>
        </p:nvPicPr>
        <p:blipFill>
          <a:blip r:embed="rId2"/>
          <a:stretch/>
        </p:blipFill>
        <p:spPr>
          <a:xfrm>
            <a:off x="3949560" y="6504120"/>
            <a:ext cx="1414440" cy="326880"/>
          </a:xfrm>
          <a:prstGeom prst="rect">
            <a:avLst/>
          </a:prstGeom>
          <a:ln w="0">
            <a:noFill/>
          </a:ln>
        </p:spPr>
      </p:pic>
      <p:pic>
        <p:nvPicPr>
          <p:cNvPr id="132" name="Slika 9" descr=""/>
          <p:cNvPicPr/>
          <p:nvPr/>
        </p:nvPicPr>
        <p:blipFill>
          <a:blip r:embed="rId3"/>
          <a:stretch/>
        </p:blipFill>
        <p:spPr>
          <a:xfrm>
            <a:off x="0" y="6108840"/>
            <a:ext cx="826920" cy="749160"/>
          </a:xfrm>
          <a:prstGeom prst="rect">
            <a:avLst/>
          </a:prstGeom>
          <a:ln w="0">
            <a:noFill/>
          </a:ln>
        </p:spPr>
      </p:pic>
      <p:pic>
        <p:nvPicPr>
          <p:cNvPr id="133" name="Slika 10" descr=""/>
          <p:cNvPicPr/>
          <p:nvPr/>
        </p:nvPicPr>
        <p:blipFill>
          <a:blip r:embed="rId4"/>
          <a:stretch/>
        </p:blipFill>
        <p:spPr>
          <a:xfrm>
            <a:off x="7885080" y="6357960"/>
            <a:ext cx="1236600" cy="49068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ce1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57200" indent="-182520">
              <a:spcBef>
                <a:spcPts val="601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730080" indent="-182520">
              <a:spcBef>
                <a:spcPts val="601"/>
              </a:spcBef>
              <a:buClr>
                <a:srgbClr val="4f81bd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004760" indent="-182520"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1187280" indent="-136440"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ftr" idx="8"/>
          </p:nvPr>
        </p:nvSpPr>
        <p:spPr>
          <a:xfrm>
            <a:off x="468000" y="18720"/>
            <a:ext cx="777564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9"/>
          </p:nvPr>
        </p:nvSpPr>
        <p:spPr>
          <a:xfrm>
            <a:off x="8316720" y="18720"/>
            <a:ext cx="7189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01A71-F62F-4388-9905-1E5CEF4259C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Slika 9" descr=""/>
          <p:cNvPicPr/>
          <p:nvPr/>
        </p:nvPicPr>
        <p:blipFill>
          <a:blip r:embed="rId2"/>
          <a:stretch/>
        </p:blipFill>
        <p:spPr>
          <a:xfrm>
            <a:off x="3949560" y="6504120"/>
            <a:ext cx="1414440" cy="326880"/>
          </a:xfrm>
          <a:prstGeom prst="rect">
            <a:avLst/>
          </a:prstGeom>
          <a:ln w="0">
            <a:noFill/>
          </a:ln>
        </p:spPr>
      </p:pic>
      <p:pic>
        <p:nvPicPr>
          <p:cNvPr id="176" name="Slika 10" descr=""/>
          <p:cNvPicPr/>
          <p:nvPr/>
        </p:nvPicPr>
        <p:blipFill>
          <a:blip r:embed="rId3"/>
          <a:stretch/>
        </p:blipFill>
        <p:spPr>
          <a:xfrm>
            <a:off x="0" y="6108840"/>
            <a:ext cx="826920" cy="749160"/>
          </a:xfrm>
          <a:prstGeom prst="rect">
            <a:avLst/>
          </a:prstGeom>
          <a:ln w="0">
            <a:noFill/>
          </a:ln>
        </p:spPr>
      </p:pic>
      <p:pic>
        <p:nvPicPr>
          <p:cNvPr id="177" name="Slika 12" descr=""/>
          <p:cNvPicPr/>
          <p:nvPr/>
        </p:nvPicPr>
        <p:blipFill>
          <a:blip r:embed="rId4"/>
          <a:stretch/>
        </p:blipFill>
        <p:spPr>
          <a:xfrm>
            <a:off x="7885080" y="6357960"/>
            <a:ext cx="1236600" cy="4906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182520">
              <a:spcBef>
                <a:spcPts val="601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730080" indent="-182520">
              <a:spcBef>
                <a:spcPts val="601"/>
              </a:spcBef>
              <a:buClr>
                <a:srgbClr val="4f81bd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004760" indent="-182520"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187280" indent="-136440"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187280" indent="-136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187280" indent="-136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ftr" idx="10"/>
          </p:nvPr>
        </p:nvSpPr>
        <p:spPr>
          <a:xfrm>
            <a:off x="468000" y="18720"/>
            <a:ext cx="777564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sldNum" idx="11"/>
          </p:nvPr>
        </p:nvSpPr>
        <p:spPr>
          <a:xfrm>
            <a:off x="8316720" y="18720"/>
            <a:ext cx="7189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4A0AD-8334-4E42-B143-CD3AE78CB88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9" name="Slika 10" descr=""/>
          <p:cNvPicPr/>
          <p:nvPr/>
        </p:nvPicPr>
        <p:blipFill>
          <a:blip r:embed="rId2"/>
          <a:stretch/>
        </p:blipFill>
        <p:spPr>
          <a:xfrm>
            <a:off x="3949560" y="6504120"/>
            <a:ext cx="1414440" cy="326880"/>
          </a:xfrm>
          <a:prstGeom prst="rect">
            <a:avLst/>
          </a:prstGeom>
          <a:ln w="0">
            <a:noFill/>
          </a:ln>
        </p:spPr>
      </p:pic>
      <p:pic>
        <p:nvPicPr>
          <p:cNvPr id="220" name="Slika 12" descr=""/>
          <p:cNvPicPr/>
          <p:nvPr/>
        </p:nvPicPr>
        <p:blipFill>
          <a:blip r:embed="rId3"/>
          <a:stretch/>
        </p:blipFill>
        <p:spPr>
          <a:xfrm>
            <a:off x="0" y="6108840"/>
            <a:ext cx="826920" cy="749160"/>
          </a:xfrm>
          <a:prstGeom prst="rect">
            <a:avLst/>
          </a:prstGeom>
          <a:ln w="0">
            <a:noFill/>
          </a:ln>
        </p:spPr>
      </p:pic>
      <p:pic>
        <p:nvPicPr>
          <p:cNvPr id="221" name="Slika 13" descr=""/>
          <p:cNvPicPr/>
          <p:nvPr/>
        </p:nvPicPr>
        <p:blipFill>
          <a:blip r:embed="rId4"/>
          <a:stretch/>
        </p:blipFill>
        <p:spPr>
          <a:xfrm>
            <a:off x="7885080" y="6357960"/>
            <a:ext cx="1236600" cy="49068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182520">
              <a:spcBef>
                <a:spcPts val="601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730080" indent="-182520">
              <a:spcBef>
                <a:spcPts val="601"/>
              </a:spcBef>
              <a:buClr>
                <a:srgbClr val="4f81bd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004760" indent="-182520"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187280" indent="-136440"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187280" indent="-136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187280" indent="-136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ftr" idx="12"/>
          </p:nvPr>
        </p:nvSpPr>
        <p:spPr>
          <a:xfrm>
            <a:off x="468000" y="18720"/>
            <a:ext cx="777564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sldNum" idx="13"/>
          </p:nvPr>
        </p:nvSpPr>
        <p:spPr>
          <a:xfrm>
            <a:off x="8316720" y="18720"/>
            <a:ext cx="7189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0DC43-F215-4767-9CD4-97BEA7A3847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3" name="Slika 7" descr=""/>
          <p:cNvPicPr/>
          <p:nvPr/>
        </p:nvPicPr>
        <p:blipFill>
          <a:blip r:embed="rId2"/>
          <a:stretch/>
        </p:blipFill>
        <p:spPr>
          <a:xfrm>
            <a:off x="3949560" y="6504120"/>
            <a:ext cx="1414440" cy="326880"/>
          </a:xfrm>
          <a:prstGeom prst="rect">
            <a:avLst/>
          </a:prstGeom>
          <a:ln w="0">
            <a:noFill/>
          </a:ln>
        </p:spPr>
      </p:pic>
      <p:pic>
        <p:nvPicPr>
          <p:cNvPr id="264" name="Slika 8" descr=""/>
          <p:cNvPicPr/>
          <p:nvPr/>
        </p:nvPicPr>
        <p:blipFill>
          <a:blip r:embed="rId3"/>
          <a:stretch/>
        </p:blipFill>
        <p:spPr>
          <a:xfrm>
            <a:off x="0" y="6108840"/>
            <a:ext cx="826920" cy="749160"/>
          </a:xfrm>
          <a:prstGeom prst="rect">
            <a:avLst/>
          </a:prstGeom>
          <a:ln w="0">
            <a:noFill/>
          </a:ln>
        </p:spPr>
      </p:pic>
      <p:pic>
        <p:nvPicPr>
          <p:cNvPr id="265" name="Slika 9" descr=""/>
          <p:cNvPicPr/>
          <p:nvPr/>
        </p:nvPicPr>
        <p:blipFill>
          <a:blip r:embed="rId4"/>
          <a:stretch/>
        </p:blipFill>
        <p:spPr>
          <a:xfrm>
            <a:off x="7885080" y="6357960"/>
            <a:ext cx="1236600" cy="490680"/>
          </a:xfrm>
          <a:prstGeom prst="rect">
            <a:avLst/>
          </a:prstGeom>
          <a:ln w="0">
            <a:noFill/>
          </a:ln>
        </p:spPr>
      </p:pic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182520">
              <a:spcBef>
                <a:spcPts val="601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730080" indent="-182520">
              <a:spcBef>
                <a:spcPts val="601"/>
              </a:spcBef>
              <a:buClr>
                <a:srgbClr val="4f81bd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004760" indent="-182520"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187280" indent="-136440"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187280" indent="-136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187280" indent="-136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ftr" idx="14"/>
          </p:nvPr>
        </p:nvSpPr>
        <p:spPr>
          <a:xfrm>
            <a:off x="468000" y="18720"/>
            <a:ext cx="777564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sldNum" idx="15"/>
          </p:nvPr>
        </p:nvSpPr>
        <p:spPr>
          <a:xfrm>
            <a:off x="8316720" y="18720"/>
            <a:ext cx="7189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B8FA0-A4E3-491A-8E29-0E384900A47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7" name="Slika 6" descr=""/>
          <p:cNvPicPr/>
          <p:nvPr/>
        </p:nvPicPr>
        <p:blipFill>
          <a:blip r:embed="rId2"/>
          <a:stretch/>
        </p:blipFill>
        <p:spPr>
          <a:xfrm>
            <a:off x="3949560" y="6504120"/>
            <a:ext cx="1414440" cy="326880"/>
          </a:xfrm>
          <a:prstGeom prst="rect">
            <a:avLst/>
          </a:prstGeom>
          <a:ln w="0">
            <a:noFill/>
          </a:ln>
        </p:spPr>
      </p:pic>
      <p:pic>
        <p:nvPicPr>
          <p:cNvPr id="308" name="Slika 7" descr=""/>
          <p:cNvPicPr/>
          <p:nvPr/>
        </p:nvPicPr>
        <p:blipFill>
          <a:blip r:embed="rId3"/>
          <a:stretch/>
        </p:blipFill>
        <p:spPr>
          <a:xfrm>
            <a:off x="0" y="6108840"/>
            <a:ext cx="826920" cy="749160"/>
          </a:xfrm>
          <a:prstGeom prst="rect">
            <a:avLst/>
          </a:prstGeom>
          <a:ln w="0">
            <a:noFill/>
          </a:ln>
        </p:spPr>
      </p:pic>
      <p:pic>
        <p:nvPicPr>
          <p:cNvPr id="309" name="Slika 8" descr=""/>
          <p:cNvPicPr/>
          <p:nvPr/>
        </p:nvPicPr>
        <p:blipFill>
          <a:blip r:embed="rId4"/>
          <a:stretch/>
        </p:blipFill>
        <p:spPr>
          <a:xfrm>
            <a:off x="7885080" y="6357960"/>
            <a:ext cx="1236600" cy="490680"/>
          </a:xfrm>
          <a:prstGeom prst="rect">
            <a:avLst/>
          </a:prstGeom>
          <a:ln w="0">
            <a:noFill/>
          </a:ln>
        </p:spPr>
      </p:pic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182520">
              <a:spcBef>
                <a:spcPts val="601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730080" indent="-182520">
              <a:spcBef>
                <a:spcPts val="601"/>
              </a:spcBef>
              <a:buClr>
                <a:srgbClr val="4f81bd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004760" indent="-182520"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187280" indent="-136440"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187280" indent="-136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187280" indent="-136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ftr" idx="16"/>
          </p:nvPr>
        </p:nvSpPr>
        <p:spPr>
          <a:xfrm>
            <a:off x="468000" y="18720"/>
            <a:ext cx="777564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17"/>
          </p:nvPr>
        </p:nvSpPr>
        <p:spPr>
          <a:xfrm>
            <a:off x="8316720" y="18720"/>
            <a:ext cx="7189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89796-BAF8-4D87-AA66-5CE8822B73C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1" name="Slika 8" descr=""/>
          <p:cNvPicPr/>
          <p:nvPr/>
        </p:nvPicPr>
        <p:blipFill>
          <a:blip r:embed="rId2"/>
          <a:stretch/>
        </p:blipFill>
        <p:spPr>
          <a:xfrm>
            <a:off x="3949560" y="6504120"/>
            <a:ext cx="1414440" cy="326880"/>
          </a:xfrm>
          <a:prstGeom prst="rect">
            <a:avLst/>
          </a:prstGeom>
          <a:ln w="0">
            <a:noFill/>
          </a:ln>
        </p:spPr>
      </p:pic>
      <p:pic>
        <p:nvPicPr>
          <p:cNvPr id="352" name="Slika 10" descr=""/>
          <p:cNvPicPr/>
          <p:nvPr/>
        </p:nvPicPr>
        <p:blipFill>
          <a:blip r:embed="rId3"/>
          <a:stretch/>
        </p:blipFill>
        <p:spPr>
          <a:xfrm>
            <a:off x="0" y="6108840"/>
            <a:ext cx="826920" cy="749160"/>
          </a:xfrm>
          <a:prstGeom prst="rect">
            <a:avLst/>
          </a:prstGeom>
          <a:ln w="0">
            <a:noFill/>
          </a:ln>
        </p:spPr>
      </p:pic>
      <p:pic>
        <p:nvPicPr>
          <p:cNvPr id="353" name="Slika 11" descr=""/>
          <p:cNvPicPr/>
          <p:nvPr/>
        </p:nvPicPr>
        <p:blipFill>
          <a:blip r:embed="rId4"/>
          <a:stretch/>
        </p:blipFill>
        <p:spPr>
          <a:xfrm>
            <a:off x="7885080" y="6357960"/>
            <a:ext cx="1236600" cy="490680"/>
          </a:xfrm>
          <a:prstGeom prst="rect">
            <a:avLst/>
          </a:prstGeom>
          <a:ln w="0">
            <a:noFill/>
          </a:ln>
        </p:spPr>
      </p:pic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182520">
              <a:spcBef>
                <a:spcPts val="601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730080" indent="-182520">
              <a:spcBef>
                <a:spcPts val="601"/>
              </a:spcBef>
              <a:buClr>
                <a:srgbClr val="4f81bd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004760" indent="-182520"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187280" indent="-136440"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187280" indent="-136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187280" indent="-136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 type="ftr" idx="18"/>
          </p:nvPr>
        </p:nvSpPr>
        <p:spPr>
          <a:xfrm>
            <a:off x="468000" y="18720"/>
            <a:ext cx="777564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 type="sldNum" idx="19"/>
          </p:nvPr>
        </p:nvSpPr>
        <p:spPr>
          <a:xfrm>
            <a:off x="8316720" y="18720"/>
            <a:ext cx="7189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DF951-CD4D-4FAC-AB0C-E337F32B988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836280"/>
            <a:ext cx="7848720" cy="24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2060"/>
                </a:solidFill>
                <a:latin typeface="Calibri"/>
              </a:rPr>
              <a:t>NOVI ZAKON O PRAVU NA PRISTUP INFORMACIJAMA</a:t>
            </a:r>
            <a:br>
              <a:rPr sz="4400"/>
            </a:br>
            <a:r>
              <a:rPr b="0" lang="hr-HR" sz="3200" spc="-1" strike="noStrike">
                <a:solidFill>
                  <a:srgbClr val="002060"/>
                </a:solidFill>
                <a:latin typeface="Calibri"/>
              </a:rPr>
              <a:t>(NARODNE NOVINE, BR. 25/13)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685440" y="4797360"/>
            <a:ext cx="784692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2060"/>
                </a:solidFill>
                <a:latin typeface="Calibri"/>
              </a:rPr>
              <a:t>Primošten, svibanj 2013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"/>
          <p:cNvSpPr txBox="1"/>
          <p:nvPr/>
        </p:nvSpPr>
        <p:spPr>
          <a:xfrm>
            <a:off x="457200" y="836640"/>
            <a:ext cx="85075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 algn="just">
              <a:spcBef>
                <a:spcPts val="700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redišnji katalog službenih dokumenata RH je na internetu javno dostupan alat koji korisnicima omogućuje trajni pristup dokumentima pohranjenim u bazi elektroničkih dokumenata i/ili fizičkim zbirkam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 algn="just">
              <a:spcBef>
                <a:spcPts val="700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Povjerenik za informiranje je neovisno državno tijelo za zaštitu prava na pristup informacijam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2060"/>
                </a:solidFill>
                <a:latin typeface="Calibri"/>
              </a:rPr>
              <a:t>TIJELA JAVNE VLASTI SU: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457200" y="2133360"/>
            <a:ext cx="8507520" cy="41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 algn="just">
              <a:spcBef>
                <a:spcPts val="700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Državna tijela i tijela državne upra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 algn="just">
              <a:spcBef>
                <a:spcPts val="700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Tijela jedinica lokalne i područne (regionalne) samoupra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 algn="just">
              <a:spcBef>
                <a:spcPts val="700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Pravne osobe s javnim ovlastim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 algn="just">
              <a:spcBef>
                <a:spcPts val="700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Pravne osobe čiji je osnivač RH ili jedinica lokalne i područne (regionalne) samoupra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 algn="just">
              <a:spcBef>
                <a:spcPts val="700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Pravne osobe koje obavljaju javnu služb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"/>
          <p:cNvSpPr txBox="1"/>
          <p:nvPr/>
        </p:nvSpPr>
        <p:spPr>
          <a:xfrm>
            <a:off x="457200" y="764640"/>
            <a:ext cx="850752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 algn="just">
              <a:spcBef>
                <a:spcPts val="700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Pravne osobe koje se u cijelosti financiraju iz državnog proračuna ili iz proračuna jedinica lokalne i područne (regionalne) samoupra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 algn="just">
              <a:spcBef>
                <a:spcPts val="700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Trgovačka društva u kojima RH i jedinice lokalne i područne (regionalne) samouprave imaju zasebno ili zajedno većinsko vlasništv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spcBef>
                <a:spcPts val="499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2060"/>
                </a:solidFill>
                <a:latin typeface="Calibri"/>
              </a:rPr>
              <a:t>NAČELA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457200" y="1844640"/>
            <a:ext cx="85075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 algn="just">
              <a:lnSpc>
                <a:spcPct val="90000"/>
              </a:lnSpc>
              <a:spcBef>
                <a:spcPts val="649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Načelo javnosti i slobodnog pristupa – informacije su dostupne svakoj domaćoj ili stranoj fizičkoj i pravnoj osobi u skladu s uvjetima i ograničenjima iz Zakon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 algn="just">
              <a:lnSpc>
                <a:spcPct val="90000"/>
              </a:lnSpc>
              <a:spcBef>
                <a:spcPts val="649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Načelo pravodobnosti, potpunosti i točnosti informacija – informacije tijela javne vlasti moraju biti pravodobne, potpune i točn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 algn="just">
              <a:lnSpc>
                <a:spcPct val="90000"/>
              </a:lnSpc>
              <a:spcBef>
                <a:spcPts val="649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Načelo jednakosti – pravo na pristup informacijama pripada svim korisnicima na jednak način i pod jednakim uvjetima, a korisnici su ravnopravni u njihovu ostvarivanju. Pojedinim korisnicima informacije se ne smiju pružati prije nego ostalima ili na način da im se posebno pogoduj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90000"/>
              </a:lnSpc>
              <a:spcBef>
                <a:spcPts val="476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 txBox="1"/>
          <p:nvPr/>
        </p:nvSpPr>
        <p:spPr>
          <a:xfrm>
            <a:off x="457200" y="691920"/>
            <a:ext cx="850752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 algn="just">
              <a:spcBef>
                <a:spcPts val="700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Načelo raspolaganja informacijom – korisnik koji raspolaže informacijom ima pravo tu informaciju javno iznosit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spcBef>
                <a:spcPts val="499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2060"/>
                </a:solidFill>
                <a:latin typeface="Calibri"/>
              </a:rPr>
              <a:t>TIJELA JAVNE VLASTI OBVEZNA SU NA INTERNETSKIM STRANICAMA OBJAVITI: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457200" y="2133360"/>
            <a:ext cx="8507520" cy="41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 algn="just">
              <a:lnSpc>
                <a:spcPct val="90000"/>
              </a:lnSpc>
              <a:spcBef>
                <a:spcPts val="700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Zakone i ostale propise koji se odnose na njihovo područje rada, kao i nacrte zakona i drugih propisa te općih akata koje dono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 algn="just">
              <a:lnSpc>
                <a:spcPct val="90000"/>
              </a:lnSpc>
              <a:spcBef>
                <a:spcPts val="700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Opće akte i odluke koje donose kojima se utječe na interese korisni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 algn="just">
              <a:lnSpc>
                <a:spcPct val="90000"/>
              </a:lnSpc>
              <a:spcBef>
                <a:spcPts val="700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Godišnje planove, programe, strategije, upute, izvještaje o radu, financijska izvješć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 algn="just">
              <a:lnSpc>
                <a:spcPct val="90000"/>
              </a:lnSpc>
              <a:spcBef>
                <a:spcPts val="700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Podatke o izvoru financiranja, proračunu i izvršenju proračun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90000"/>
              </a:lnSpc>
              <a:spcBef>
                <a:spcPts val="499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 txBox="1"/>
          <p:nvPr/>
        </p:nvSpPr>
        <p:spPr>
          <a:xfrm>
            <a:off x="457200" y="620640"/>
            <a:ext cx="850752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 algn="just">
              <a:lnSpc>
                <a:spcPct val="90000"/>
              </a:lnSpc>
              <a:spcBef>
                <a:spcPts val="700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Informacije o dodijeljenim potporama i donacijam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 algn="just">
              <a:lnSpc>
                <a:spcPct val="90000"/>
              </a:lnSpc>
              <a:spcBef>
                <a:spcPts val="700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Informacije o svom unutarnjem ustrojstvu, imenima čelnika tijela i voditelja ustrojstvenih jedinica i podacima za kontak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 algn="just">
              <a:lnSpc>
                <a:spcPct val="90000"/>
              </a:lnSpc>
              <a:spcBef>
                <a:spcPts val="700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Zapisnike i zaključke sa službenih sjednica tijela javne vlast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 algn="just">
              <a:lnSpc>
                <a:spcPct val="90000"/>
              </a:lnSpc>
              <a:spcBef>
                <a:spcPts val="700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Informacije o postupcima javne nabave te informacije o izvršavanju ugovor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 algn="just">
              <a:lnSpc>
                <a:spcPct val="90000"/>
              </a:lnSpc>
              <a:spcBef>
                <a:spcPts val="700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Obavijesti o raspisanim natječajima te natječajnu dokumentacij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 algn="just">
              <a:lnSpc>
                <a:spcPct val="90000"/>
              </a:lnSpc>
              <a:spcBef>
                <a:spcPts val="700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Registre i baze podata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 algn="just">
              <a:lnSpc>
                <a:spcPct val="90000"/>
              </a:lnSpc>
              <a:spcBef>
                <a:spcPts val="700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Obavijesti o načinu ostvarivanja prava na pristup informacijam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90000"/>
              </a:lnSpc>
              <a:spcBef>
                <a:spcPts val="499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 txBox="1"/>
          <p:nvPr/>
        </p:nvSpPr>
        <p:spPr>
          <a:xfrm>
            <a:off x="457200" y="620640"/>
            <a:ext cx="850752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 algn="just">
              <a:spcBef>
                <a:spcPts val="700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Visinu naknade za pristup informacijam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 algn="just">
              <a:spcBef>
                <a:spcPts val="700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Najčešće tražene informacij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 algn="just">
              <a:spcBef>
                <a:spcPts val="700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Ostale informacije (vijesti, priopćenja za javnost, podaci o drugim aktivnostim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spcBef>
                <a:spcPts val="499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2060"/>
                </a:solidFill>
                <a:latin typeface="Calibri"/>
              </a:rPr>
              <a:t>OBJAVA U SREDIŠNJEM KATALOGU SLUŽBENIH DOKUMENATA RH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457200" y="2133360"/>
            <a:ext cx="8507520" cy="41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 algn="just">
              <a:spcBef>
                <a:spcPts val="700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Tijela javne vlasti dužna su dostaviti u Središnji katalog službenih dokumenata RH: opće akte i odluke koje donose, kojima se utječe na interese korisnika, s razlozima za njihovo donošenje; nacrte zakona i drugih propisa te općih akata koje donose u svrhu savjetovanja s javnošću; te godišnje planove, programe, strategije, upute, izvještaje o radu, financijska izvješća i druge odgovarajuće dokumente koji se odnose na područje rada tijela javne vlast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spcBef>
                <a:spcPts val="499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 txBox="1"/>
          <p:nvPr/>
        </p:nvSpPr>
        <p:spPr>
          <a:xfrm>
            <a:off x="457200" y="620640"/>
            <a:ext cx="850752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 algn="just">
              <a:spcBef>
                <a:spcPts val="700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Tijelo javne vlasti u čijoj je nadležnosti donošenje zakonskih i podzakonskih propisa i dokumenata dužno je u Središnji katalog službenih dokumenata RH dostaviti zakone i ostale propise koji se odnose na njihovo područje rad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 algn="just">
              <a:spcBef>
                <a:spcPts val="700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Poslove vođenja i održavanja Središnjeg kataloga službenih dokumenata RH obavlja Hrvatska informacijsko-dokumentacijska referalna agencija (HIDR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spcBef>
                <a:spcPts val="499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2060"/>
                </a:solidFill>
                <a:latin typeface="Calibri"/>
              </a:rPr>
              <a:t>RAZLOZI ZA DONOŠENJE ZAKONA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457200" y="2133360"/>
            <a:ext cx="8507520" cy="41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 algn="just">
              <a:spcBef>
                <a:spcPts val="700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loboda informiranja, a time i dostupnost informacija kojima raspolažu tijela javne vlasti jedno je od temeljnih ljudskih prav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 algn="just">
              <a:spcBef>
                <a:spcPts val="700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Pravo na pristup informacijama zajamčeno je Ustavom Republike Hrvatske kao jedno od temeljnih osobnih i političkih sloboda i prav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 algn="just">
              <a:spcBef>
                <a:spcPts val="700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U čl. 38. st. 4. Ustava RH svakome se jamči pravo na pristup informacijama koje posjeduju tijela javne vlast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 algn="just">
              <a:spcBef>
                <a:spcPts val="700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spcBef>
                <a:spcPts val="499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2060"/>
                </a:solidFill>
                <a:latin typeface="Calibri"/>
              </a:rPr>
              <a:t>OBJAVLJIVANJE DOKUMENATA U SVRHU SAVJETOVANJA S JAVNOŠĆU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457200" y="2133360"/>
            <a:ext cx="8507520" cy="41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 algn="just">
              <a:spcBef>
                <a:spcPts val="700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Tijela javne vlasti nadležna za izradu nacrta zakona i podzakonskih akata dužna su na svojim internetskim stranicama objaviti: godišnji plan normativnih aktivnosti i plan savjetovanja o nacrtima zakona i drugih propis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 algn="just">
              <a:spcBef>
                <a:spcPts val="700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Javno savjetovanje sa zainteresiranom javnosti traje u pravilu 30 da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 algn="just">
              <a:spcBef>
                <a:spcPts val="700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Kod objave nacrta zakona i podzakonskih akata moraju se objaviti i razlozi za donošenje propisa i ciljevi koji se žele postići savjetovanj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spcBef>
                <a:spcPts val="499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 txBox="1"/>
          <p:nvPr/>
        </p:nvSpPr>
        <p:spPr>
          <a:xfrm>
            <a:off x="457200" y="691920"/>
            <a:ext cx="850752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 algn="just">
              <a:spcBef>
                <a:spcPts val="700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Nakon provedenog savjetovanja tijela javne vlasti dužna su o prihvaćenim i neprihvaćenim primjedbama i prijedlozima obavijestiti zainteresiranu javnost. Na internetskoj stranici trebaju objaviti izvješće o provedenom savjetovanju i to izvješće dostaviti Vladi R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spcBef>
                <a:spcPts val="700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2060"/>
                </a:solidFill>
                <a:latin typeface="Calibri"/>
              </a:rPr>
              <a:t>SAVJETOVANJE S JAVNOŠĆU JEDINICA LOKALNE I PODRUČNE (REGIONALNE) SAMOUPRAVE (JLP(R) S)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457200" y="2636640"/>
            <a:ext cx="850752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 algn="just">
              <a:spcBef>
                <a:spcPts val="700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Prilikom donošenja općih akata jlp(r)s kojima se neposredno ostvaruju potrebe građana i pravnih osoba na njihovu području (uređenje naselja i stanovanja, prostorno planiranje, komunalna djelatnost i druge javne službe, zaštita okoliša i dr.) jlp(r)s duže su nacrte navedenih dokumenata objaviti na svojim internetskim stranicama radi savjetovanja s javnošću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 txBox="1"/>
          <p:nvPr/>
        </p:nvSpPr>
        <p:spPr>
          <a:xfrm>
            <a:off x="457200" y="620640"/>
            <a:ext cx="850752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 algn="just">
              <a:spcBef>
                <a:spcPts val="700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avjetovanje u pravilu traje 30 dana, a nakon toga se o prihvaćenim i neprihvaćenim primjedbama i prijedlozima treba obavijestiti zainteresirana javno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 algn="just">
              <a:spcBef>
                <a:spcPts val="700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Obvezu savjetovanja sa javnošću imaju i pravne osobe s javnim ovlastima kad donose opće akte kojima se neposredno ostvaruju potrebe građana ili druga pitanja od interesa za opću dobrobit građana i pravnih osob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2060"/>
                </a:solidFill>
                <a:latin typeface="Calibri"/>
              </a:rPr>
              <a:t>JAVNOST RADA – TIJELA JAVNE VLASTI DUŽNA SU JAVNOST INFORMIRATI O: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457200" y="2133360"/>
            <a:ext cx="8507520" cy="41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 algn="just">
              <a:spcBef>
                <a:spcPts val="700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Dnevnom redu zasjedanja ili sjednica službenih tijela i vremenu njihova održavanj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 algn="just">
              <a:spcBef>
                <a:spcPts val="700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Broju osoba kojima se može istodobno osigurati neposredan uvid u rad tijela javne vlasti pri čemu se mora voditi računa o redoslijedu prijavljivanj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 algn="just">
              <a:spcBef>
                <a:spcPts val="700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Neposredan uvid u rad ne mora se osigurati kad se radi o pitanjima u kojima se javnost mora isključiti ili se radi o informacijama za koje postoji ograničenje prava na pristu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spcBef>
                <a:spcPts val="499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2060"/>
                </a:solidFill>
                <a:latin typeface="Calibri"/>
              </a:rPr>
              <a:t>SLUŽBENIK ZA INFORMIRANJE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457200" y="2133360"/>
            <a:ext cx="8507520" cy="41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 algn="just">
              <a:spcBef>
                <a:spcPts val="700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Tijelo javne vlasti obvezno je odlukom imenovati službenika za informiranje te upoznati javnost sa službenim podacima službeni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 algn="just">
              <a:spcBef>
                <a:spcPts val="700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O imenovanju službenika za informiranje mora se izvijestiti Povjerenik za informiranje u roku od mjesec da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 algn="just">
              <a:spcBef>
                <a:spcPts val="700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Povjerenik vodi Registar službenika za informiranj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spcBef>
                <a:spcPts val="499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2060"/>
                </a:solidFill>
                <a:latin typeface="Calibri"/>
              </a:rPr>
              <a:t>POSLOVI SLUŽBENIKA ZA INFORMIRANJE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457200" y="2133360"/>
            <a:ext cx="8507520" cy="41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 algn="just">
              <a:spcBef>
                <a:spcPts val="700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Obavlja poslove redovitog objavljivanja informacija i rješava pojedinačne zahtjeve za pristup informacijam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 algn="just">
              <a:spcBef>
                <a:spcPts val="700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Unapređuje način rada u vezi s pravom na pristup informacijam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 algn="just">
              <a:spcBef>
                <a:spcPts val="700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Osigurava neophodnu pomoć podnositeljima zahtjeva u vezi s ostvarivanjem prava na pristup informacijam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spcBef>
                <a:spcPts val="499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2060"/>
                </a:solidFill>
                <a:latin typeface="Calibri"/>
              </a:rPr>
              <a:t>OGRANIČENJE PRAVA NA PRISTUP INFORMACIJAMA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457200" y="2133360"/>
            <a:ext cx="8507520" cy="41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 algn="just">
              <a:spcBef>
                <a:spcPts val="700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Apsolutna ograničenja – kad će tijelo javne vlasti ograničiti pristup informacijam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 algn="just">
              <a:spcBef>
                <a:spcPts val="700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Relativna ograničenja – kad tijelo javne vlasti može ograničiti pristup informacijam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2060"/>
                </a:solidFill>
                <a:latin typeface="Calibri"/>
              </a:rPr>
              <a:t>TIJELA JAVNE VLASTI OGRANIČIT ĆE PRISTUP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457200" y="2133360"/>
            <a:ext cx="8507520" cy="41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 algn="just">
              <a:spcBef>
                <a:spcPts val="649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Onim informacijama koje se tiču svih postupaka koje vode nadležna tijela u predistražnim i istražnim radnjama za vrijeme trajanja tih postupak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 algn="just">
              <a:spcBef>
                <a:spcPts val="649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istražni i istražni postupak su faze kaznenog postupk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 algn="just">
              <a:spcBef>
                <a:spcPts val="649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Tajnost istrage propisana je odredbama Zakona o kaznenom postupku (čl. 231.). Međutim, kad za to postoji interes javnosti ili drugi opravdani razlozi, a nije u suprotnosti s interesima istrage, tijelo koje vodi istragu može odlučiti da određena dokazna radnja ili dio dokazne radnje nisu tajn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2060"/>
                </a:solidFill>
                <a:latin typeface="Calibri"/>
              </a:rPr>
              <a:t>TIJELA JAVNE VLASTI MOGU OGRANIČITI PRISTUP INFORMACIJI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457200" y="2133360"/>
            <a:ext cx="8507520" cy="41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 algn="just">
              <a:lnSpc>
                <a:spcPct val="90000"/>
              </a:lnSpc>
              <a:spcBef>
                <a:spcPts val="700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Ako je informacija klasificirana stupnjem tajnosti po zakonu kojim se uređuje tajnost podatak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 algn="just">
              <a:lnSpc>
                <a:spcPct val="90000"/>
              </a:lnSpc>
              <a:spcBef>
                <a:spcPts val="700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Ako je informacija poslovna ili profesionalna taj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 algn="just">
              <a:lnSpc>
                <a:spcPct val="90000"/>
              </a:lnSpc>
              <a:spcBef>
                <a:spcPts val="700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Ako je informacija porezna taj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 algn="just">
              <a:lnSpc>
                <a:spcPct val="90000"/>
              </a:lnSpc>
              <a:spcBef>
                <a:spcPts val="700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Ako je informacija iz područja zaštite osobnih podata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 algn="just">
              <a:lnSpc>
                <a:spcPct val="90000"/>
              </a:lnSpc>
              <a:spcBef>
                <a:spcPts val="700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Ako je informacija u postupku izrade unutar tijela javne vlasti, a njeno bi objavljivanje prije donošenja izrade cjelovite i konačne informacije moglo ozbiljno narušiti proces donošenja odluk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457200" y="836640"/>
            <a:ext cx="85075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 algn="just">
              <a:spcBef>
                <a:spcPts val="700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Ograničenja toga prava moraju biti razmjerna naravi potrebe za ograničenjem u svakom pojedinom slučaju te nužna u slobodnom i demokratskom društv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 algn="just">
              <a:spcBef>
                <a:spcPts val="700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Ograničenja prava na pristup informacijama propisuju se zakon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 algn="just">
              <a:spcBef>
                <a:spcPts val="700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Pravo na pristup informacijama propisuju i Europska konvencija o ljudskim pravima i temeljnim slobodama, Konvencija o pristupu informacijama, sudjelovanju javnosti u odlučivanju i pristupu pravosuđu u pitanjima okoliša, te međunarodni ugovor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spcBef>
                <a:spcPts val="499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 txBox="1"/>
          <p:nvPr/>
        </p:nvSpPr>
        <p:spPr>
          <a:xfrm>
            <a:off x="457200" y="691920"/>
            <a:ext cx="850752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 algn="just">
              <a:spcBef>
                <a:spcPts val="700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Ako je pristup informaciji ograničen sukladno međunarodnim ugovorim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 algn="just">
              <a:spcBef>
                <a:spcPts val="700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U ostalim slučajevima utvrđenim zakon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2060"/>
                </a:solidFill>
                <a:latin typeface="Calibri"/>
              </a:rPr>
              <a:t>TEST RAZMJERNOSTI I JAVNOG INTERESA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457200" y="2133360"/>
            <a:ext cx="8507520" cy="41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 algn="just">
              <a:spcBef>
                <a:spcPts val="700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Tijelo javne vlasti je u svim naprijed navedenim slučajevima, osim ako je informacija klasificirana stupnjem tajnosti, dužno, prije donošenja odluke, provesti test razmjernosti i javnog interes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 algn="just">
              <a:spcBef>
                <a:spcPts val="700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Vlasnik informacije klasificirane stupnjem tajnosti, dužan je prije donošenja odluke, provesti test razmjernosti i javnog interesa, ali po prethodno pribavljenom mišljenju Ureda vijeća za nacionalnu sigurno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2060"/>
                </a:solidFill>
                <a:latin typeface="Calibri"/>
              </a:rPr>
              <a:t>TIJELA JAVNE VLASTI MOGU OGRANIČITI PRISTUP INFORMACIJI AKO POSTOJE OSNOVE SUMNJE DA BI NJEZINO OBJAVLJIVANJE: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457200" y="2491920"/>
            <a:ext cx="850752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 algn="just">
              <a:spcBef>
                <a:spcPts val="700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Onemogućilo učinkovito, neovisno i nepristrano vođenje sudskog, upravnog ili drugog pravno uređenog postupka, izvršenje sudske odluke ili kaz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 algn="just">
              <a:spcBef>
                <a:spcPts val="700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Onemogućilo rad tijela koja obavljaju upravni nadzor, inspekcijski nadzor, odnosno nadzor zakonitost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 algn="just">
              <a:spcBef>
                <a:spcPts val="700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Povrijedilo pravo intelektualnog vlasništv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 algn="just">
              <a:spcBef>
                <a:spcPts val="700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I u naprijed navedenim slučajevima tijelo javne vlasti dužno je provesti test razmjernosti i javnog interes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"/>
          <p:cNvSpPr txBox="1"/>
          <p:nvPr/>
        </p:nvSpPr>
        <p:spPr>
          <a:xfrm>
            <a:off x="457200" y="836640"/>
            <a:ext cx="85075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 algn="just">
              <a:spcBef>
                <a:spcPts val="700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Kod provođenja testa razmjernosti i javnog interesa tijelo javne vlasti procjenjuje da li prevladava potreba zaštite prava na ograničenje ili javni interes. Ako prevladava javni interes u odnosu na štetu po zaštićene interese, informacija će se učiniti dostupn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2060"/>
                </a:solidFill>
                <a:latin typeface="Calibri"/>
              </a:rPr>
              <a:t>NAČINI OSTVARIVANJA PRAVA </a:t>
            </a:r>
            <a:br>
              <a:rPr sz="3600"/>
            </a:br>
            <a:r>
              <a:rPr b="0" lang="hr-HR" sz="3600" spc="-1" strike="noStrike">
                <a:solidFill>
                  <a:srgbClr val="002060"/>
                </a:solidFill>
                <a:latin typeface="Calibri"/>
              </a:rPr>
              <a:t>NA PRISTUP INFORMACIJAMA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457200" y="2491920"/>
            <a:ext cx="850752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 algn="just">
              <a:spcBef>
                <a:spcPts val="700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Pravodobnim objavljivanjem informacija na  internetskim stranicama tijela javne vlasti ili u javnom glasilu i Središnjem katalogu službenih dokumenata R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 algn="just">
              <a:spcBef>
                <a:spcPts val="700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Davanjem informacija korisniku koji je podnio zahtje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 algn="just">
              <a:spcBef>
                <a:spcPts val="700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Zahtjev se podnosi usmenim ili pisanim pu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 algn="just">
              <a:spcBef>
                <a:spcPts val="700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Na temelju zahtjeva za pristup informaciji tijelo javne vlasti će odlučiti najkasnije u roku od 15 dana od dana podnošenja urednog zahtjev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2060"/>
                </a:solidFill>
                <a:latin typeface="Calibri"/>
              </a:rPr>
              <a:t>PRODUŽENJE ROKOVA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spcBef>
                <a:spcPts val="601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2060"/>
                </a:solidFill>
                <a:latin typeface="Calibri"/>
              </a:rPr>
              <a:t>Rokovi se mogu produžiti za 15 dan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spcBef>
                <a:spcPts val="601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spcBef>
                <a:spcPts val="601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2060"/>
                </a:solidFill>
                <a:latin typeface="Calibri"/>
              </a:rPr>
              <a:t>ako se informacija traži izvan sjedišta tijela javne vlasti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spcBef>
                <a:spcPts val="601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2060"/>
                </a:solidFill>
                <a:latin typeface="Calibri"/>
              </a:rPr>
              <a:t>ako se jednim zahtjevom traži veći broj različitih informacija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spcBef>
                <a:spcPts val="601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2060"/>
                </a:solidFill>
                <a:latin typeface="Calibri"/>
              </a:rPr>
              <a:t>ako je to nužno da bi se osigurala potpunost i točnost tražene informacije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spcBef>
                <a:spcPts val="601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2060"/>
                </a:solidFill>
                <a:latin typeface="Calibri"/>
              </a:rPr>
              <a:t>ako je tijelo javne vlasti dužno provesti test razmjernosti i javnog interes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spcBef>
                <a:spcPts val="601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2060"/>
                </a:solidFill>
                <a:latin typeface="Calibri"/>
              </a:rPr>
              <a:t>RJEŠAVANJE O ZAHTJEVU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2060"/>
                </a:solidFill>
                <a:latin typeface="Calibri"/>
              </a:rPr>
              <a:t>Tijelo javne vlasti ne donosi  rješenje o zahtjevu kad korisniku omogućuje pristup traženoj informaciji, kad je korisnik informaciju već dobio unutar roka od 90 dana, kad obavještava korisnika da je informacija javno objavljena i sl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2060"/>
                </a:solidFill>
                <a:latin typeface="Calibri"/>
              </a:rPr>
              <a:t>Tijelo javne vlasti rješenjem će odbaciti zahtjev ako ne posjeduje informaciju te nema saznanja gdje se informacija nalazi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2060"/>
                </a:solidFill>
                <a:latin typeface="Calibri"/>
              </a:rPr>
              <a:t>Tijelo javne vlasti donosi rješenje kad korisniku omogućuje pristup traženoj informaciji uz provođenje testa razmjernosti i javnog interes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2060"/>
                </a:solidFill>
                <a:latin typeface="Calibri"/>
              </a:rPr>
              <a:t>U ostalim slučajevima tijelo javne vlasti rješenjem će odbiti zahtjev (ako se traži informacija koja se ne smatra informacijom i sl.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2060"/>
                </a:solidFill>
                <a:latin typeface="Calibri"/>
              </a:rPr>
              <a:t>ŽALBA I UPRAVNI SPOR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spcBef>
                <a:spcPts val="601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spcBef>
                <a:spcPts val="601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2060"/>
                </a:solidFill>
                <a:latin typeface="Calibri"/>
              </a:rPr>
              <a:t>Protiv rješenja tijela javne vlasti može se izjaviti žalba Povjereniku za informiran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spcBef>
                <a:spcPts val="601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2060"/>
                </a:solidFill>
                <a:latin typeface="Calibri"/>
              </a:rPr>
              <a:t>Povjerenik je dužan rješenje o žalbi donijeti i dostaviti stranki u roku od 30 dana od dana predaje uredne žalb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spcBef>
                <a:spcPts val="601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2060"/>
                </a:solidFill>
                <a:latin typeface="Calibri"/>
              </a:rPr>
              <a:t>Protiv rješenja Povjerenika žalba nije dopuštena ali se tužbom može pokrenuti upravni spor pred Visokim upravnim sudom R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spcBef>
                <a:spcPts val="601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2060"/>
                </a:solidFill>
                <a:latin typeface="Calibri"/>
              </a:rPr>
              <a:t>Visoki upravni sud RH o tužbi mora donijeti odluku u roku od 90 da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spcBef>
                <a:spcPts val="601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2060"/>
                </a:solidFill>
                <a:latin typeface="Calibri"/>
              </a:rPr>
              <a:t>PONOVNA UPORABA INFORMACIJA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2060"/>
                </a:solidFill>
                <a:latin typeface="Calibri"/>
              </a:rPr>
              <a:t>Svaki korisnik ima pravo na ponovnu uporabu informacija u komercijalne ili nekomercijalne svrh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spcBef>
                <a:spcPts val="601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2060"/>
                </a:solidFill>
                <a:latin typeface="Calibri"/>
              </a:rPr>
              <a:t>Tijelo javne vlasti odlučit će o zahtjevu za ponovnu uporabu informacija u roku od 15 dana od dana podnošenja urednog zahtje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spcBef>
                <a:spcPts val="601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2060"/>
                </a:solidFill>
                <a:latin typeface="Calibri"/>
              </a:rPr>
              <a:t>Tijelo javne vlasti ne donosi rješenje o zahtjevu kad omogućuje ponovnu uporabu informaci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spcBef>
                <a:spcPts val="601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2060"/>
                </a:solidFill>
                <a:latin typeface="Calibri"/>
              </a:rPr>
              <a:t>Tijelo javne vlasti ne naplaćuje naknadu za ponovnu uporabu informacija ako iste informacije objavljuje besplatno putem interne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spcBef>
                <a:spcPts val="601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2060"/>
                </a:solidFill>
                <a:latin typeface="Calibri"/>
              </a:rPr>
              <a:t>Uvjeti za ponovnu uporabu informacija ne smiju biti diskriminirajući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spcBef>
                <a:spcPts val="601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2060"/>
                </a:solidFill>
                <a:latin typeface="Calibri"/>
              </a:rPr>
              <a:t>POVJERENIK ZA INFORMIRANJE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spcBef>
                <a:spcPts val="601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2060"/>
                </a:solidFill>
                <a:latin typeface="Calibri"/>
              </a:rPr>
              <a:t>Povjerenika za informiranje bira Hrvatski sabor na vrijeme od pet godina uz mogućnost ponovnog izbor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spcBef>
                <a:spcPts val="601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2060"/>
                </a:solidFill>
                <a:latin typeface="Calibri"/>
              </a:rPr>
              <a:t>Povjerenik obavlja poslove drugostupanjskog tijela u rješavanju žalbi, provodi inspekcijski nadzor nad primjenom Zakona o pravu na pristup informacijama, predlaže mjere za stručno osposobljavanje i usavršavanje službenika za informiranje u tijelima javne vlasti, podnosi Hrvatskom saboru izvješće o provedbi zakona, podnosi optužni prijedlog i izdaje prekršajni nalog za utvrđene prekršaje, te obavlja i druge poslove predviđene Zakonom o pravu na pristup informacija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 txBox="1"/>
          <p:nvPr/>
        </p:nvSpPr>
        <p:spPr>
          <a:xfrm>
            <a:off x="457200" y="836640"/>
            <a:ext cx="85075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 algn="just">
              <a:spcBef>
                <a:spcPts val="700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Novi Zakon o pravu na pristup informacijama u skladu je i s aktima Europske unije: Direktivom 2003/98/EZ Europskog parlamenta i Vijeća o ponovnoj uporabi informacija javnog sektora i Uredbom 1049/2001 Europskog parlamenta i Vijeća o javnom pristupu dokumentima Europskog parlamenta, Vijeća i Komisij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spcBef>
                <a:spcPts val="499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2060"/>
                </a:solidFill>
                <a:latin typeface="Calibri"/>
              </a:rPr>
              <a:t>IZVJEŠĆIVANJE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spcBef>
                <a:spcPts val="601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spcBef>
                <a:spcPts val="601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2060"/>
                </a:solidFill>
                <a:latin typeface="Calibri"/>
              </a:rPr>
              <a:t>Tijela javne vlasti dužna su Povjereniku za informiranje dostaviti izvješće o provedbi Zakona o pravu na pristup informacijama za prethodnu godinu najkasnije do 31. siječnja tekuće godine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spcBef>
                <a:spcPts val="601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2060"/>
                </a:solidFill>
                <a:latin typeface="Calibri"/>
              </a:rPr>
              <a:t>Izvješće sadrži podatke o nizu informacija (23) od kojih su najvažnije: o broju usvojenih odnosno odbijenih zahtjeva, o broju odbačenih odnosno ustupljenih zahtjeva, o broju riješenih odnosno neriješenih zahtjeva, o broju izjavljenih žalbi, usvojenih, odbijenih odnosno odbačenih žalbi, te o broju podnesenih tužb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2060"/>
                </a:solidFill>
                <a:latin typeface="Calibri"/>
              </a:rPr>
              <a:t>DONOŠENJE PODZAKONSKIH PROPISA I OBVEZE TIJELA JAVNE VLASTI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spcBef>
                <a:spcPts val="601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2060"/>
                </a:solidFill>
                <a:latin typeface="Calibri"/>
              </a:rPr>
              <a:t>Ministar nadležan za poslove opće uprave donijet će do 7. lipnja 2013. Pravilnik o načinu ustrojavanja i vođenja Središnjeg kataloga službenih dokumenata RH, Pravilnik o ustroju, sadržaju i načinu vođenja službenog upisnika o zahtjevima, postupcima, i odlukama o ostvarivanju prava na pristup informacijama i ponovnu uporabu informacija, te Pravilnik o ponovnoj uporabi informaci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spcBef>
                <a:spcPts val="601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2060"/>
                </a:solidFill>
                <a:latin typeface="Calibri"/>
              </a:rPr>
              <a:t>Tijela javne vlasti osigurat će organizacijske, materijalne, tehničke i druge uvjete za provođenje odredbi Zakona o pravu na pristup informacijama do 7. lipnja 2013. godin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spcBef>
                <a:spcPts val="601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40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2060"/>
                </a:solidFill>
                <a:latin typeface="Calibri"/>
              </a:rPr>
              <a:t>ZAKON O PRAVU NA PRISTUP INFORMACIJAMA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457200" y="2133360"/>
            <a:ext cx="8507520" cy="41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 algn="just">
              <a:lnSpc>
                <a:spcPct val="90000"/>
              </a:lnSpc>
              <a:spcBef>
                <a:spcPts val="700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tupio na snagu 8. ožujka 2013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 algn="just">
              <a:lnSpc>
                <a:spcPct val="90000"/>
              </a:lnSpc>
              <a:spcBef>
                <a:spcPts val="700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Njegovim stupanjem na snagu prestao je važiti stari Zakon o pravu na pristup informacijama (Nar. novine, br. 172/03 – 77/1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 algn="just">
              <a:lnSpc>
                <a:spcPct val="90000"/>
              </a:lnSpc>
              <a:spcBef>
                <a:spcPts val="700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Zakonom je jasno definiran pojam tijela javne vlast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 algn="just">
              <a:lnSpc>
                <a:spcPct val="90000"/>
              </a:lnSpc>
              <a:spcBef>
                <a:spcPts val="700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Ukida se katalog informacija, ali se uvodi Središnji katalog službenih dokumenata R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 algn="just">
              <a:lnSpc>
                <a:spcPct val="90000"/>
              </a:lnSpc>
              <a:spcBef>
                <a:spcPts val="700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Umjesto  Agencije za zaštitu osobnih podataka uvodi se Povjerenik za informiranj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90000"/>
              </a:lnSpc>
              <a:spcBef>
                <a:spcPts val="499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"/>
          <p:cNvSpPr txBox="1"/>
          <p:nvPr/>
        </p:nvSpPr>
        <p:spPr>
          <a:xfrm>
            <a:off x="457200" y="836640"/>
            <a:ext cx="85075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 algn="just">
              <a:spcBef>
                <a:spcPts val="700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Uvodi se pravo na ponovnu uporabu informacija u komercijalne ili nekomercijalne svrh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spcBef>
                <a:spcPts val="700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2060"/>
                </a:solidFill>
                <a:latin typeface="Calibri"/>
              </a:rPr>
              <a:t>TEMELJNI POJMOVI I NJIHOVO ZNAČENJE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457200" y="2133360"/>
            <a:ext cx="8507520" cy="41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 algn="just">
              <a:spcBef>
                <a:spcPts val="700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Korisnik prava na pristup informacijama i ponovnu uporabu informacije je svaka domaća ili strana fizička i pravna osob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 algn="just">
              <a:spcBef>
                <a:spcPts val="700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Informacija je svaki podatak koji posjeduje tijelo javne vlasti u obliku dokumenta, zapisa, dosjea, registra ili u bilo kojem drugom obliku, neovisno o načinu na koji je prikazana (napisani, nacrtani, tiskani, snimljeni, magnetni, optički, elektronički ili neki drugi zapi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 txBox="1"/>
          <p:nvPr/>
        </p:nvSpPr>
        <p:spPr>
          <a:xfrm>
            <a:off x="457200" y="836640"/>
            <a:ext cx="85075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 algn="just">
              <a:spcBef>
                <a:spcPts val="700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Međunarodna informacija je ona informacija koju je Republici Hrvatskoj ustupila strana država ili međunarodna organizacija s kojom RH surađuje ili joj je čl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 algn="just">
              <a:spcBef>
                <a:spcPts val="700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Pravo na pristup informacijama obuhvaća pravo korisnika na traženje i dobivanje informacije kao i obvezu tijela javne vlasti da omogući pristup zatraženoj informaciji, odnosno da objavljuje informacije neovisno o postavljenom zahtjevu kada takvo objavljivanje proizlazi iz obveze određene zakonom ili drugim propis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 txBox="1"/>
          <p:nvPr/>
        </p:nvSpPr>
        <p:spPr>
          <a:xfrm>
            <a:off x="457200" y="836640"/>
            <a:ext cx="85075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 algn="just">
              <a:spcBef>
                <a:spcPts val="700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Ponovna uporaba znači uporabu informacija tijela javne vlasti od strane fizičkih ili pravnih osoba, u komercijalne ili nekomercijalne svrhe drukčije od izvorne svrhe u okviru javnog posla za koji su te informacije izrađe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 algn="just">
              <a:spcBef>
                <a:spcPts val="700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Test razmjernosti i javnog interesa je procjena razmjernosti između razloga za omogućavanje pristupa informaciji i razloga za ograničenje te omogućavanje pristupa informaciji ako prevladava javni inte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 algn="just">
              <a:spcBef>
                <a:spcPts val="700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Vlasnik informacije je nadležno tijelo javne vlasti RH ili strane države ili međunarodna organizacija, u okviru čijeg djelovanja je informacija nastal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9T13:04:13Z</dcterms:created>
  <dc:creator>xxx</dc:creator>
  <dc:description/>
  <dc:language>en-US</dc:language>
  <cp:lastModifiedBy>toni</cp:lastModifiedBy>
  <cp:lastPrinted>2013-05-15T08:33:02Z</cp:lastPrinted>
  <dcterms:modified xsi:type="dcterms:W3CDTF">2013-05-23T09:29:44Z</dcterms:modified>
  <cp:revision>61</cp:revision>
  <dc:subject/>
  <dc:title>Slide 1</dc:title>
</cp:coreProperties>
</file>