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6919913" cy="10047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C0464-00AA-4F5A-A0A9-9BB30CE01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5D794-4933-49F1-B06D-26279101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5AA38F-A0D2-4943-87C0-A935D671FBB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006860-D139-47A4-8B02-D373FC2AEC0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7F05B8-E4B7-441E-9C65-04C936B8CEE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03E28F-B891-40FE-AA4B-E501D65A3C2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51C9DA-AFF5-4F22-AF5B-7A2CCD7ADE4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344AA4-BEBB-4BC3-8A94-8D24EEB24C7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2FD6E7-8B9A-4822-BA23-FDD5EAB061E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9C96ED-13AB-4E79-A47B-0DABCEAF3A7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34E820-5931-496B-BA23-B70B2D3F6C1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9495D-B238-4FE4-AC0E-E05E2D4D6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68BA7-C1E2-4877-A543-4C9ACFC86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87420-C297-413C-9755-944A631E9E2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09E94-6DCF-47D5-912D-BA35891AA7B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A9E40-F58C-482B-89A2-5B84DF03001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A4C7E-C682-4155-88B1-8CD38C76DF3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56A17-11F1-4947-9F4F-463249D5F37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B96D5-7960-4DA9-B504-E613731BB9C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0B514-04DD-4A58-9E45-09C04A5A2FE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392CD-68A4-4B9F-946A-4E9AB800C70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C1C8C-0DC3-4091-B05D-8CF05261673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B8B08-804F-4E9B-98A0-66C39C0A7C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F79AB-5B00-4035-9A02-642E649D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45F75-F8F3-479C-B6EF-9FB7F294FB8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8EF481-DEA0-40ED-BBFD-0BCAC0B3F9C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339C35-72AD-442C-95B7-85CCFFA5A40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B2B7CC-4ED8-40DD-8908-01ED8D639C0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E7AB32-5F8E-4D82-B0AC-985E746EBAC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A8934A-8A3C-4E95-B887-1473EF12765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92736E-C043-4651-AF6A-3B3E97883CC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BA0470-78C3-4F26-AE38-3E85411768E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6AEBF2-949B-42F6-BF10-6A7DC6DE385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D04164-0699-43B4-ABE4-08647D3197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40DF6-66BE-4526-9EFA-94F317D79F0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AD1428-9891-4FD1-9AF5-D5E221000E6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748003-F123-4F34-BED9-4D54B3C5EEA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BC26ED-94EA-44D1-B79B-39396B75E4B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D3B431-87EE-439C-B64F-13DB54FF2D3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87AC65-9B40-4B76-A784-EECAD365830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643984-2201-40CA-8D20-E1C60AF174D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C145C3-AD32-494F-8F1F-B12D0CF7D60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5658A1-8309-450D-8E0E-C6583E05B5B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22472E-EA0E-4FA5-AE1B-871CEECE9F8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636825-4064-44D8-8AD8-E59005032D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0C78D-AAF8-464F-BA92-48484E205C4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D955C7-A7D0-4ED7-86E4-7DBEC3D8FF8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705D81-97BF-4CE8-88A2-8F933573EBD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43213A-04BB-479A-87DF-64C870E2D34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A8315E-FA7D-4686-B4FB-EA6C0DDF52B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71A87C-5CBD-41DA-8033-E72AE125278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4E42FD-300D-4EC6-8B00-9DFD80877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77C77B-B510-46AB-A1B1-8587964E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B5CC1D-A2C4-4F7B-84AB-B25EAEDF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1FA162-BA70-4EC3-A2F0-844EC94C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18C678-791F-4DC2-9B9F-F7E3C161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83D3F-DC59-4250-9049-1A126A09902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CF99AC-E620-459D-A391-C27E1FEE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A64E2F-5ACA-45BB-A2BE-45B6BD94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A30EE3-2EA8-4A0C-8761-D6F77708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DDD905-DE25-4019-A8B5-15DA61C6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F3F2AE-0987-493F-BA76-7A9D3D88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DD9017-C7E7-4D2A-89D9-207198A4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AF967E-7F9C-4BB8-9181-8C3ADB11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341D9-CC7B-456B-BE52-E846D21113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917E9-A5C9-44C0-B219-140E53BE38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528BE-C4A0-4A28-93EF-2D30BD62C4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D375C-6885-48EA-B868-BD2F7C9A7C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7A128-B829-430C-8BD6-91B52110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E253B-1AC2-4FDF-956C-140C00F067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B7B6C-A8D0-463F-9FDC-54B840BF97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5678D-A9CC-4CA1-B1F4-4C0DB8090A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5673E-2D8E-48D7-A9EF-A65655B808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71D7D-7826-4E59-AD06-A3A41A1BA15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D5E5ED-1EFA-473A-9C19-4DFAB55E94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8C2904-2D80-446D-9644-D2906EDFCBF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0E79FB-08C4-40E2-A00D-BBA48144F16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BB6B69-BDCA-4263-B4A5-38339CC9A7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D2B9A4-777C-432A-A15C-2B1B80F373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CDBBC-B5B9-4A2A-BEF6-7D1443DA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C808F2-30DE-4DAA-B2E2-79115FDA12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237AE9-8995-4D28-99D9-86318FA73E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DDF549-D65B-451E-9B60-B339E2F30C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667D03-E10C-40E5-A062-C3080D6710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72E050-573A-4A75-80C2-A3BEE2E9600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FA151C-C31C-40A2-A0C3-232019FB2B1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2E5EC3-5867-4D74-827A-B11882283B3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D4D54-261D-40A2-9FF5-0468B4BF2F6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74E71-5AC0-42A9-A49A-C5FC1DD2B5E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5B16B-7F43-4C17-B821-73D5F3670E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1E415-82D9-42CC-81E2-7491436F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6BFCB-620B-4CB2-AADE-C618AAF3A9B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51958-A45B-4EFB-BB52-F6EBEA15BCB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3AF3B-1A52-4AB1-B029-945DF6EA79E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8BC9F-4A86-4AD9-BD17-2D00FF3F880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DB07E-7A16-4631-AFB3-E5FC5DEAEFD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E8615-F897-4F03-A979-8F268EB0D35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B16B2-84F4-4110-8317-E069C7EE760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AA2C8-8B0A-4AFA-86EC-BA55163561F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D0459-3AF4-4918-B0DE-19933778B51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1AE0C8-088F-42A0-945D-A9D0050330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DFFE1-2639-45C2-A727-E15AAD87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D713E7-33CF-447A-B3BC-B5B2EE19543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539AF7-AD9C-4834-9B39-EECCCE3FC72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F89078-9EF4-4C78-97CD-145BF95941E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BD7CD5-84C6-4ACD-993C-2ED595E6DCE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EC5FD6-3946-4FFE-9209-3F4454DE42B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60927C-320E-4987-BC2F-1776D09B764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391FDC-7149-4A5C-90D0-A27155B3989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0F6920-51B0-4971-96B8-1293E525BBF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0BA66E-4A45-4767-903A-4978E4C175D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894490-AD2D-4D26-A72B-D8B34EF733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A1487-DC6E-4A86-A31F-FB280E45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A55C7C-88EB-4203-AC9D-F096521F6A3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0756BF-D435-46EB-9B9E-448676CE1B4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7D58D6-913C-4607-8268-FF73618D2DD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DC401E-4A00-4577-AE08-198C5FCB5AD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E123A0-6933-4215-8F17-EC3C0CA475D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03AA91-C8A6-46E8-B0F0-D8B515B9182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46D40D-62F8-400B-9A31-48F5BB907CE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C8195C-07F5-40D9-A95C-661D8D71AF5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28758C-309D-416A-B741-6D6516B642C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536532-2649-4FF2-89CD-06DBFD1D3A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B72E9-E69E-49E5-998F-34D28647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7CAD7A-19A0-44BD-B9DC-44A389A362C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7C4BFD-2690-4F19-B25C-C6F862A4026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CD3F49-00BE-4D98-A038-4FB44EE04AF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EBB48-5286-47D8-BCE6-463A66A27BD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3A7FF-959B-4E97-85ED-D7E98B9CD02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D8819-5B4F-4493-AD12-3C99D5374FD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6CBB8-559D-477D-A88E-4954D3E2C7C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0998C-C03E-41B7-B8D1-84252E0DEFC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3C8F0-7805-45DE-BBD9-16EF7CBC7C9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2288C-C2D4-4151-B9FE-046E698475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C4EAD-A7CE-497A-9343-E6B39059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ACA7B-EE77-48B2-B3DD-1B94281E7FC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62860-B6EB-4D90-9C88-71DB18A8C20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43ACF-2700-46A6-9C85-9DC8F77DE83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B045B-4931-447B-A9DA-675A4432751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639EB-E578-47C3-A64D-CEF47588B60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00AE6B-6991-408F-9A1F-C252663C625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0320FD-C057-4AAD-A8E4-167FDD52D24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4D159B-0C9D-4EB6-B1E0-F7F3BADC45A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8E31C7-D19D-4946-9355-11E590F6874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06D7B5-4BE1-4D8B-95CF-6052184F73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E189E-976E-41CD-A299-23F1EFE0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72EF3A-BA76-49D8-8F65-C95A14276B5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7D5DBF-A1C2-40FF-B51A-E79BAF4231D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C07EA3-97DB-45C3-885D-96C7F4423E2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B4EC21-2049-469B-80A6-DE2D6DCFB54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2B2693-EC08-47C1-980F-CF4DCC00CEE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A97E0E-8CD2-46E4-84F5-BEE99065A54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2C73E1-61E8-4DE7-9B4F-1105DAE76C8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589CC3-3861-4221-8E2C-0E0DA610D82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BC6137-315E-4B65-9653-9F1BCEC8598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5F32BF-38CA-4F09-974F-9F1DA56A74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E5C5-F464-47BD-A251-A4C2BE4B0977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8100720" y="649296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2"/>
          <a:stretch/>
        </p:blipFill>
        <p:spPr>
          <a:xfrm>
            <a:off x="0" y="6151680"/>
            <a:ext cx="826920" cy="70632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20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21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1596-F84B-4B82-B052-6FB9BBDED326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2"/>
          <a:stretch/>
        </p:blipFill>
        <p:spPr>
          <a:xfrm>
            <a:off x="0" y="6151680"/>
            <a:ext cx="826920" cy="70632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22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23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44B1-05B5-4561-A740-44A055E638EF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2"/>
          <a:stretch/>
        </p:blipFill>
        <p:spPr>
          <a:xfrm>
            <a:off x="0" y="6151680"/>
            <a:ext cx="826920" cy="70632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24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sldNum" idx="25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DB81-50F5-41B2-B794-A63DC4938CDF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6"/>
          </p:nvPr>
        </p:nvSpPr>
        <p:spPr>
          <a:xfrm>
            <a:off x="8100720" y="649296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7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8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61ED-DDD0-4443-BF32-4FB99F63A4F0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0" y="6151680"/>
            <a:ext cx="826920" cy="706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12FC-0E56-4A1A-9939-57729022D443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6151680"/>
            <a:ext cx="826920" cy="7063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6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7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C198-8865-4291-96AC-7FF7E0E51D74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0" y="6151680"/>
            <a:ext cx="826920" cy="7063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8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9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85A7-9A8C-49E5-8676-53B69028AF40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0" y="6151680"/>
            <a:ext cx="826920" cy="7063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0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1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8731-2239-4FC4-B08A-A2762C62B92C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0" y="6151680"/>
            <a:ext cx="826920" cy="70632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2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3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F056-B528-474F-B59D-6D102A31C5CD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"/>
          <p:cNvPicPr/>
          <p:nvPr/>
        </p:nvPicPr>
        <p:blipFill>
          <a:blip r:embed="rId2"/>
          <a:stretch/>
        </p:blipFill>
        <p:spPr>
          <a:xfrm>
            <a:off x="0" y="6151680"/>
            <a:ext cx="826920" cy="7063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14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5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5AD6-5C81-47C5-ADA8-CEF24FD956F7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0" y="6151680"/>
            <a:ext cx="826920" cy="7063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6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7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E7D3-A74E-4515-8D0E-19C59F95375C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2"/>
          <a:stretch/>
        </p:blipFill>
        <p:spPr>
          <a:xfrm>
            <a:off x="0" y="6151680"/>
            <a:ext cx="826920" cy="70632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18"/>
          </p:nvPr>
        </p:nvSpPr>
        <p:spPr>
          <a:xfrm>
            <a:off x="468000" y="18720"/>
            <a:ext cx="77756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19"/>
          </p:nvPr>
        </p:nvSpPr>
        <p:spPr>
          <a:xfrm>
            <a:off x="8316720" y="18720"/>
            <a:ext cx="718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E999-9290-4A7C-AFC8-5421122F6BFB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848720" cy="24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1f497d"/>
                </a:solidFill>
                <a:latin typeface="Calibri"/>
              </a:rPr>
              <a:t>PRIMJENA KOLEKTIVNIH UGOVORA U USTANOVAMA  SOCIJALNE SKRBI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685440" y="3504960"/>
            <a:ext cx="7846920" cy="27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dr. sc. Marija Zu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savjetnica-urednica, HZ R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Primošten, 16. svibnja 2013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2060"/>
                </a:solidFill>
                <a:latin typeface="Calibri"/>
              </a:rPr>
              <a:t>PRAVO RADNIKA NA GODIŠNJI ODMOR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6043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MINIMALNO TRAJANJE GODIŠNJEG ODMORA PO ZR-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najmanje 4 tjedna – čl. 55. Zakona o ra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invalidi – najmanje 24 radna dana 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(Zakon o profesionalnoj rehabilitaciji i zapošljavanju osoba s invaliditeto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blagdani i razdoblja bolovanja se ne uračunavaju u trajanje godišnjeg odmo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POGODNOSTI IZ KOLEKTVNIH UGOVOR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dužina godišnjeg odmora: na početnih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20 dana 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dodaju se dani prema kriterijima: dužina radnog staža, složenost poslova, socijalni uvjeti, uvjeti rada, posebni uvjeti rada –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najviše 32 dana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, a radnici kojima nedostaje do 5 godina do uvjeta za starosnu mirovinu -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najviše 35 d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radnik kojem radni odnos prestaje prije 1. srpnja zbog odlaska u mirovinu – pravo na puni godišnji odmor za tekuću godi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subote i nedjelje se ne uračunavaju u trajanje godišnjeg odmo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2060"/>
                </a:solidFill>
                <a:latin typeface="Calibri"/>
              </a:rPr>
              <a:t>Plaće zaposlenih u ustanovama socijalne skrbi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ff0000"/>
                </a:solidFill>
                <a:latin typeface="Calibri"/>
              </a:rPr>
              <a:t>OD 1. OŽUJKA 2013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ff0000"/>
                </a:solidFill>
                <a:latin typeface="Calibri"/>
              </a:rPr>
              <a:t>NOVA </a:t>
            </a: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Uredba o nazivima radnih mjesta i koeficijentima složenosti poslova u javnim službama, </a:t>
            </a: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NN 25/1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smanjeni koeficijen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alibri"/>
              </a:rPr>
              <a:t>Osnovica </a:t>
            </a: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za obračun plaća u državnim i javnim službama </a:t>
            </a: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mjesečno u bruto svoti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                                        </a:t>
            </a: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5.108,84 k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2060"/>
                </a:solidFill>
                <a:latin typeface="Calibri"/>
              </a:rPr>
              <a:t>DODACI NA PLAĆU</a:t>
            </a:r>
            <a:r>
              <a:rPr b="0" lang="hr-HR" sz="3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859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1f497d"/>
                </a:solidFill>
                <a:latin typeface="Calibri"/>
              </a:rPr>
              <a:t>DODACI NA OSNOVNU PLAĆ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rad noću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+ 4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prekovremeni rad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+ 50%</a:t>
            </a:r>
            <a:r>
              <a:rPr b="0" lang="hr-HR" sz="2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rad subotom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+ 2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rad nedjeljom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+ 3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rad blagdanom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+ 150%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smjenski rad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+ 1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17375e"/>
                </a:solidFill>
                <a:latin typeface="Calibri"/>
              </a:rPr>
              <a:t>povećanje plaće za dvokratni rad</a:t>
            </a:r>
            <a:r>
              <a:rPr b="0" lang="hr-H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+ 1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17375e"/>
                </a:solidFill>
                <a:latin typeface="Calibri"/>
              </a:rPr>
              <a:t>dodaci za uvjete rada </a:t>
            </a:r>
            <a:r>
              <a:rPr b="1" lang="hr-HR" sz="2400" spc="-1" strike="noStrike">
                <a:solidFill>
                  <a:srgbClr val="1f497d"/>
                </a:solidFill>
                <a:latin typeface="Calibri"/>
              </a:rPr>
              <a:t>–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od +10% do +2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1f497d"/>
                </a:solidFill>
                <a:latin typeface="Calibri"/>
              </a:rPr>
              <a:t>Novi i povećani dodaci na plaće  u socijalnoj skrbi – od 1. siječnja 2013.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prema Kolektivnom ugovoru za djelatnost socijalne srbi - od 1. siječnja 2013. godine primjenjuju se tri povećana prava na dodatke u plaći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.   dodatak u plaći po osnovi radnog staža za 4%, 8% i 10% ostvaruje se 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za ukupni radni staž 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(ne više samo staž u ustanovama socijalne skrb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(Osnovica: osnovna plaća + dodatak za uvjete rad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2.   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primjena čl. 59. kojim su 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dodaci za uvjete rada 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uređeni povoljnije od dodataka koji su se primjenjivali do kraja 2012. god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3.    naknada za pripravnost 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uređena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 u dvostrukom iznosu 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u odnosu na naknadu do 31. prosinca 2012. god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2060"/>
                </a:solidFill>
                <a:latin typeface="Calibri"/>
              </a:rPr>
              <a:t>POSEBNA ZAŠTITA RADNIKA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Čl. 76. KU socijalne skr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U slučaju smanjenja radne sposobnosti radnika utvrđene rješenjem nadležnog tijela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 i jednog od sljedećih uvjet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1. starost 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– 5 godina pred starosnu mirovinu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2. profesionalna bolest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3. ozljeda na ra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PRAVO RADNIK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povoljnija nor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bez smanjenja plaće koju je ostvarivao prije nastupa navedenih okol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2060"/>
                </a:solidFill>
                <a:latin typeface="Calibri"/>
              </a:rPr>
              <a:t>NAKNADE TROŠKOVA RADNICIMA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684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VRSTE TROŠKOV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hr-HR" sz="2800" spc="-1" strike="noStrike">
                <a:solidFill>
                  <a:srgbClr val="002060"/>
                </a:solidFill>
                <a:latin typeface="Calibri"/>
              </a:rPr>
              <a:t>(ovisno o lokaciji poslodavca, poslu koji radnik obavlja, načinu obavljanja poslova, lokaciji na kojoj radnik radi, udaljenosti mjesta rada od mjesta stanovanja i dr.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naknade troškova koji su u vezi sa svakodnevnim obavljanjem poslova na radnom mjestu,</a:t>
            </a: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naknade troškova koji radniku nastaju iznimno, kad je po nalogu poslodavca upućen obaviti posao izvan uobičajenog mjesta rada</a:t>
            </a: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TKU za javne službe iz prosinca 2012.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NOVO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Zabrana ugovaranja naknade troškova prijevoza u granskim kolektivnim ugovorima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odnosi se na ugovore koji se sklapaju nakon 12. prosinca 2012. god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ne utječe na pravnu valjanost odredbi o pravu na naknadu prijevoza u važećim granskim kolektivnim ugovorima javnih služb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2060"/>
                </a:solidFill>
                <a:latin typeface="Calibri"/>
              </a:rPr>
              <a:t>NAKNADA TROŠKOVA PRIJEVOZA NA POSAO I S POSLA</a:t>
            </a:r>
            <a:r>
              <a:rPr b="0" lang="hr-HR" sz="3600" spc="-1" strike="noStrike">
                <a:solidFill>
                  <a:srgbClr val="002060"/>
                </a:solidFill>
                <a:latin typeface="Calibri"/>
              </a:rPr>
              <a:t>  - </a:t>
            </a:r>
            <a:r>
              <a:rPr b="1" lang="hr-HR" sz="3600" spc="-1" strike="noStrike">
                <a:solidFill>
                  <a:srgbClr val="002060"/>
                </a:solidFill>
                <a:latin typeface="Calibri"/>
              </a:rPr>
              <a:t>primjena GKU socijalne skrbi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820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4f81bd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naknada troškova mjesnog prijevoza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 - ako radnik stanuje na udaljenosti većoj od 1 km od lokacije na kojoj rad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4f81bd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naknada troškova međumjesnog prijevoza - 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ako radnik stanuje na udaljenosti do 100 km, a uz pristanak nadležnog ministarstva i ako stanuju na udaljenosti većoj od 100 k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NEOPOREZIVI IZN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4f81bd"/>
              </a:buClr>
              <a:buSzPct val="8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U visini stvarnih troškova javnog prijevo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4f81bd"/>
              </a:buClr>
              <a:buSzPct val="8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Ako na određenoj relaciji nema javnog prijevoza, a radniku objektivno nastaju troškovi prijevoza – u visini cijene javnog prijevoza na istoj ili sličnoj udalje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2060"/>
                </a:solidFill>
                <a:latin typeface="Calibri"/>
              </a:rPr>
              <a:t>TROŠKOVI SLUŽBENOG PUTOVANJA</a:t>
            </a:r>
            <a:r>
              <a:rPr b="0" lang="hr-HR" sz="3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26560" y="1988640"/>
            <a:ext cx="7859880" cy="44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Naknada troškova prijevoza na službenom pu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7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Naknada troškova noće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7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Dnevnica za službeno putovanje</a:t>
            </a: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- u tuzemstv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- u inozemstv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7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Ostali dokumentirani troškovi vezani uz izvršavanje poslova za poslodav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2060"/>
                </a:solidFill>
                <a:latin typeface="Calibri"/>
              </a:rPr>
              <a:t>Odnos TKU za javne službe i granskih ugovora javnih službi – zaključci od 30. siječnja 2013.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Povjerenstvo ovlašteno za tumačenje TKU za javne služb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Tumačenje br. 1/67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“…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.. </a:t>
            </a:r>
            <a:r>
              <a:rPr b="0" lang="vi-VN" sz="2400" spc="-1" strike="noStrike">
                <a:solidFill>
                  <a:srgbClr val="002060"/>
                </a:solidFill>
                <a:latin typeface="Arial"/>
              </a:rPr>
              <a:t>Dodatno napominjemo, da se sukladno članku 6. Dodatka I TKU-a (NN br. 141/12) </a:t>
            </a:r>
            <a:r>
              <a:rPr b="1" lang="vi-VN" sz="2400" spc="-1" strike="noStrike">
                <a:solidFill>
                  <a:srgbClr val="002060"/>
                </a:solidFill>
                <a:latin typeface="Arial"/>
              </a:rPr>
              <a:t>u djelatnostima u kojima pravo na naknadu za trošak prijevoza nije regulirano, primjenjuje pravo iz drugih granskih kolektivnih ugovora za javne službe u djelatnostima u kojima je regulirano pravo na naknadu za trošak prijevoza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8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IZVORI PRAVA ZAPOSLENIH U USTANOVAMA SOCIJALNE SKRBI KOJE SE FINANCIRAJU IZ PRORAČUNSKIH SREDSTAVA 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55640" y="2491920"/>
            <a:ext cx="813744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2060"/>
                </a:solidFill>
                <a:latin typeface="Arial"/>
              </a:rPr>
              <a:t>ZAKONI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550"/>
              </a:spcBef>
              <a:buClr>
                <a:srgbClr val="ff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2060"/>
                </a:solidFill>
                <a:latin typeface="Arial"/>
              </a:rPr>
              <a:t>Zakon o radu, </a:t>
            </a:r>
            <a:r>
              <a:rPr b="0" lang="hr-HR" sz="2200" spc="-1" strike="noStrike">
                <a:solidFill>
                  <a:srgbClr val="002060"/>
                </a:solidFill>
                <a:latin typeface="Arial"/>
              </a:rPr>
              <a:t>NN 149/09., 61/11. i 82/12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550"/>
              </a:spcBef>
              <a:buClr>
                <a:srgbClr val="ff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2060"/>
                </a:solidFill>
                <a:latin typeface="Arial"/>
              </a:rPr>
              <a:t>Zakon o socijalnoj skrbi, </a:t>
            </a:r>
            <a:r>
              <a:rPr b="0" lang="hr-HR" sz="2200" spc="-1" strike="noStrike">
                <a:solidFill>
                  <a:srgbClr val="002060"/>
                </a:solidFill>
                <a:latin typeface="Arial"/>
              </a:rPr>
              <a:t>NN</a:t>
            </a:r>
            <a:r>
              <a:rPr b="1" lang="hr-HR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002060"/>
                </a:solidFill>
                <a:latin typeface="Arial"/>
              </a:rPr>
              <a:t>33/12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55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2060"/>
                </a:solidFill>
                <a:latin typeface="Arial"/>
              </a:rPr>
              <a:t>Zakon o plaćama u javnim službama</a:t>
            </a:r>
            <a:r>
              <a:rPr b="0" lang="hr-HR" sz="2200" spc="-1" strike="noStrike">
                <a:solidFill>
                  <a:srgbClr val="002060"/>
                </a:solidFill>
                <a:latin typeface="Arial"/>
              </a:rPr>
              <a:t>, NN 27/01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55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2060"/>
                </a:solidFill>
                <a:latin typeface="Arial"/>
              </a:rPr>
              <a:t>Zakon o osnovicu plaće u javnim službama</a:t>
            </a:r>
            <a:r>
              <a:rPr b="0" lang="hr-HR" sz="2200" spc="-1" strike="noStrike">
                <a:solidFill>
                  <a:srgbClr val="002060"/>
                </a:solidFill>
                <a:latin typeface="Arial"/>
              </a:rPr>
              <a:t>, NN 39/09. i 124/09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55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2060"/>
                </a:solidFill>
                <a:latin typeface="Arial"/>
              </a:rPr>
              <a:t>Zakon o minimalnoj plaći</a:t>
            </a:r>
            <a:r>
              <a:rPr b="0" lang="hr-HR" sz="2200" spc="-1" strike="noStrike">
                <a:solidFill>
                  <a:srgbClr val="002060"/>
                </a:solidFill>
                <a:latin typeface="Arial"/>
              </a:rPr>
              <a:t>, NN 39/13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2060"/>
                </a:solidFill>
                <a:latin typeface="Arial"/>
              </a:rPr>
              <a:t>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55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2060"/>
                </a:solidFill>
                <a:latin typeface="Calibri"/>
              </a:rPr>
              <a:t>Socijalna prava iz radnog odnosa:</a:t>
            </a:r>
            <a:r>
              <a:rPr b="0" lang="hr-HR" sz="2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hr-HR" sz="2200" spc="-1" strike="noStrike">
                <a:solidFill>
                  <a:srgbClr val="002060"/>
                </a:solidFill>
                <a:latin typeface="Calibri"/>
              </a:rPr>
              <a:t>- Zakon o osnovnom zdravstvenom osiguranj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hr-HR" sz="2200" spc="-1" strike="noStrike">
                <a:solidFill>
                  <a:srgbClr val="002060"/>
                </a:solidFill>
                <a:latin typeface="Calibri"/>
              </a:rPr>
              <a:t>- Zakon o mirovinskom osiguranj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hr-HR" sz="2200" spc="-1" strike="noStrike">
                <a:solidFill>
                  <a:srgbClr val="002060"/>
                </a:solidFill>
                <a:latin typeface="Calibri"/>
              </a:rPr>
              <a:t>- Zakon o posredovanju u zapošljavanju i pravima za vrije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0" lang="hr-HR" sz="2200" spc="-1" strike="noStrike">
                <a:solidFill>
                  <a:srgbClr val="002060"/>
                </a:solidFill>
                <a:latin typeface="Calibri"/>
              </a:rPr>
              <a:t>nezaposlenost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55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2060"/>
                </a:solidFill>
                <a:latin typeface="Calibri"/>
              </a:rPr>
              <a:t>Zakon o obveznim odnosim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DNEVNICA U ZEMLJI – </a:t>
            </a:r>
            <a:r>
              <a:rPr b="1" lang="hr-HR" sz="3200" spc="-1" strike="noStrike">
                <a:solidFill>
                  <a:srgbClr val="002060"/>
                </a:solidFill>
                <a:latin typeface="Calibri"/>
              </a:rPr>
              <a:t>170,00 ili 150,00 kn?</a:t>
            </a:r>
            <a:br>
              <a:rPr sz="3200"/>
            </a:br>
            <a:r>
              <a:rPr b="1" lang="hr-HR" sz="3200" spc="-1" strike="noStrike">
                <a:solidFill>
                  <a:srgbClr val="002060"/>
                </a:solidFill>
                <a:latin typeface="Calibri"/>
              </a:rPr>
              <a:t>O</a:t>
            </a: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dnosi li se tumačenje Povjerenstva ovlaštenog za tumačenje TKU za javne službe </a:t>
            </a:r>
            <a:br>
              <a:rPr sz="2800"/>
            </a:b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 i na dnevnice?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23640" y="2565000"/>
            <a:ext cx="8569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TKU za javne slu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539640" y="3068640"/>
          <a:ext cx="7993080" cy="3362400"/>
        </p:xfrm>
        <a:graphic>
          <a:graphicData uri="http://schemas.openxmlformats.org/drawingml/2006/table">
            <a:tbl>
              <a:tblPr/>
              <a:tblGrid>
                <a:gridCol w="3600720"/>
                <a:gridCol w="1871640"/>
                <a:gridCol w="2520720"/>
              </a:tblGrid>
              <a:tr h="1154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zdoblje primje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na dnevn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znos dnevnice kad je osigurana prehra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11. 12. 201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 12. 12. 2012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31. 12. 201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 1. 1. 201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2060"/>
                </a:solidFill>
                <a:latin typeface="Calibri"/>
              </a:rPr>
              <a:t>NAKNADA TROŠKOVA SLUŽBENOG PUTOVANJA I PRAVO RADNIKA NA PLAĆU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Naknadom troškova radniku - poslodavac namiruje izdatke koje je radnik imao zbog obavljanja poslova ugovorenih ugovorom o rad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Isplata plaće – plaćanje izvršenog r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alibri"/>
              </a:rPr>
              <a:t>ISPLATA NAKNADE TROŠKOVA NIJE ZAMJENA ZA PRAVO NA PLAĆ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2060"/>
                </a:solidFill>
                <a:latin typeface="Calibri"/>
              </a:rPr>
              <a:t>NAGRADE, POTPORE I OTPREMNINE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-627120">
              <a:spcBef>
                <a:spcPts val="700"/>
              </a:spcBef>
              <a:buClr>
                <a:srgbClr val="ff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regres za godišnji odmor, božićnica, darovi djeci, jubilarne nagrade za određen broj godina rada u javnim službama, otpremnine za mirovinu </a:t>
            </a: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– u jednakom neto iznosu  za sve radn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spcBef>
                <a:spcPts val="700"/>
              </a:spcBef>
              <a:buClr>
                <a:srgbClr val="ff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potpore  - u funkciji pomoći radniku u posebnim životnim situacijama – </a:t>
            </a: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određene su u jednakom neto iznosu  za sve radn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spcBef>
                <a:spcPts val="700"/>
              </a:spcBef>
              <a:buClr>
                <a:srgbClr val="ff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otpremnine za otkaz  </a:t>
            </a: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– ovise o plaći radn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hr-HR" sz="3600" spc="-1" strike="noStrike">
                <a:solidFill>
                  <a:srgbClr val="002060"/>
                </a:solidFill>
                <a:latin typeface="Calibri"/>
              </a:rPr>
              <a:t>ISPLATA</a:t>
            </a:r>
            <a:r>
              <a:rPr b="1" lang="hr-HR" sz="3600" spc="-1" strike="noStrike">
                <a:solidFill>
                  <a:srgbClr val="002060"/>
                </a:solidFill>
                <a:latin typeface="Calibri"/>
                <a:ea typeface="Times New Roman"/>
              </a:rPr>
              <a:t> NAKNADA TROŠKOVA, NAGRADA, POTPORA I OTPREMNINA</a:t>
            </a:r>
            <a:r>
              <a:rPr b="1" lang="hr-HR" sz="3600" spc="-1" strike="noStrike">
                <a:solidFill>
                  <a:srgbClr val="002060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9640" y="1599840"/>
            <a:ext cx="8353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2060"/>
                </a:solidFill>
                <a:latin typeface="Arial"/>
                <a:ea typeface="Times New Roman"/>
              </a:rPr>
              <a:t>«Skrivene»  isplate plaća, zbog:</a:t>
            </a:r>
            <a:r>
              <a:rPr b="0" lang="hr-HR" sz="26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4f81bd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Calibri"/>
              </a:rPr>
              <a:t>Ugovoreni su iznosi naknada određenih troškova uz </a:t>
            </a:r>
            <a:r>
              <a:rPr b="1" lang="hr-HR" sz="2600" spc="-1" strike="noStrike">
                <a:solidFill>
                  <a:srgbClr val="ff0000"/>
                </a:solidFill>
                <a:latin typeface="Calibri"/>
              </a:rPr>
              <a:t>povoljnije uvjete </a:t>
            </a:r>
            <a:r>
              <a:rPr b="1" lang="hr-HR" sz="2600" spc="-1" strike="noStrike">
                <a:solidFill>
                  <a:srgbClr val="002060"/>
                </a:solidFill>
                <a:latin typeface="Calibri"/>
              </a:rPr>
              <a:t>od uvjeta propisanih čl. 13. Pravilnika o porezu na dohod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4f81bd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Calibri"/>
              </a:rPr>
              <a:t>Većina novčanih prava je ugovorena u svotama većim od propisanih neoporezivih iznos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4f81bd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Calibri"/>
              </a:rPr>
              <a:t>Ugovoreni iznosi svakog pojedinačnog prava su </a:t>
            </a:r>
            <a:r>
              <a:rPr b="1" lang="hr-HR" sz="2600" spc="-1" strike="noStrike">
                <a:solidFill>
                  <a:srgbClr val="ff0000"/>
                </a:solidFill>
                <a:latin typeface="Calibri"/>
              </a:rPr>
              <a:t>neto svote  </a:t>
            </a:r>
            <a:r>
              <a:rPr b="1" lang="hr-HR" sz="2600" spc="-1" strike="noStrike">
                <a:solidFill>
                  <a:srgbClr val="002060"/>
                </a:solidFill>
                <a:latin typeface="Calibri"/>
              </a:rPr>
              <a:t>koje poslodavac preračunava u bruto iznos, pri čemu doprinosi iz plaće, doprinosi na plaću, porez na dohodak i prirez koji se plaćaju na oporezivi dio određenog novčanog prava, povećavaju troškove poslodav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1f497d"/>
                </a:solidFill>
                <a:latin typeface="Calibri"/>
              </a:rPr>
              <a:t>POTPORE I POMOĆI</a:t>
            </a:r>
            <a:br>
              <a:rPr sz="3200"/>
            </a:br>
            <a:r>
              <a:rPr b="0" lang="hr-HR" sz="3200" spc="-1" strike="noStrike">
                <a:solidFill>
                  <a:srgbClr val="1f497d"/>
                </a:solidFill>
                <a:latin typeface="Calibri"/>
              </a:rPr>
              <a:t>(visina: </a:t>
            </a:r>
            <a:r>
              <a:rPr b="1" lang="hr-HR" sz="3200" spc="-1" strike="noStrike">
                <a:solidFill>
                  <a:srgbClr val="1f497d"/>
                </a:solidFill>
                <a:latin typeface="Calibri"/>
              </a:rPr>
              <a:t>proračunska osnovica</a:t>
            </a:r>
            <a:r>
              <a:rPr b="0" lang="hr-HR" sz="3200" spc="-1" strike="noStrike">
                <a:solidFill>
                  <a:srgbClr val="1f497d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468360" y="1413000"/>
          <a:ext cx="8435880" cy="5327640"/>
        </p:xfrm>
        <a:graphic>
          <a:graphicData uri="http://schemas.openxmlformats.org/drawingml/2006/table">
            <a:tbl>
              <a:tblPr/>
              <a:tblGrid>
                <a:gridCol w="2716200"/>
                <a:gridCol w="1949400"/>
                <a:gridCol w="2157480"/>
                <a:gridCol w="1612800"/>
              </a:tblGrid>
              <a:tr h="1069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ST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P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VO RADNI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 toga: NEOPO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Z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 tog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ETO PLAĆ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lovan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26 k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0 k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6 k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alidn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ni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26 k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0 k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6 k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alidnos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lana obitelj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26 k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26 k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ječen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ni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26 k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upna svota, uz određene uvje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đenje djete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63 k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od 1.1.2012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63 k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326 k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2060"/>
                </a:solidFill>
                <a:latin typeface="Calibri"/>
              </a:rPr>
              <a:t>POTPORA ZA BOLOVANJE RADNIKA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jednom u godi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potpora iznosi 3.326,00 k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nakon kontinuirane spriječenosti za rad zbog bolesti u trajanju od 90 kalendarskih dana - razdoblje od 90 dana se može protezati u jednoj ili u dvije kalendarske god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neovisno o uzroku spriječenosti za rad zbog bolesti (bolest, ozljeda, komplikacije u trudnoć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2060"/>
                </a:solidFill>
                <a:uFillTx/>
                <a:latin typeface="Calibri"/>
              </a:rPr>
              <a:t>VAŽNO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Korištenje prava na rodiljni i roditeljski dopust se ne smatra bolovanje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2060"/>
                </a:solidFill>
                <a:latin typeface="Calibri"/>
              </a:rPr>
              <a:t>POTPORE ZA INVALIDNOST</a:t>
            </a:r>
            <a:br>
              <a:rPr sz="3600"/>
            </a:b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684000" y="1773000"/>
            <a:ext cx="84596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PRAVO NA POTPORU U SLUČAJ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nastanka invalidnosti zaposlen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nastanka invalidnosti supružn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u slučaju nastanka invalidnosti malodobnog djete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JAVNE SLUŽBE: 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invalidnost zaposlenog odnosno njegovog supružnik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- koja ima za posljedicu opću nesposob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- koja ima za posljedicu profesionaln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nesposobnost za r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2060"/>
                </a:solidFill>
                <a:latin typeface="Calibri"/>
              </a:rPr>
              <a:t>OTPREMNINE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381132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ZA MIROVIN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9.978 k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Neoporeziv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         </a:t>
            </a:r>
            <a:r>
              <a:rPr b="1" lang="hr-HR" sz="2800" spc="-1" strike="noStrike">
                <a:solidFill>
                  <a:srgbClr val="ff0000"/>
                </a:solidFill>
                <a:latin typeface="Calibri"/>
              </a:rPr>
              <a:t>8.000 k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Razlika: 1.978 kn je neto plaća radnika koju treba preračunati u bruto plać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48320" y="2060640"/>
            <a:ext cx="403848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ZA OTKAZ (POVLAŠTE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30 i više godina rada u javnim služba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65% bruto plaće za svaku godinu rada u javnim služba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taj iznos se smatra neto primitko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alibri"/>
              </a:rPr>
              <a:t>VAŽNO:</a:t>
            </a: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ne odnosi se na ravnatelje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1f497d"/>
                </a:solidFill>
                <a:latin typeface="Calibri"/>
              </a:rPr>
              <a:t>POMOĆ U SLUČAJU SMRTI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684360" y="1700280"/>
          <a:ext cx="8229600" cy="4805280"/>
        </p:xfrm>
        <a:graphic>
          <a:graphicData uri="http://schemas.openxmlformats.org/drawingml/2006/table">
            <a:tbl>
              <a:tblPr/>
              <a:tblGrid>
                <a:gridCol w="2016000"/>
                <a:gridCol w="2098800"/>
                <a:gridCol w="1933560"/>
                <a:gridCol w="2181240"/>
              </a:tblGrid>
              <a:tr h="1133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 toga: NEOPO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Z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 toga: </a:t>
                      </a:r>
                      <a:r>
                        <a:rPr b="1" lang="hr-HR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eto plaća/neto drugi dohodak</a:t>
                      </a:r>
                      <a:r>
                        <a:rPr b="0" lang="hr-HR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3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rt radnika u služb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978 kn + troško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gre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00 k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78 + tr.pog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i dohodak člana obitelji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 plaćaju se doprinosi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rt radnika izvan služb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52 k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25 k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500 k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rt člana obitel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26 k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0 k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6 k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o plać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595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323640" y="476280"/>
            <a:ext cx="856908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JUBILARNE NAGRA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(u socijalnoj skrbi se ne traži se neprekidni rad!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50920" y="1727280"/>
          <a:ext cx="8713800" cy="4440240"/>
        </p:xfrm>
        <a:graphic>
          <a:graphicData uri="http://schemas.openxmlformats.org/drawingml/2006/table">
            <a:tbl>
              <a:tblPr/>
              <a:tblGrid>
                <a:gridCol w="1743120"/>
                <a:gridCol w="1742760"/>
                <a:gridCol w="1843200"/>
                <a:gridCol w="1728720"/>
                <a:gridCol w="1656000"/>
              </a:tblGrid>
              <a:tr h="979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prekinuti rad u jav.s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govoren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61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. i od 1.1. 201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161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osn. =  1.8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osn. = 5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oporezivi iz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112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god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snov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00,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112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god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5 osnov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50,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5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112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 god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 osnov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700,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112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god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75 osnov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50,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5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112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god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osnov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00,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112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 god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 osnov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500,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112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 god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osnov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400,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112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 god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osnov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200,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112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 god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osnov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00,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0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549360"/>
            <a:ext cx="8229600" cy="59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KOLEKTIVNI UGOVOR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Temeljni kolektivni ugovor za službenike i namještenike u javnim službama</a:t>
            </a: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(NN, 141/12.) -  zaključen 12. prosinca 2012, godine, na rok od četiri god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Dodatak I. Temeljnom kolektivnom ugovoru za službenike i namještenike u javnim službama 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(NN, 141/12.) 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– 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zaključen istog dana – ugovoreno da se neka ugovorena prava neće primjenjivati u 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2012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. odnosno u 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2013.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 godin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Kolektivni ugovor za djelatnost socijalne skrbi</a:t>
            </a: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; NN 133/11. – od 19. listopada 2011.; na rok od </a:t>
            </a: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 god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OPĆI AKT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pravilnici o radu ustanova socijalne skrb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POJEDINAČNI AKT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ugovori o ra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hr-HR" sz="3200" spc="-1" strike="noStrike">
                <a:solidFill>
                  <a:srgbClr val="002060"/>
                </a:solidFill>
                <a:latin typeface="Calibri"/>
              </a:rPr>
              <a:t>Zakonska uskrata određenih prava ugovorenih kolektivnim ugovorima</a:t>
            </a:r>
            <a:br>
              <a:rPr sz="3600"/>
            </a:b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Zakon o uskrati isplate pojedinih materijalnih prava zaposlenima u javnim službama (NN, 143/12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Zaposlenima u javnim službama uskraćuje se pravo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na isplatu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božićnice za 2012. i 2013. godinu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, 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- regresa za godišnji odmor za 2013. godi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Na ova se novčana prava ne primjenjuje pravilo pogodnosti iz čl. 7. st. 3. Zakona o ra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2060"/>
                </a:solidFill>
                <a:latin typeface="Calibri"/>
              </a:rPr>
              <a:t>PRAVNA PRIRODA KOLEKTIVNIH UGOVORA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84000" y="1599840"/>
            <a:ext cx="38113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2060"/>
                </a:solidFill>
                <a:uFillTx/>
                <a:latin typeface="Arial"/>
              </a:rPr>
              <a:t>OPĆENI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Zakonodavni okvi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razine: pojedinačni poslodavac,  djelatnost, nacionalna raz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Ovlaštene stra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Područje primjene – </a:t>
            </a: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izvor prava za sve zaposlene kod poslodav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Sudska zaštita ugovorenih 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5003280" y="1599840"/>
            <a:ext cx="3683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2060"/>
                </a:solidFill>
                <a:uFillTx/>
                <a:latin typeface="Arial"/>
              </a:rPr>
              <a:t>SPECIFIČNOSTI U USTANOVAMA SOCIJALNE SKRB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Ovlaštene ugovorne stra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- Vlada R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- sindika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Vlada RH u dvostrukoj uloz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tijelo izvršne vlasti države</a:t>
            </a: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stranka kolektivnog ugovora </a:t>
            </a: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na strani poslodav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1f497d"/>
                </a:solidFill>
                <a:latin typeface="Arial"/>
              </a:rPr>
              <a:t>KOLEKTIVNI UGOVOR KAO IZVOR PRAVA RADNIKA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8208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0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2060"/>
                </a:solidFill>
                <a:uFillTx/>
                <a:latin typeface="Arial"/>
              </a:rPr>
              <a:t>Definici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0360" indent="-180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K.U. je pisani dokument kojim zakonom ovlaštene strane na tržištu rada ugovaraju uvjete rada – prava i obveze radnika i poslodavaca koje obvezuje odnosni kolektivni ugov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0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2060"/>
                </a:solidFill>
                <a:uFillTx/>
                <a:latin typeface="Arial"/>
              </a:rPr>
              <a:t>Sadržaj kolektivnog ugovor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0360" indent="-180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prava i obveze ugovornih strana</a:t>
            </a: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(obvezni dio kolektivnog ugovora)</a:t>
            </a: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– na strani poslodavca ugovorna strana je poslodavac ili udruga poslodavaca, a na strani radnika ovlaštena ugovora strana je  sindika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0360" indent="-180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pravna pravila (normativni dio kolektivnog ugovora)</a:t>
            </a: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 - sadržaj radnih odnosa; prava i obveze osoba u čije ime su ugovorne strane zaključile kolektivni ugov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0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800" spc="-1" strike="noStrike">
                <a:solidFill>
                  <a:srgbClr val="002060"/>
                </a:solidFill>
                <a:latin typeface="Calibri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80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80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2060"/>
                </a:solidFill>
                <a:latin typeface="Calibri"/>
              </a:rPr>
              <a:t>PRIMJENA KOLEKTIVNIH UGOVORA U USTANOVAMA SOCIJALNE SKRBI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11280" y="1773000"/>
            <a:ext cx="8532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ODNOS ZAKONA I KOLEKTIVNOG UGOVOR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Pravilo je da se kolektivnim ugovorom ugovaraju za radnika veća prava od propisanih zakonom (manja prava: samo iznimno, kada to zakon izrijekom dopušta -</a:t>
            </a: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 npr. rad na određeno vrijeme s istim radnikom u trajanju dužem od 3 godi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hr-HR" sz="2800" spc="-1" strike="noStrike">
                <a:solidFill>
                  <a:srgbClr val="ff0000"/>
                </a:solidFill>
                <a:latin typeface="Calibri"/>
              </a:rPr>
              <a:t>VAŽNO: </a:t>
            </a:r>
            <a:r>
              <a:rPr b="1" lang="hr-HR" sz="2800" spc="-1" strike="noStrike">
                <a:solidFill>
                  <a:srgbClr val="002060"/>
                </a:solidFill>
                <a:latin typeface="Calibri"/>
              </a:rPr>
              <a:t>K.U. ne smije biti suprotan prisilnim propisima, Ustavu i moralu društva</a:t>
            </a: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 – odredbe obveznog prava o ništetnosti ugovor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900" spc="-1" strike="noStrike">
                <a:solidFill>
                  <a:srgbClr val="002060"/>
                </a:solidFill>
                <a:latin typeface="Calibri"/>
              </a:rPr>
              <a:t>PRIMJENA ZA RADNIKA NAJPOVOLJNIJEG PRAVA</a:t>
            </a:r>
            <a:br>
              <a:rPr sz="2900"/>
            </a:br>
            <a:r>
              <a:rPr b="1" lang="hr-HR" sz="2900" spc="-1" strike="noStrike">
                <a:solidFill>
                  <a:srgbClr val="002060"/>
                </a:solidFill>
                <a:latin typeface="Calibri"/>
              </a:rPr>
              <a:t>U USTANOVAMA SOCIJALNE SKRBI</a:t>
            </a:r>
            <a:endParaRPr b="0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675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8252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000" spc="-1" strike="noStrike">
                <a:solidFill>
                  <a:srgbClr val="002060"/>
                </a:solidFill>
                <a:latin typeface="Calibri"/>
              </a:rPr>
              <a:t>Čl. 7. st. 3. Zakona o rad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   “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Ako je neko pravo iz radnog odnosa različito uređeno ugovorom o radu, pravilnikom o radu, sporazumom radničkog vijeća i poslodavca, kolektivnim ugovorom ili zakonom, primjenjuje se za radnika najpovoljnije pravo, osim ako ovim ili posebnim zakonom nije drugačije određeno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2 KOLEKTIVNA UGOVORA + DRUGI IZVOR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KAKO ODREDITI ZA RADNIKA NAJPOVOLJNIJE PRAV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- u odnosu na druge izvore radnog prava koji obvezuju poslodav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- u odnosu na dva kolektivna ugovora koji obvezuju ustanovu socijalne skrbi, za svako pojedinačno pravo odrediti koji kolektivni ugovor je za određenog radnika najpovoljni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2060"/>
                </a:solidFill>
                <a:latin typeface="Calibri"/>
              </a:rPr>
              <a:t>Odnos TKU za javne službe i granskih ugovora javnih službi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Prijelazne odredbe TKU za javne slu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- obveza usklađivanja granskih kolektivnih ugovora s novim TKU za javne služ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-  </a:t>
            </a: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rok : 30 dana, tj. istekao je još 11. siječnja 2013. god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Obveza primjene za radnika povoljnijeg 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Iznimka: regres i božićnica, zbog primjene Zakona o uskrati isplate pojedinih materijalnih prava zaposlenima u javnim službama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 (NN 143/12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684000" y="1600200"/>
            <a:ext cx="81356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IZBOR IZ SADRŽAJA  VAŽEĆIH KOLEKTIVNIH UGOVOR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Godišnji odmor u trajanju dužem od minimalno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Dodaci na plać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Posebna zaštita određenih radn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Naknade troškova koji radniku nastaju u vezi s obavljanjem poslova za poslodav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libri"/>
              </a:rPr>
              <a:t>Nagrade, potpore i otpremn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2060"/>
                </a:solidFill>
                <a:latin typeface="Calibri"/>
              </a:rPr>
              <a:t>OBVEZE USTANOVA SOCIJALNE SKRBI UREĐENE KOLEKTIVNIM UGOVORIMA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9T05:58:50Z</dcterms:created>
  <dc:creator>Miljenka</dc:creator>
  <dc:description/>
  <dc:language>en-US</dc:language>
  <cp:lastModifiedBy>toni</cp:lastModifiedBy>
  <dcterms:modified xsi:type="dcterms:W3CDTF">2013-05-23T09:28:12Z</dcterms:modified>
  <cp:revision>165</cp:revision>
  <dc:subject/>
  <dc:title>PowerPointova prezentacija</dc:title>
</cp:coreProperties>
</file>