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</p:sldIdLst>
  <p:sldSz cx="9144000" cy="6858000"/>
  <p:notesSz cx="6919913" cy="10047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EF055-7E69-48CF-A80B-CEF30BC39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2B11D-8B50-4CD6-B26C-90AC27715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75D5DA6-1A68-4580-83FE-FD85B3DB77F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80DB156-89C9-43B0-B390-93A0552A6E1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8694A6C-E541-4080-BF52-2BBEA2BFFB7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28C7BE0-8C15-4EC9-82A9-C7829DD1817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C280825-2D63-46DF-AC8C-43A9CC8AE47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A60862-A2EA-4939-A96D-447B80CAD81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36404C3-D291-42E3-8C12-4E1C1D20113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990C7DE-E573-4D85-A635-B0DD6DD5797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26963ED-48D4-48E9-AF95-F6EAC8E4D24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57E02-A150-4F8E-A268-0FB0EF3AA4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DD73D-4E03-4919-8DC8-D9EBA7C6A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A290D-09DE-47CD-96F6-29D79F8F7D0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7E44B-FDEE-4EDF-97D7-C832C9A749A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C51E92-C9BE-44D4-B87D-BFD9DE0C59D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2147F-0C1C-4E22-BA45-74AC607DA23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0C3FAA-4A7C-4E4A-8AAD-3F57A6EBB9F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236B13-BCA3-43E6-8A5A-0103276D9BF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E3269-B5E1-4220-A53F-362581D0411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36000-CFED-4B5C-9EE0-F45C412ACCA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108EB1-2C06-4180-83BC-F782ACAA86E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6A93ED-6E58-4BC9-8973-6D31D4105E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ACCAC-30AD-417A-9965-78BFE8C78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4C85B-B659-4643-8EB9-9DC203A0CB7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B9E754-CE76-48AE-A950-D5B5B3FF1E3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6FB4D1-FE6E-4621-A283-7EF22E3960E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F6968F-684A-47F1-ACCB-C38A0DBA3B5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9BA1A0-CF9A-4449-8370-30E506075B5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FA06DF-5350-464B-8F6F-307D8B6C77E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FC721C-2285-459D-8C82-774FE10ED60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DC3DB0-F1C3-4D17-B948-08C7E73D4D21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3F8E6F-341E-4536-8C38-29828DF579B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466F0E-3526-4398-AD69-ADB71DBC40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4DF601-E8BB-4DD5-801B-A05F32E3625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844268-8504-48C1-8041-7B5C861BF25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6C7AF4-77CF-4A53-8F38-300CA556711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CB8C4A-AD9D-4536-B697-9D04F263CE7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F94D8A-DBFE-4F1D-AEB8-292041C531B8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2B35DA-78E7-436D-8F4F-1834838305F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7CAAB1-0B12-400A-84B5-D91597FAC69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87BDEA-2E0C-4142-B762-026B316049B0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4CD517-581A-4E27-8220-0DFD66133CD4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220BE0-1680-498D-A8D0-ED1FF611ACE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074F1E-80F5-416A-9476-80807424799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784F71-4219-4002-B1B2-089116DB8014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099055-DF6A-4589-93F0-DFE9C904343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1C2CE1-B50B-4647-9CD4-EDF38C52EB97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B82DB3-FB29-48E3-89B8-C7FC35CCA3E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EE450A-3EA4-4195-8BC9-0761914DEE4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0F772F-7FE4-4952-B532-DDA97092B5C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D92C99-CA49-4EF0-966D-B7322D7A3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5138DA-52D4-4171-AD26-18BFE8915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72CDFC-67C4-46A8-ADC7-E4314E13F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2F32D9-F4FC-4B72-BB0B-237A40198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FFBCF7-8C75-48A2-84CB-E3AD273D7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A9AC83-B851-48DF-A4B8-ED720E85CE60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AF9A56-F1F4-4CDA-AEAA-93439C2EF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C9CC2A-E772-4DCD-B911-40D318D9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4A7F29-F4BD-423D-B32F-9C24A292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C27FEF-C2F1-42E5-8D02-430C0769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45468F-86C0-45D0-98CD-622B549BF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A69AF5-F07B-407E-B0EF-EB906CBF6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0DE691-19F5-44B8-9F77-C3E15AEFB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EC91C9-239A-4A2F-9558-A7004611C5C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5B5EFB-B568-42CE-BBAE-B6D6A6B2170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1F7F96-61D8-4A15-AC9E-79F4CF560D8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115651-AA1E-40BC-8CBB-CE3B0D5BFD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A2D23-54D8-44D2-AAF8-8CC9558A6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F3EC6D-299F-4F51-8E0A-1B93EA9D223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31D731-4434-4A60-B6D6-7C71CA165B6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F3AB6F-9D21-4049-9732-5AB3ACA0F18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4D9A82-527C-46D3-883D-27705C7F2E8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457A25-845B-4982-9A9F-B294B2668BC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DCFEFE-E74D-4A58-87B7-7272758D72E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DCB234-8F43-481B-AEDE-367A99242E6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09216F-1BA5-4486-8A97-A5865334ABE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003456-E6AE-4BE9-995C-CC4C486CE12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B0630C-E557-4625-BBB4-EE53399F9E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450E8-72FF-4AF5-B810-1D5866382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9F20BC-D20C-4325-B612-5CEB26877BB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CDDCFF-8BDF-42B4-83DF-1A93E6C59CA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4DFBF7-CA1B-46CE-9694-4A8D49EE88F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039C36-0541-4CBD-9A28-164CBD04427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667E01-C91D-4953-9551-292A9DAB443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B947EE-5DE6-4758-9505-6E027CD44EA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43BAF7-8975-476E-B981-D6797C3ACDA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2460E-DA46-4433-8858-A92B8E99F64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C2B4B-0CD4-441F-B783-2ADACE63FBF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22136-3F64-4102-942F-A525F9D583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29A24-C452-41E8-AFA0-7CF0E4909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947CC-CC35-42B3-862C-FC838D45B9C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2E73D-D73F-4B5B-845F-A98B40BE421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5627E-FAF1-4F72-9288-3D5FD118333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02F47-9F4F-4C91-9DC5-21AFAD85F3B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5B744-DB9C-40C6-BA62-6F134182EAE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8C2A9-5237-4D8B-B1CF-1819B2CB8CF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18922-2049-4BE3-B1C7-58776ED995D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042B6-82E1-4C17-93C3-68618403729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A445C-9EA4-4AE7-96EE-D03C181EAC4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26116B-5321-4AF6-AFC7-0E50F64462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A8D31-11DB-4915-B550-8E804E5F9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A4F865-75BB-4240-85FA-EFAD86E01A2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DE5454-212E-44CA-B400-6CD6704016A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4AF661-F01E-4303-8F29-03DFC871A9F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621A4E-6F67-4684-9D34-4D4F89D43A3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2F66AA-CBB3-4380-8EDA-863DD6869E0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4C81C5-77AD-4218-A7EB-72F4431F7C4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7DB79A-03A2-42FE-BB38-225F0ACE026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A79389-5754-4CC8-9055-2F5BE8A22EE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2AEA34-14B3-4AD8-B2E5-1F91E4742FC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0D3F4A-634D-4F93-88BC-B66ACE1D80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C49DC-2361-431C-AD3B-0D2D83971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FD6F84-0841-41AE-A656-52F4519A43D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7DA8B8-1A40-491D-B9F1-B18FDB847E9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2324EF-3690-4479-B7A6-D369A05BCE7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3D33F6-6082-455E-B4CD-FC2245FBAAA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71E0A7-2693-4063-BC7B-1C26F3AB706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CB85B5-1915-4930-9F1B-7988725B179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012656-F4B7-4D6D-BD80-D8ADCDAE772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C8DB54-FFBB-4526-8472-46B3CEFF5A7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4BA933-CF4F-4ACC-9919-8F31C5C023C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9CB6695-DB31-4AEE-BC9D-EDC0AA1C3E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36B2D-9D10-4E96-8C3E-4617721F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29B4D9-9361-4E1C-9D8B-F523E5B9B18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A415F6-845F-44A0-A349-28830FCFA49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DEB153-239B-411A-A6BF-381B12BBD25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2E09FC-4639-4188-85C9-E29F0E98B7E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4C21A-5DF4-4570-815D-4FB076C50F2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73507-A9D1-46CF-A264-876FD31AC1F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DDA17-6FAD-4F0F-BCA1-EF413A633AD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7B905-5B22-4112-94D1-031964BB344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1A106-02A9-4FEC-87AE-2154C5097CD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DFBE4-D752-4FF3-B7C5-0F6C677F28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13B31-C145-4191-B05C-E3B02C7D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83B84-42FA-4903-BA71-8656A4901F7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B4B20-D0DC-4604-AD27-ECC91FBF7E7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1C474-AC11-4D8D-AB6B-CA0AA8F5901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703AA-4D4F-4400-99C3-A8DA36B2253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92116-AD3D-45CD-A9D0-7D2E2CD5B51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334917-AC64-4E0F-8E3E-D22746E3EE8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38AF5D-6DD9-4BFE-8865-C268419F71F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1AE431-73F9-41D1-A627-22DB696B441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290478-FB90-42DF-946E-40615AB65F4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0A08DF-9EE9-46A8-A8C7-09245A3D36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B11F7-3128-48EA-86CB-E4F5FD7C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E0D82F-D8DE-4208-94D8-27A104F979D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7A500B-70F0-4143-A2A9-B2BE22F3F89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0FF243-F05C-4934-B994-59B30D6E14C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B7C721-CA26-4752-98DE-E1F709D19B7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413E29-97CF-4498-BD59-F59734A2ECE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1A722B-A3A2-4F63-A385-C7D2CEF4A03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245FFF-FA98-43C8-8111-2387FE77DE1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AEDBDC-F8E5-44EA-996A-60D31AFFBC2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28AFB66-9E70-4BE5-8DA2-628D02AA341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E53695B-3CC2-419F-AE3A-2D08A20997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30080" indent="-182520">
              <a:spcBef>
                <a:spcPts val="601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004760" indent="-18252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187280" indent="-13644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68000" y="18720"/>
            <a:ext cx="777564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316720" y="18720"/>
            <a:ext cx="7189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5633F-76E8-4016-9BC6-DB5E4D774BC4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8100720" y="6492960"/>
            <a:ext cx="104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2" descr=""/>
          <p:cNvPicPr/>
          <p:nvPr/>
        </p:nvPicPr>
        <p:blipFill>
          <a:blip r:embed="rId2"/>
          <a:stretch/>
        </p:blipFill>
        <p:spPr>
          <a:xfrm>
            <a:off x="0" y="6151680"/>
            <a:ext cx="826920" cy="70632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30080" indent="-182520">
              <a:spcBef>
                <a:spcPts val="601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004760" indent="-18252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187280" indent="-13644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ftr" idx="20"/>
          </p:nvPr>
        </p:nvSpPr>
        <p:spPr>
          <a:xfrm>
            <a:off x="468000" y="18720"/>
            <a:ext cx="777564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sldNum" idx="21"/>
          </p:nvPr>
        </p:nvSpPr>
        <p:spPr>
          <a:xfrm>
            <a:off x="8316720" y="18720"/>
            <a:ext cx="7189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7D53C-85C0-4E2A-A69E-59FB5F1900CB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2" descr=""/>
          <p:cNvPicPr/>
          <p:nvPr/>
        </p:nvPicPr>
        <p:blipFill>
          <a:blip r:embed="rId2"/>
          <a:stretch/>
        </p:blipFill>
        <p:spPr>
          <a:xfrm>
            <a:off x="0" y="6151680"/>
            <a:ext cx="826920" cy="70632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30080" indent="-182520">
              <a:spcBef>
                <a:spcPts val="601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004760" indent="-18252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187280" indent="-13644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ftr" idx="22"/>
          </p:nvPr>
        </p:nvSpPr>
        <p:spPr>
          <a:xfrm>
            <a:off x="468000" y="18720"/>
            <a:ext cx="777564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sldNum" idx="23"/>
          </p:nvPr>
        </p:nvSpPr>
        <p:spPr>
          <a:xfrm>
            <a:off x="8316720" y="18720"/>
            <a:ext cx="7189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3130C-89AD-43DF-BE03-8AFF52668D85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2" descr=""/>
          <p:cNvPicPr/>
          <p:nvPr/>
        </p:nvPicPr>
        <p:blipFill>
          <a:blip r:embed="rId2"/>
          <a:stretch/>
        </p:blipFill>
        <p:spPr>
          <a:xfrm>
            <a:off x="0" y="6151680"/>
            <a:ext cx="826920" cy="70632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30080" indent="-182520">
              <a:spcBef>
                <a:spcPts val="601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004760" indent="-18252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187280" indent="-13644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ftr" idx="24"/>
          </p:nvPr>
        </p:nvSpPr>
        <p:spPr>
          <a:xfrm>
            <a:off x="468000" y="18720"/>
            <a:ext cx="777564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sldNum" idx="25"/>
          </p:nvPr>
        </p:nvSpPr>
        <p:spPr>
          <a:xfrm>
            <a:off x="8316720" y="18720"/>
            <a:ext cx="7189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4FC81-63FD-4A22-B139-24450B1ABB77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30080" indent="-182520">
              <a:spcBef>
                <a:spcPts val="601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004760" indent="-18252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187280" indent="-13644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26"/>
          </p:nvPr>
        </p:nvSpPr>
        <p:spPr>
          <a:xfrm>
            <a:off x="8100720" y="6492960"/>
            <a:ext cx="104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27"/>
          </p:nvPr>
        </p:nvSpPr>
        <p:spPr>
          <a:xfrm>
            <a:off x="468000" y="18720"/>
            <a:ext cx="777564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28"/>
          </p:nvPr>
        </p:nvSpPr>
        <p:spPr>
          <a:xfrm>
            <a:off x="8316720" y="18720"/>
            <a:ext cx="7189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4634E-0191-4925-8E06-8594EFCB0259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0" y="6151680"/>
            <a:ext cx="826920" cy="706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30080" indent="-182520">
              <a:spcBef>
                <a:spcPts val="601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004760" indent="-18252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187280" indent="-13644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468000" y="18720"/>
            <a:ext cx="777564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316720" y="18720"/>
            <a:ext cx="7189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117CF-9ACA-4242-A0AB-D045DC3764A0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0" y="6151680"/>
            <a:ext cx="826920" cy="7063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30080" indent="-182520">
              <a:spcBef>
                <a:spcPts val="601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004760" indent="-18252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187280" indent="-13644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6"/>
          </p:nvPr>
        </p:nvSpPr>
        <p:spPr>
          <a:xfrm>
            <a:off x="468000" y="18720"/>
            <a:ext cx="777564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7"/>
          </p:nvPr>
        </p:nvSpPr>
        <p:spPr>
          <a:xfrm>
            <a:off x="8316720" y="18720"/>
            <a:ext cx="7189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708AE-CD76-42FF-9B3E-015E74944A8D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2"/>
          <a:stretch/>
        </p:blipFill>
        <p:spPr>
          <a:xfrm>
            <a:off x="0" y="6151680"/>
            <a:ext cx="826920" cy="7063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730080" indent="-182520">
              <a:spcBef>
                <a:spcPts val="601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3644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8"/>
          </p:nvPr>
        </p:nvSpPr>
        <p:spPr>
          <a:xfrm>
            <a:off x="468000" y="18720"/>
            <a:ext cx="777564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9"/>
          </p:nvPr>
        </p:nvSpPr>
        <p:spPr>
          <a:xfrm>
            <a:off x="8316720" y="18720"/>
            <a:ext cx="7189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629AF-608C-4522-9048-31A2B047FF9C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2"/>
          <a:stretch/>
        </p:blipFill>
        <p:spPr>
          <a:xfrm>
            <a:off x="0" y="6151680"/>
            <a:ext cx="826920" cy="70632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30080" indent="-182520">
              <a:spcBef>
                <a:spcPts val="601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004760" indent="-18252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187280" indent="-13644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10"/>
          </p:nvPr>
        </p:nvSpPr>
        <p:spPr>
          <a:xfrm>
            <a:off x="468000" y="18720"/>
            <a:ext cx="777564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1"/>
          </p:nvPr>
        </p:nvSpPr>
        <p:spPr>
          <a:xfrm>
            <a:off x="8316720" y="18720"/>
            <a:ext cx="7189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69120-B50B-4623-A5A3-9BEB974B6A49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2"/>
          <a:stretch/>
        </p:blipFill>
        <p:spPr>
          <a:xfrm>
            <a:off x="0" y="6151680"/>
            <a:ext cx="826920" cy="70632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30080" indent="-182520">
              <a:spcBef>
                <a:spcPts val="601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004760" indent="-18252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187280" indent="-13644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ftr" idx="12"/>
          </p:nvPr>
        </p:nvSpPr>
        <p:spPr>
          <a:xfrm>
            <a:off x="468000" y="18720"/>
            <a:ext cx="777564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sldNum" idx="13"/>
          </p:nvPr>
        </p:nvSpPr>
        <p:spPr>
          <a:xfrm>
            <a:off x="8316720" y="18720"/>
            <a:ext cx="7189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C0F7A-0CA9-4AF7-A271-6EAE97052BEB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8" descr=""/>
          <p:cNvPicPr/>
          <p:nvPr/>
        </p:nvPicPr>
        <p:blipFill>
          <a:blip r:embed="rId2"/>
          <a:stretch/>
        </p:blipFill>
        <p:spPr>
          <a:xfrm>
            <a:off x="0" y="6151680"/>
            <a:ext cx="826920" cy="70632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30080" indent="-182520">
              <a:spcBef>
                <a:spcPts val="601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004760" indent="-18252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187280" indent="-13644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ftr" idx="14"/>
          </p:nvPr>
        </p:nvSpPr>
        <p:spPr>
          <a:xfrm>
            <a:off x="468000" y="18720"/>
            <a:ext cx="777564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sldNum" idx="15"/>
          </p:nvPr>
        </p:nvSpPr>
        <p:spPr>
          <a:xfrm>
            <a:off x="8316720" y="18720"/>
            <a:ext cx="7189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E6272-8F47-4D65-A9A7-46196E4ED2A6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2" descr=""/>
          <p:cNvPicPr/>
          <p:nvPr/>
        </p:nvPicPr>
        <p:blipFill>
          <a:blip r:embed="rId2"/>
          <a:stretch/>
        </p:blipFill>
        <p:spPr>
          <a:xfrm>
            <a:off x="0" y="6151680"/>
            <a:ext cx="826920" cy="70632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30080" indent="-182520">
              <a:spcBef>
                <a:spcPts val="601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004760" indent="-18252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187280" indent="-13644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ftr" idx="16"/>
          </p:nvPr>
        </p:nvSpPr>
        <p:spPr>
          <a:xfrm>
            <a:off x="468000" y="18720"/>
            <a:ext cx="777564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sldNum" idx="17"/>
          </p:nvPr>
        </p:nvSpPr>
        <p:spPr>
          <a:xfrm>
            <a:off x="8316720" y="18720"/>
            <a:ext cx="7189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8FF4E-6A9E-4AE2-B14B-6B68B918234E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2" descr=""/>
          <p:cNvPicPr/>
          <p:nvPr/>
        </p:nvPicPr>
        <p:blipFill>
          <a:blip r:embed="rId2"/>
          <a:stretch/>
        </p:blipFill>
        <p:spPr>
          <a:xfrm>
            <a:off x="0" y="6151680"/>
            <a:ext cx="826920" cy="70632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30080" indent="-182520">
              <a:spcBef>
                <a:spcPts val="601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004760" indent="-18252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187280" indent="-13644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ftr" idx="18"/>
          </p:nvPr>
        </p:nvSpPr>
        <p:spPr>
          <a:xfrm>
            <a:off x="468000" y="18720"/>
            <a:ext cx="777564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sldNum" idx="19"/>
          </p:nvPr>
        </p:nvSpPr>
        <p:spPr>
          <a:xfrm>
            <a:off x="8316720" y="18720"/>
            <a:ext cx="7189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85960-E5B1-4A48-A2DA-1F8C22DE3EC4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848720" cy="24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1f497d"/>
                </a:solidFill>
                <a:latin typeface="Calibri"/>
              </a:rPr>
              <a:t>PRIMJENA KOLEKTIVNIH UGOVORA U USTANOVAMA  SOCIJALNE SKRBI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685440" y="3504960"/>
            <a:ext cx="7846920" cy="27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dr. sc. Marija Zub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savjetnica-urednica, HZ Ri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Primošten, 23. svibnja 2013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2060"/>
                </a:solidFill>
                <a:latin typeface="Calibri"/>
              </a:rPr>
              <a:t>PRAVO RADNIKA NA GODIŠNJI ODMOR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860436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MINIMALNO TRAJANJE GODIŠNJEG ODMORA PO ZR-u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najmanje 4 tjedna – čl. 55. Zakona o rad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invalidi – najmanje 24 radna dana </a:t>
            </a: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(Zakon o profesionalnoj rehabilitaciji i zapošljavanju osoba s invaliditeto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blagdani i razdoblja bolovanja se ne uračunavaju u trajanje godišnjeg odmo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POGODNOSTI IZ KOLEKTVNIH UGOVOR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70000"/>
              </a:lnSpc>
              <a:spcBef>
                <a:spcPts val="601"/>
              </a:spcBef>
              <a:buClr>
                <a:srgbClr val="4f81bd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dužina godišnjeg odmora: na početnih </a:t>
            </a:r>
            <a:r>
              <a:rPr b="1" lang="hr-HR" sz="2400" spc="-1" strike="noStrike">
                <a:solidFill>
                  <a:srgbClr val="ff0000"/>
                </a:solidFill>
                <a:latin typeface="Calibri"/>
              </a:rPr>
              <a:t>20 dana </a:t>
            </a: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dodaju se dani prema kriterijima: dužina radnog staža, složenost poslova, socijalni uvjeti, uvjeti rada, posebni uvjeti rada – </a:t>
            </a:r>
            <a:r>
              <a:rPr b="1" lang="hr-HR" sz="2400" spc="-1" strike="noStrike">
                <a:solidFill>
                  <a:srgbClr val="ff0000"/>
                </a:solidFill>
                <a:latin typeface="Calibri"/>
              </a:rPr>
              <a:t>najviše 32 dana</a:t>
            </a: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, a radnici kojima nedostaje do 5 godina do uvjeta za starosnu mirovinu - </a:t>
            </a:r>
            <a:r>
              <a:rPr b="1" lang="hr-HR" sz="2400" spc="-1" strike="noStrike">
                <a:solidFill>
                  <a:srgbClr val="ff0000"/>
                </a:solidFill>
                <a:latin typeface="Calibri"/>
              </a:rPr>
              <a:t>najviše 35 d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70000"/>
              </a:lnSpc>
              <a:spcBef>
                <a:spcPts val="601"/>
              </a:spcBef>
              <a:buClr>
                <a:srgbClr val="4f81bd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radnik kojem radni odnos prestaje prije 1. srpnja zbog odlaska u mirovinu – pravo na puni godišnji odmor za tekuću godin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70000"/>
              </a:lnSpc>
              <a:spcBef>
                <a:spcPts val="601"/>
              </a:spcBef>
              <a:buClr>
                <a:srgbClr val="4f81bd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subote i nedjelje se ne uračunavaju u trajanje godišnjeg odmo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2060"/>
                </a:solidFill>
                <a:latin typeface="Calibri"/>
              </a:rPr>
              <a:t>Plaće zaposlenih u ustanovama socijalne skrbi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ff0000"/>
                </a:solidFill>
                <a:latin typeface="Calibri"/>
              </a:rPr>
              <a:t>OD 1. OŽUJKA 2013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ff0000"/>
                </a:solidFill>
                <a:latin typeface="Calibri"/>
              </a:rPr>
              <a:t>NOVA </a:t>
            </a:r>
            <a:r>
              <a:rPr b="1" lang="hr-HR" sz="2800" spc="-1" strike="noStrike">
                <a:solidFill>
                  <a:srgbClr val="002060"/>
                </a:solidFill>
                <a:latin typeface="Calibri"/>
              </a:rPr>
              <a:t>Uredba o nazivima radnih mjesta i koeficijentima složenosti poslova u javnim službama, </a:t>
            </a:r>
            <a:r>
              <a:rPr b="0" lang="hr-HR" sz="2800" spc="-1" strike="noStrike">
                <a:solidFill>
                  <a:srgbClr val="002060"/>
                </a:solidFill>
                <a:latin typeface="Calibri"/>
              </a:rPr>
              <a:t>NN 25/13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060"/>
                </a:solidFill>
                <a:latin typeface="Calibri"/>
              </a:rPr>
              <a:t>smanjeni koeficijen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Calibri"/>
              </a:rPr>
              <a:t>Osnovica </a:t>
            </a:r>
            <a:r>
              <a:rPr b="1" lang="hr-HR" sz="2800" spc="-1" strike="noStrike">
                <a:solidFill>
                  <a:srgbClr val="002060"/>
                </a:solidFill>
                <a:latin typeface="Calibri"/>
              </a:rPr>
              <a:t>za obračun plaća u državnim i javnim službama </a:t>
            </a:r>
            <a:r>
              <a:rPr b="0" lang="hr-HR" sz="2800" spc="-1" strike="noStrike">
                <a:solidFill>
                  <a:srgbClr val="002060"/>
                </a:solidFill>
                <a:latin typeface="Calibri"/>
              </a:rPr>
              <a:t>- </a:t>
            </a:r>
            <a:r>
              <a:rPr b="1" lang="hr-HR" sz="2800" spc="-1" strike="noStrike">
                <a:solidFill>
                  <a:srgbClr val="002060"/>
                </a:solidFill>
                <a:latin typeface="Calibri"/>
              </a:rPr>
              <a:t>mjesečno u bruto svoti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060"/>
                </a:solidFill>
                <a:latin typeface="Calibri"/>
              </a:rPr>
              <a:t>                                        </a:t>
            </a:r>
            <a:r>
              <a:rPr b="1" lang="hr-HR" sz="2800" spc="-1" strike="noStrike">
                <a:solidFill>
                  <a:srgbClr val="002060"/>
                </a:solidFill>
                <a:latin typeface="Calibri"/>
              </a:rPr>
              <a:t>5.108,84 k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2060"/>
                </a:solidFill>
                <a:latin typeface="Calibri"/>
              </a:rPr>
              <a:t>DODACI NA PLAĆU</a:t>
            </a:r>
            <a:r>
              <a:rPr b="0" lang="hr-HR" sz="36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7859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1f497d"/>
                </a:solidFill>
                <a:latin typeface="Calibri"/>
              </a:rPr>
              <a:t>DODACI NA OSNOVNU PLAĆU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rad noću </a:t>
            </a:r>
            <a:r>
              <a:rPr b="1" lang="hr-HR" sz="2400" spc="-1" strike="noStrike">
                <a:solidFill>
                  <a:srgbClr val="ff0000"/>
                </a:solidFill>
                <a:latin typeface="Calibri"/>
              </a:rPr>
              <a:t>+ 4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prekovremeni rad </a:t>
            </a:r>
            <a:r>
              <a:rPr b="1" lang="hr-HR" sz="2400" spc="-1" strike="noStrike">
                <a:solidFill>
                  <a:srgbClr val="ff0000"/>
                </a:solidFill>
                <a:latin typeface="Calibri"/>
              </a:rPr>
              <a:t>+ 50%</a:t>
            </a:r>
            <a:r>
              <a:rPr b="0" lang="hr-HR" sz="2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rad subotom </a:t>
            </a:r>
            <a:r>
              <a:rPr b="1" lang="hr-HR" sz="2400" spc="-1" strike="noStrike">
                <a:solidFill>
                  <a:srgbClr val="ff0000"/>
                </a:solidFill>
                <a:latin typeface="Calibri"/>
              </a:rPr>
              <a:t>+ 25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rad nedjeljom </a:t>
            </a:r>
            <a:r>
              <a:rPr b="1" lang="hr-HR" sz="2400" spc="-1" strike="noStrike">
                <a:solidFill>
                  <a:srgbClr val="ff0000"/>
                </a:solidFill>
                <a:latin typeface="Calibri"/>
              </a:rPr>
              <a:t>+ 35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rad blagdanom </a:t>
            </a:r>
            <a:r>
              <a:rPr b="1" lang="hr-HR" sz="2400" spc="-1" strike="noStrike">
                <a:solidFill>
                  <a:srgbClr val="ff0000"/>
                </a:solidFill>
                <a:latin typeface="Calibri"/>
              </a:rPr>
              <a:t>+ 150%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smjenski rad </a:t>
            </a:r>
            <a:r>
              <a:rPr b="1" lang="hr-HR" sz="2400" spc="-1" strike="noStrike">
                <a:solidFill>
                  <a:srgbClr val="ff0000"/>
                </a:solidFill>
                <a:latin typeface="Calibri"/>
              </a:rPr>
              <a:t>+ 1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17375e"/>
                </a:solidFill>
                <a:latin typeface="Calibri"/>
              </a:rPr>
              <a:t>povećanje plaće za dvokratni rad</a:t>
            </a:r>
            <a:r>
              <a:rPr b="0" lang="hr-HR" sz="2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hr-HR" sz="2400" spc="-1" strike="noStrike">
                <a:solidFill>
                  <a:srgbClr val="ff0000"/>
                </a:solidFill>
                <a:latin typeface="Calibri"/>
              </a:rPr>
              <a:t>+ 1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17375e"/>
                </a:solidFill>
                <a:latin typeface="Calibri"/>
              </a:rPr>
              <a:t>dodaci za uvjete rada </a:t>
            </a:r>
            <a:r>
              <a:rPr b="1" lang="hr-HR" sz="2400" spc="-1" strike="noStrike">
                <a:solidFill>
                  <a:srgbClr val="1f497d"/>
                </a:solidFill>
                <a:latin typeface="Calibri"/>
              </a:rPr>
              <a:t>– </a:t>
            </a:r>
            <a:r>
              <a:rPr b="1" lang="hr-HR" sz="2400" spc="-1" strike="noStrike">
                <a:solidFill>
                  <a:srgbClr val="ff0000"/>
                </a:solidFill>
                <a:latin typeface="Calibri"/>
              </a:rPr>
              <a:t>od +10% do +25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1f497d"/>
                </a:solidFill>
                <a:latin typeface="Calibri"/>
              </a:rPr>
              <a:t>Novi i povećani dodaci na plaće  u socijalnoj skrbi – od 1. siječnja 2013.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prema Kolektivnom ugovoru za djelatnost socijalne srbi - od 1. siječnja 2013. godine primjenjuju se tri povećana prava na dodatke u plaći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1</a:t>
            </a: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.   dodatak u plaći po osnovi radnog staža za 4%, 8% i 10% ostvaruje se </a:t>
            </a: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za ukupni radni staž </a:t>
            </a: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(ne više samo staž u ustanovama socijalne skrb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1" lang="hr-HR" sz="2400" spc="-1" strike="noStrike">
                <a:solidFill>
                  <a:srgbClr val="ff0000"/>
                </a:solidFill>
                <a:latin typeface="Calibri"/>
              </a:rPr>
              <a:t>(Osnovica: osnovna plaća + dodatak za uvjete rad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2.   </a:t>
            </a: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primjena čl. 59. kojim su </a:t>
            </a: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dodaci za uvjete rada </a:t>
            </a: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uređeni povoljnije od dodataka koji su se primjenjivali do kraja 2012. god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3.    naknada za pripravnost </a:t>
            </a: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uređena</a:t>
            </a: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 u dvostrukom iznosu </a:t>
            </a: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u odnosu na naknadu do 31. prosinca 2012. god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2060"/>
                </a:solidFill>
                <a:latin typeface="Calibri"/>
              </a:rPr>
              <a:t>POSEBNA ZAŠTITA RADNIKA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Čl. 76. KU socijalne skr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U slučaju smanjenja radne sposobnosti radnika utvrđene rješenjem nadležnog tijela</a:t>
            </a: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 i jednog od sljedećih uvjet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1. starost </a:t>
            </a: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– 5 godina pred starosnu mirovinu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2. profesionalna bolest</a:t>
            </a: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3. ozljeda na rad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Calibri"/>
              </a:rPr>
              <a:t>PRAVO RADNIK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povoljnija nor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bez smanjenja plaće koju je ostvarivao prije nastupa navedenih okolno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2060"/>
                </a:solidFill>
                <a:latin typeface="Calibri"/>
              </a:rPr>
              <a:t>NAKNADE TROŠKOVA RADNICIMA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684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1" lang="hr-HR" sz="2800" spc="-1" strike="noStrike">
                <a:solidFill>
                  <a:srgbClr val="002060"/>
                </a:solidFill>
                <a:latin typeface="Calibri"/>
              </a:rPr>
              <a:t>VRSTE TROŠKOV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i="1" lang="hr-HR" sz="2800" spc="-1" strike="noStrike">
                <a:solidFill>
                  <a:srgbClr val="002060"/>
                </a:solidFill>
                <a:latin typeface="Calibri"/>
              </a:rPr>
              <a:t>(ovisno o lokaciji poslodavca, poslu koji radnik obavlja, načinu obavljanja poslova, lokaciji na kojoj radnik radi, udaljenosti mjesta rada od mjesta stanovanja i dr.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060"/>
                </a:solidFill>
                <a:latin typeface="Calibri"/>
              </a:rPr>
              <a:t>naknade troškova koji su u vezi sa svakodnevnim obavljanjem poslova na radnom mjestu,</a:t>
            </a:r>
            <a:r>
              <a:rPr b="0" lang="hr-HR" sz="2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060"/>
                </a:solidFill>
                <a:latin typeface="Calibri"/>
              </a:rPr>
              <a:t>naknade troškova koji radniku nastaju iznimno, kad je po nalogu poslodavca upućen obaviti posao izvan uobičajenog mjesta rada</a:t>
            </a:r>
            <a:r>
              <a:rPr b="0" lang="hr-HR" sz="2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060"/>
                </a:solidFill>
                <a:latin typeface="Calibri"/>
              </a:rPr>
              <a:t>TKU za javne službe iz prosinca 2012.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Calibri"/>
              </a:rPr>
              <a:t>NOVO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Zabrana ugovaranja naknade troškova prijevoza u granskim kolektivnim ugovorima</a:t>
            </a:r>
            <a:r>
              <a:rPr b="1" lang="hr-HR" sz="2400" spc="-1" strike="noStrike">
                <a:solidFill>
                  <a:srgbClr val="ff0000"/>
                </a:solidFill>
                <a:latin typeface="Calibri"/>
              </a:rPr>
              <a:t>!!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odnosi se na ugovore koji se sklapaju nakon 12. prosinca 2012. god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ne utječe na pravnu valjanost odredbi o pravu na naknadu prijevoza u važećim granskim kolektivnim ugovorima javnih služb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2060"/>
                </a:solidFill>
                <a:latin typeface="Calibri"/>
              </a:rPr>
              <a:t>NAKNADA TROŠKOVA PRIJEVOZA NA POSAO I S POSLA</a:t>
            </a:r>
            <a:r>
              <a:rPr b="0" lang="hr-HR" sz="3600" spc="-1" strike="noStrike">
                <a:solidFill>
                  <a:srgbClr val="002060"/>
                </a:solidFill>
                <a:latin typeface="Calibri"/>
              </a:rPr>
              <a:t>  - </a:t>
            </a:r>
            <a:r>
              <a:rPr b="1" lang="hr-HR" sz="3600" spc="-1" strike="noStrike">
                <a:solidFill>
                  <a:srgbClr val="002060"/>
                </a:solidFill>
                <a:latin typeface="Calibri"/>
              </a:rPr>
              <a:t>primjena GKU socijalne skrbi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4360" y="1599840"/>
            <a:ext cx="8208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4f81bd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naknada troškova mjesnog prijevoza</a:t>
            </a: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 - ako radnik stanuje na udaljenosti većoj od 1 km od lokacije na kojoj rad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4f81bd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naknada troškova međumjesnog prijevoza - </a:t>
            </a: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ako radnik stanuje na udaljenosti do 100 km, a uz pristanak nadležnog ministarstva i ako stanuju na udaljenosti većoj od 100 k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NEOPOREZIVI IZNO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4f81bd"/>
              </a:buClr>
              <a:buSzPct val="8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U visini stvarnih troškova javnog prijevoz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4f81bd"/>
              </a:buClr>
              <a:buSzPct val="8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Ako na određenoj relaciji nema javnog prijevoza, a radniku objektivno nastaju troškovi prijevoza – u visini cijene javnog prijevoza na istoj ili sličnoj udaljeno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2060"/>
                </a:solidFill>
                <a:latin typeface="Calibri"/>
              </a:rPr>
              <a:t>TROŠKOVI SLUŽBENOG PUTOVANJA</a:t>
            </a:r>
            <a:r>
              <a:rPr b="0" lang="hr-HR" sz="36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26560" y="1988640"/>
            <a:ext cx="7859880" cy="44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700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060"/>
                </a:solidFill>
                <a:latin typeface="Calibri"/>
              </a:rPr>
              <a:t>Naknada troškova prijevoza na službenom pu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700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060"/>
                </a:solidFill>
                <a:latin typeface="Calibri"/>
              </a:rPr>
              <a:t>Naknada troškova noćen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700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060"/>
                </a:solidFill>
                <a:latin typeface="Calibri"/>
              </a:rPr>
              <a:t>Dnevnica za službeno putovanje</a:t>
            </a:r>
            <a:r>
              <a:rPr b="0" lang="hr-HR" sz="2800" spc="-1" strike="noStrike">
                <a:solidFill>
                  <a:srgbClr val="00206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0" lang="hr-HR" sz="2800" spc="-1" strike="noStrike">
                <a:solidFill>
                  <a:srgbClr val="002060"/>
                </a:solidFill>
                <a:latin typeface="Calibri"/>
              </a:rPr>
              <a:t>- u tuzemstv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0" lang="hr-HR" sz="2800" spc="-1" strike="noStrike">
                <a:solidFill>
                  <a:srgbClr val="002060"/>
                </a:solidFill>
                <a:latin typeface="Calibri"/>
              </a:rPr>
              <a:t>- u inozemstv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700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060"/>
                </a:solidFill>
                <a:latin typeface="Calibri"/>
              </a:rPr>
              <a:t>Ostali dokumentirani troškovi vezani uz izvršavanje poslova za poslodav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2060"/>
                </a:solidFill>
                <a:latin typeface="Calibri"/>
              </a:rPr>
              <a:t>Odnos TKU za javne službe i granskih ugovora javnih službi – zaključci od 30. siječnja 2013.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Povjerenstvo ovlašteno za tumačenje TKU za javne služb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Tumačenje br. 1/67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“…</a:t>
            </a: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.. </a:t>
            </a:r>
            <a:r>
              <a:rPr b="0" lang="vi-VN" sz="2400" spc="-1" strike="noStrike">
                <a:solidFill>
                  <a:srgbClr val="002060"/>
                </a:solidFill>
                <a:latin typeface="Arial"/>
              </a:rPr>
              <a:t>Dodatno napominjemo, da se sukladno članku 6. Dodatka I TKU-a (NN br. 141/12) </a:t>
            </a:r>
            <a:r>
              <a:rPr b="1" lang="vi-VN" sz="2400" spc="-1" strike="noStrike">
                <a:solidFill>
                  <a:srgbClr val="002060"/>
                </a:solidFill>
                <a:latin typeface="Arial"/>
              </a:rPr>
              <a:t>u djelatnostima u kojima pravo na naknadu za trošak prijevoza nije regulirano, primjenjuje pravo iz drugih granskih kolektivnih ugovora za javne službe u djelatnostima u kojima je regulirano pravo na naknadu za trošak prijevoza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8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IZVORI PRAVA ZAPOSLENIH U USTANOVAMA SOCIJALNE SKRBI KOJE SE FINANCIRAJU IZ PRORAČUNSKIH SREDSTAVA 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755640" y="2491920"/>
            <a:ext cx="813744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2060"/>
                </a:solidFill>
                <a:latin typeface="Arial"/>
              </a:rPr>
              <a:t>ZAKONI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70000"/>
              </a:lnSpc>
              <a:spcBef>
                <a:spcPts val="550"/>
              </a:spcBef>
              <a:buClr>
                <a:srgbClr val="ff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2060"/>
                </a:solidFill>
                <a:latin typeface="Arial"/>
              </a:rPr>
              <a:t>Zakon o radu, </a:t>
            </a:r>
            <a:r>
              <a:rPr b="0" lang="hr-HR" sz="2200" spc="-1" strike="noStrike">
                <a:solidFill>
                  <a:srgbClr val="002060"/>
                </a:solidFill>
                <a:latin typeface="Arial"/>
              </a:rPr>
              <a:t>NN 149/09., 61/11. i 82/12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70000"/>
              </a:lnSpc>
              <a:spcBef>
                <a:spcPts val="550"/>
              </a:spcBef>
              <a:buClr>
                <a:srgbClr val="ff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2060"/>
                </a:solidFill>
                <a:latin typeface="Arial"/>
              </a:rPr>
              <a:t>Zakon o socijalnoj skrbi, </a:t>
            </a:r>
            <a:r>
              <a:rPr b="0" lang="hr-HR" sz="2200" spc="-1" strike="noStrike">
                <a:solidFill>
                  <a:srgbClr val="002060"/>
                </a:solidFill>
                <a:latin typeface="Arial"/>
              </a:rPr>
              <a:t>NN</a:t>
            </a:r>
            <a:r>
              <a:rPr b="1" lang="hr-HR" sz="2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hr-HR" sz="2200" spc="-1" strike="noStrike">
                <a:solidFill>
                  <a:srgbClr val="002060"/>
                </a:solidFill>
                <a:latin typeface="Arial"/>
              </a:rPr>
              <a:t>33/12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70000"/>
              </a:lnSpc>
              <a:spcBef>
                <a:spcPts val="550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2060"/>
                </a:solidFill>
                <a:latin typeface="Arial"/>
              </a:rPr>
              <a:t>Zakon o plaćama u javnim službama</a:t>
            </a:r>
            <a:r>
              <a:rPr b="0" lang="hr-HR" sz="2200" spc="-1" strike="noStrike">
                <a:solidFill>
                  <a:srgbClr val="002060"/>
                </a:solidFill>
                <a:latin typeface="Arial"/>
              </a:rPr>
              <a:t>, NN 27/01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70000"/>
              </a:lnSpc>
              <a:spcBef>
                <a:spcPts val="550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2060"/>
                </a:solidFill>
                <a:latin typeface="Arial"/>
              </a:rPr>
              <a:t>Zakon o osnovicu plaće u javnim službama</a:t>
            </a:r>
            <a:r>
              <a:rPr b="0" lang="hr-HR" sz="2200" spc="-1" strike="noStrike">
                <a:solidFill>
                  <a:srgbClr val="002060"/>
                </a:solidFill>
                <a:latin typeface="Arial"/>
              </a:rPr>
              <a:t>, NN 39/09. i 124/09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70000"/>
              </a:lnSpc>
              <a:spcBef>
                <a:spcPts val="550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2060"/>
                </a:solidFill>
                <a:latin typeface="Arial"/>
              </a:rPr>
              <a:t>Zakon o minimalnoj plaći</a:t>
            </a:r>
            <a:r>
              <a:rPr b="0" lang="hr-HR" sz="2200" spc="-1" strike="noStrike">
                <a:solidFill>
                  <a:srgbClr val="002060"/>
                </a:solidFill>
                <a:latin typeface="Arial"/>
              </a:rPr>
              <a:t>, NN 39/13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2060"/>
                </a:solidFill>
                <a:latin typeface="Arial"/>
              </a:rPr>
              <a:t>______________________________________________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70000"/>
              </a:lnSpc>
              <a:spcBef>
                <a:spcPts val="55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2060"/>
                </a:solidFill>
                <a:latin typeface="Calibri"/>
              </a:rPr>
              <a:t>Socijalna prava iz radnog odnosa:</a:t>
            </a:r>
            <a:r>
              <a:rPr b="0" lang="hr-HR" sz="22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lang="hr-HR" sz="2200" spc="-1" strike="noStrike">
                <a:solidFill>
                  <a:srgbClr val="002060"/>
                </a:solidFill>
                <a:latin typeface="Calibri"/>
              </a:rPr>
              <a:t>- Zakon o osnovnom zdravstvenom osiguranj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lang="hr-HR" sz="2200" spc="-1" strike="noStrike">
                <a:solidFill>
                  <a:srgbClr val="002060"/>
                </a:solidFill>
                <a:latin typeface="Calibri"/>
              </a:rPr>
              <a:t>- Zakon o mirovinskom osiguranj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lang="hr-HR" sz="2200" spc="-1" strike="noStrike">
                <a:solidFill>
                  <a:srgbClr val="002060"/>
                </a:solidFill>
                <a:latin typeface="Calibri"/>
              </a:rPr>
              <a:t>- Zakon o posredovanju u zapošljavanju i pravima za vrije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2060"/>
                </a:solidFill>
                <a:latin typeface="Calibri"/>
              </a:rPr>
              <a:t>      </a:t>
            </a:r>
            <a:r>
              <a:rPr b="0" lang="hr-HR" sz="2200" spc="-1" strike="noStrike">
                <a:solidFill>
                  <a:srgbClr val="002060"/>
                </a:solidFill>
                <a:latin typeface="Calibri"/>
              </a:rPr>
              <a:t>nezaposlenost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70000"/>
              </a:lnSpc>
              <a:spcBef>
                <a:spcPts val="55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2060"/>
                </a:solidFill>
                <a:latin typeface="Calibri"/>
              </a:rPr>
              <a:t>Zakon o obveznim odnosima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hr-HR" sz="2800" spc="-1" strike="noStrike">
                <a:solidFill>
                  <a:srgbClr val="002060"/>
                </a:solidFill>
                <a:latin typeface="Calibri"/>
              </a:rPr>
              <a:t>DNEVNICA U ZEMLJI – </a:t>
            </a:r>
            <a:r>
              <a:rPr b="1" lang="hr-HR" sz="3200" spc="-1" strike="noStrike">
                <a:solidFill>
                  <a:srgbClr val="002060"/>
                </a:solidFill>
                <a:latin typeface="Calibri"/>
              </a:rPr>
              <a:t>170,00 ili 150,00 kn?</a:t>
            </a:r>
            <a:br>
              <a:rPr sz="3200"/>
            </a:br>
            <a:r>
              <a:rPr b="1" lang="hr-HR" sz="3200" spc="-1" strike="noStrike">
                <a:solidFill>
                  <a:srgbClr val="002060"/>
                </a:solidFill>
                <a:latin typeface="Calibri"/>
              </a:rPr>
              <a:t>O</a:t>
            </a:r>
            <a:r>
              <a:rPr b="1" lang="hr-HR" sz="2800" spc="-1" strike="noStrike">
                <a:solidFill>
                  <a:srgbClr val="002060"/>
                </a:solidFill>
                <a:latin typeface="Calibri"/>
              </a:rPr>
              <a:t>dnosi li se tumačenje Povjerenstva ovlaštenog za tumačenje TKU za javne službe </a:t>
            </a:r>
            <a:br>
              <a:rPr sz="2800"/>
            </a:br>
            <a:r>
              <a:rPr b="1" lang="hr-HR" sz="2800" spc="-1" strike="noStrike">
                <a:solidFill>
                  <a:srgbClr val="002060"/>
                </a:solidFill>
                <a:latin typeface="Calibri"/>
              </a:rPr>
              <a:t> i na dnevnice?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23640" y="2565000"/>
            <a:ext cx="8569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1" lang="hr-HR" sz="2400" spc="-1" strike="noStrike">
                <a:solidFill>
                  <a:srgbClr val="ff0000"/>
                </a:solidFill>
                <a:latin typeface="Calibri"/>
              </a:rPr>
              <a:t>TKU za javne slu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539640" y="3068640"/>
          <a:ext cx="7993080" cy="3362400"/>
        </p:xfrm>
        <a:graphic>
          <a:graphicData uri="http://schemas.openxmlformats.org/drawingml/2006/table">
            <a:tbl>
              <a:tblPr/>
              <a:tblGrid>
                <a:gridCol w="3600720"/>
                <a:gridCol w="1871640"/>
                <a:gridCol w="2520720"/>
              </a:tblGrid>
              <a:tr h="1154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zdoblje primje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una dnevni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znos dnevnice kad je osigurana prehra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 11. 12. 201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 12. 12. 2012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 31. 12. 201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 1. 1. 201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2060"/>
                </a:solidFill>
                <a:latin typeface="Calibri"/>
              </a:rPr>
              <a:t>NAKNADA TROŠKOVA SLUŽBENOG PUTOVANJA I PRAVO RADNIKA NA PLAĆU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060"/>
                </a:solidFill>
                <a:latin typeface="Calibri"/>
              </a:rPr>
              <a:t>Naknadom troškova radniku - poslodavac namiruje izdatke koje je radnik imao zbog obavljanja poslova ugovorenih ugovorom o radu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060"/>
                </a:solidFill>
                <a:latin typeface="Calibri"/>
              </a:rPr>
              <a:t>Isplata plaće – plaćanje izvršenog ra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Calibri"/>
              </a:rPr>
              <a:t>ISPLATA NAKNADE TROŠKOVA NIJE ZAMJENA ZA PRAVO NA PLAĆ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2060"/>
                </a:solidFill>
                <a:latin typeface="Calibri"/>
              </a:rPr>
              <a:t>NAGRADE, POTPORE I OTPREMNINE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7120" indent="-627120">
              <a:spcBef>
                <a:spcPts val="700"/>
              </a:spcBef>
              <a:buClr>
                <a:srgbClr val="ff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060"/>
                </a:solidFill>
                <a:latin typeface="Calibri"/>
              </a:rPr>
              <a:t>regres za godišnji odmor, božićnica, darovi djeci, jubilarne nagrade za određen broj godina rada u javnim službama, otpremnine za mirovinu </a:t>
            </a:r>
            <a:r>
              <a:rPr b="0" lang="hr-HR" sz="2800" spc="-1" strike="noStrike">
                <a:solidFill>
                  <a:srgbClr val="002060"/>
                </a:solidFill>
                <a:latin typeface="Calibri"/>
              </a:rPr>
              <a:t>– u jednakom neto iznosu  za sve radn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27120" indent="-627120">
              <a:spcBef>
                <a:spcPts val="700"/>
              </a:spcBef>
              <a:buClr>
                <a:srgbClr val="ff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060"/>
                </a:solidFill>
                <a:latin typeface="Calibri"/>
              </a:rPr>
              <a:t>potpore  - u funkciji pomoći radniku u posebnim životnim situacijama – </a:t>
            </a:r>
            <a:r>
              <a:rPr b="0" lang="hr-HR" sz="2800" spc="-1" strike="noStrike">
                <a:solidFill>
                  <a:srgbClr val="002060"/>
                </a:solidFill>
                <a:latin typeface="Calibri"/>
              </a:rPr>
              <a:t>određene su u jednakom neto iznosu  za sve radn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27120" indent="-627120">
              <a:spcBef>
                <a:spcPts val="700"/>
              </a:spcBef>
              <a:buClr>
                <a:srgbClr val="ff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060"/>
                </a:solidFill>
                <a:latin typeface="Calibri"/>
              </a:rPr>
              <a:t>otpremnine za otkaz  </a:t>
            </a:r>
            <a:r>
              <a:rPr b="0" lang="hr-HR" sz="2800" spc="-1" strike="noStrike">
                <a:solidFill>
                  <a:srgbClr val="002060"/>
                </a:solidFill>
                <a:latin typeface="Calibri"/>
              </a:rPr>
              <a:t>– ovise o plaći radni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27120" indent="-627120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hr-HR" sz="3600" spc="-1" strike="noStrike">
                <a:solidFill>
                  <a:srgbClr val="002060"/>
                </a:solidFill>
                <a:latin typeface="Calibri"/>
              </a:rPr>
              <a:t>ISPLATA</a:t>
            </a:r>
            <a:r>
              <a:rPr b="1" lang="hr-HR" sz="3600" spc="-1" strike="noStrike">
                <a:solidFill>
                  <a:srgbClr val="002060"/>
                </a:solidFill>
                <a:latin typeface="Calibri"/>
                <a:ea typeface="Times New Roman"/>
              </a:rPr>
              <a:t> NAKNADA TROŠKOVA, NAGRADA, POTPORA I OTPREMNINA</a:t>
            </a:r>
            <a:r>
              <a:rPr b="1" lang="hr-HR" sz="3600" spc="-1" strike="noStrike">
                <a:solidFill>
                  <a:srgbClr val="002060"/>
                </a:solidFill>
                <a:latin typeface="Calibri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9640" y="1599840"/>
            <a:ext cx="83534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2060"/>
                </a:solidFill>
                <a:latin typeface="Arial"/>
                <a:ea typeface="Times New Roman"/>
              </a:rPr>
              <a:t>«Skrivene»  isplate plaća, zbog:</a:t>
            </a:r>
            <a:r>
              <a:rPr b="0" lang="hr-HR" sz="2600" spc="-1" strike="noStrike">
                <a:solidFill>
                  <a:srgbClr val="002060"/>
                </a:solidFill>
                <a:latin typeface="Calibri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4f81bd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2060"/>
                </a:solidFill>
                <a:latin typeface="Calibri"/>
              </a:rPr>
              <a:t>Ugovoreni su iznosi naknada određenih troškova uz </a:t>
            </a:r>
            <a:r>
              <a:rPr b="1" lang="hr-HR" sz="2600" spc="-1" strike="noStrike">
                <a:solidFill>
                  <a:srgbClr val="ff0000"/>
                </a:solidFill>
                <a:latin typeface="Calibri"/>
              </a:rPr>
              <a:t>povoljnije uvjete </a:t>
            </a:r>
            <a:r>
              <a:rPr b="1" lang="hr-HR" sz="2600" spc="-1" strike="noStrike">
                <a:solidFill>
                  <a:srgbClr val="002060"/>
                </a:solidFill>
                <a:latin typeface="Calibri"/>
              </a:rPr>
              <a:t>od uvjeta propisanih čl. 13. Pravilnika o porezu na dohod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4f81bd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2060"/>
                </a:solidFill>
                <a:latin typeface="Calibri"/>
              </a:rPr>
              <a:t>Većina novčanih prava je ugovorena u svotama većim od propisanih neoporezivih iznos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4f81bd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2060"/>
                </a:solidFill>
                <a:latin typeface="Calibri"/>
              </a:rPr>
              <a:t>Ugovoreni iznosi svakog pojedinačnog prava su </a:t>
            </a:r>
            <a:r>
              <a:rPr b="1" lang="hr-HR" sz="2600" spc="-1" strike="noStrike">
                <a:solidFill>
                  <a:srgbClr val="ff0000"/>
                </a:solidFill>
                <a:latin typeface="Calibri"/>
              </a:rPr>
              <a:t>neto svote  </a:t>
            </a:r>
            <a:r>
              <a:rPr b="1" lang="hr-HR" sz="2600" spc="-1" strike="noStrike">
                <a:solidFill>
                  <a:srgbClr val="002060"/>
                </a:solidFill>
                <a:latin typeface="Calibri"/>
              </a:rPr>
              <a:t>koje poslodavac preračunava u bruto iznos, pri čemu doprinosi iz plaće, doprinosi na plaću, porez na dohodak i prirez koji se plaćaju na oporezivi dio određenog novčanog prava, povećavaju troškove poslodavc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1f497d"/>
                </a:solidFill>
                <a:latin typeface="Calibri"/>
              </a:rPr>
              <a:t>POTPORE I POMOĆI</a:t>
            </a:r>
            <a:br>
              <a:rPr sz="3200"/>
            </a:br>
            <a:r>
              <a:rPr b="0" lang="hr-HR" sz="3200" spc="-1" strike="noStrike">
                <a:solidFill>
                  <a:srgbClr val="1f497d"/>
                </a:solidFill>
                <a:latin typeface="Calibri"/>
              </a:rPr>
              <a:t>(visina: </a:t>
            </a:r>
            <a:r>
              <a:rPr b="1" lang="hr-HR" sz="3200" spc="-1" strike="noStrike">
                <a:solidFill>
                  <a:srgbClr val="1f497d"/>
                </a:solidFill>
                <a:latin typeface="Calibri"/>
              </a:rPr>
              <a:t>proračunska osnovica</a:t>
            </a:r>
            <a:r>
              <a:rPr b="0" lang="hr-HR" sz="3200" spc="-1" strike="noStrike">
                <a:solidFill>
                  <a:srgbClr val="1f497d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graphicFrame>
        <p:nvGraphicFramePr>
          <p:cNvPr id="595" name=""/>
          <p:cNvGraphicFramePr/>
          <p:nvPr/>
        </p:nvGraphicFramePr>
        <p:xfrm>
          <a:off x="468360" y="1413000"/>
          <a:ext cx="8435880" cy="5327640"/>
        </p:xfrm>
        <a:graphic>
          <a:graphicData uri="http://schemas.openxmlformats.org/drawingml/2006/table">
            <a:tbl>
              <a:tblPr/>
              <a:tblGrid>
                <a:gridCol w="2716200"/>
                <a:gridCol w="1949400"/>
                <a:gridCol w="2157480"/>
                <a:gridCol w="1612800"/>
              </a:tblGrid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ST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P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AVO RADNIK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 toga: NEOPO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Z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 tog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ETO PLAĆ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lovanj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26 k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00 k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6 k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alidn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nik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26 k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00 k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6 k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alidnos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lana obitelj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26 k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26 k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ječenj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nik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26 k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kupna svota, uz određene uvje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đenje djete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63 k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od 1.1.2012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63 k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.326 k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2060"/>
                </a:solidFill>
                <a:latin typeface="Calibri"/>
              </a:rPr>
              <a:t>POTPORA ZA BOLOVANJE RADNIKA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67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060"/>
                </a:solidFill>
                <a:latin typeface="Calibri"/>
              </a:rPr>
              <a:t>jednom u godin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Calibri"/>
              </a:rPr>
              <a:t>potpora iznosi 3.326,00 k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Calibri"/>
              </a:rPr>
              <a:t>nakon kontinuirane spriječenosti za rad zbog bolesti u trajanju od 90 kalendarskih dana - razdoblje od 90 dana se može protezati u jednoj ili u dvije kalendarske god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Calibri"/>
              </a:rPr>
              <a:t>neovisno o uzroku spriječenosti za rad zbog bolesti (bolest, ozljeda, komplikacije u trudnoć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 u="sng">
                <a:solidFill>
                  <a:srgbClr val="002060"/>
                </a:solidFill>
                <a:uFillTx/>
                <a:latin typeface="Calibri"/>
              </a:rPr>
              <a:t>VAŽNO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hr-HR" sz="2800" spc="-1" strike="noStrike">
                <a:solidFill>
                  <a:srgbClr val="002060"/>
                </a:solidFill>
                <a:latin typeface="Calibri"/>
              </a:rPr>
              <a:t>Korištenje prava na rodiljni i roditeljski dopust se ne smatra bolovanjem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2060"/>
                </a:solidFill>
                <a:latin typeface="Calibri"/>
              </a:rPr>
              <a:t>POTPORE ZA INVALIDNOST</a:t>
            </a:r>
            <a:br>
              <a:rPr sz="3600"/>
            </a:b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684000" y="1773000"/>
            <a:ext cx="845964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Calibri"/>
              </a:rPr>
              <a:t>PRAVO NA POTPORU U SLUČAJU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060"/>
                </a:solidFill>
                <a:latin typeface="Calibri"/>
              </a:rPr>
              <a:t>nastanka invalidnosti zaposleni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060"/>
                </a:solidFill>
                <a:latin typeface="Calibri"/>
              </a:rPr>
              <a:t>nastanka invalidnosti supružni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060"/>
                </a:solidFill>
                <a:latin typeface="Calibri"/>
              </a:rPr>
              <a:t>u slučaju nastanka invalidnosti malodobnog djete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JAVNE SLUŽBE: </a:t>
            </a: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invalidnost zaposlenog odnosno njegovog supružnik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- koja ima za posljedicu opću nesposobn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- koja ima za posljedicu profesionaln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nesposobnost za r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2060"/>
                </a:solidFill>
                <a:latin typeface="Calibri"/>
              </a:rPr>
              <a:t>OTPREMNINE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4000" y="1915920"/>
            <a:ext cx="381132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060"/>
                </a:solidFill>
                <a:latin typeface="Calibri"/>
              </a:rPr>
              <a:t>ZA MIROVIN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Calibri"/>
              </a:rPr>
              <a:t>9.978 k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Calibri"/>
              </a:rPr>
              <a:t>Neoporeziv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Calibri"/>
              </a:rPr>
              <a:t>         </a:t>
            </a:r>
            <a:r>
              <a:rPr b="1" lang="hr-HR" sz="2800" spc="-1" strike="noStrike">
                <a:solidFill>
                  <a:srgbClr val="ff0000"/>
                </a:solidFill>
                <a:latin typeface="Calibri"/>
              </a:rPr>
              <a:t>8.000 k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Calibri"/>
              </a:rPr>
              <a:t>Razlika: 1.978 kn je neto plaća radnika koju treba preračunati u bruto plać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48320" y="2060640"/>
            <a:ext cx="4038480" cy="43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060"/>
                </a:solidFill>
                <a:latin typeface="Calibri"/>
              </a:rPr>
              <a:t>ZA OTKAZ (POVLAŠTEN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060"/>
                </a:solidFill>
                <a:latin typeface="Calibri"/>
              </a:rPr>
              <a:t>30 i više godina rada u javnim služba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Calibri"/>
              </a:rPr>
              <a:t>65% bruto plaće za svaku godinu rada u javnim služba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Calibri"/>
              </a:rPr>
              <a:t>taj iznos se smatra neto primitko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Calibri"/>
              </a:rPr>
              <a:t>VAŽNO:</a:t>
            </a:r>
            <a:r>
              <a:rPr b="0" lang="hr-HR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hr-HR" sz="2800" spc="-1" strike="noStrike">
                <a:solidFill>
                  <a:srgbClr val="002060"/>
                </a:solidFill>
                <a:latin typeface="Calibri"/>
              </a:rPr>
              <a:t>ne odnosi se na ravnatelje!!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1f497d"/>
                </a:solidFill>
                <a:latin typeface="Calibri"/>
              </a:rPr>
              <a:t>POMOĆ U SLUČAJU SMRTI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graphicFrame>
        <p:nvGraphicFramePr>
          <p:cNvPr id="604" name=""/>
          <p:cNvGraphicFramePr/>
          <p:nvPr/>
        </p:nvGraphicFramePr>
        <p:xfrm>
          <a:off x="684360" y="1700280"/>
          <a:ext cx="8229600" cy="4805280"/>
        </p:xfrm>
        <a:graphic>
          <a:graphicData uri="http://schemas.openxmlformats.org/drawingml/2006/table">
            <a:tbl>
              <a:tblPr/>
              <a:tblGrid>
                <a:gridCol w="2016000"/>
                <a:gridCol w="2098800"/>
                <a:gridCol w="1933560"/>
                <a:gridCol w="2181240"/>
              </a:tblGrid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A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ZN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 toga: NEOPO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Z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 toga: </a:t>
                      </a:r>
                      <a:r>
                        <a:rPr b="1" lang="hr-HR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eto plaća/neto drugi dohodak</a:t>
                      </a:r>
                      <a:r>
                        <a:rPr b="0" lang="hr-HR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rt radnika u služb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978 kn + troško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greb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500 k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78 + tr.pog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gi dohodak člana obitelji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 plaćaju se doprinosi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rt radnika izvan služb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652 k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625 k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500 k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rt člana obitelj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26 k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00 k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6 k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o plać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595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323640" y="476280"/>
            <a:ext cx="856908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JUBILARNE NAGRAD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(u socijalnoj skrbi se ne traži se neprekidni rad!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250920" y="1727280"/>
          <a:ext cx="8713800" cy="4440240"/>
        </p:xfrm>
        <a:graphic>
          <a:graphicData uri="http://schemas.openxmlformats.org/drawingml/2006/table">
            <a:tbl>
              <a:tblPr/>
              <a:tblGrid>
                <a:gridCol w="1743120"/>
                <a:gridCol w="1742760"/>
                <a:gridCol w="1843200"/>
                <a:gridCol w="1728720"/>
                <a:gridCol w="1656000"/>
              </a:tblGrid>
              <a:tr h="979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prekinuti rad u jav.s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govoren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a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619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2. i od 1.1. 201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1619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osn. =  1.80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3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osn. = 50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oporezivi izn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112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godi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osnov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800,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112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godi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25 osnov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50,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25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112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 godi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5 osnov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700,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112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godi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75 osnov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150,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75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5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112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 godi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osnov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600,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112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 godi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5 osnov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500,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5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5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112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 godi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osnov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400,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112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 godi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osnov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200,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112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 godi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osnov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5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000,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40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457200" y="549360"/>
            <a:ext cx="8229600" cy="59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Arial"/>
              </a:rPr>
              <a:t>KOLEKTIVNI UGOVOR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Arial"/>
              </a:rPr>
              <a:t>Temeljni kolektivni ugovor za službenike i namještenike u javnim službama</a:t>
            </a:r>
            <a:r>
              <a:rPr b="0" lang="hr-HR" sz="2400" spc="-1" strike="noStrike">
                <a:solidFill>
                  <a:srgbClr val="002060"/>
                </a:solidFill>
                <a:latin typeface="Arial"/>
              </a:rPr>
              <a:t>, </a:t>
            </a: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(NN, 141/12.) -  zaključen 12. prosinca 2012, godine, na rok od četiri god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Dodatak I. Temeljnom kolektivnom ugovoru za službenike i namještenike u javnim službama </a:t>
            </a: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(NN, 141/12.) </a:t>
            </a: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– </a:t>
            </a: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zaključen istog dana – ugovoreno da se neka ugovorena prava neće primjenjivati u </a:t>
            </a: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2012</a:t>
            </a: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. odnosno u </a:t>
            </a: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2013.</a:t>
            </a: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 godin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Arial"/>
              </a:rPr>
              <a:t>Kolektivni ugovor za djelatnost socijalne skrbi</a:t>
            </a:r>
            <a:r>
              <a:rPr b="0" lang="hr-HR" sz="2400" spc="-1" strike="noStrike">
                <a:solidFill>
                  <a:srgbClr val="002060"/>
                </a:solidFill>
                <a:latin typeface="Arial"/>
              </a:rPr>
              <a:t>; NN 133/11. – od 19. listopada 2011.; na rok od </a:t>
            </a:r>
            <a:r>
              <a:rPr b="1" lang="hr-HR" sz="2400" spc="-1" strike="noStrike">
                <a:solidFill>
                  <a:srgbClr val="002060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002060"/>
                </a:solidFill>
                <a:latin typeface="Arial"/>
              </a:rPr>
              <a:t> god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Arial"/>
              </a:rPr>
              <a:t>OPĆI AKT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Arial"/>
              </a:rPr>
              <a:t>pravilnici o radu ustanova socijalne skrb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Arial"/>
              </a:rPr>
              <a:t>POJEDINAČNI AKT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Arial"/>
              </a:rPr>
              <a:t>ugovori o rad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hr-HR" sz="3200" spc="-1" strike="noStrike">
                <a:solidFill>
                  <a:srgbClr val="002060"/>
                </a:solidFill>
                <a:latin typeface="Calibri"/>
              </a:rPr>
              <a:t>Zakonska uskrata određenih prava ugovorenih kolektivnim ugovorima</a:t>
            </a:r>
            <a:br>
              <a:rPr sz="3600"/>
            </a:b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Zakon o uskrati isplate pojedinih materijalnih prava zaposlenima u javnim službama (NN, 143/12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Zaposlenima u javnim službama uskraćuje se pravo</a:t>
            </a: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na isplatu</a:t>
            </a: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- </a:t>
            </a: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božićnice za 2012. i 2013. godinu</a:t>
            </a: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, 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- regresa za godišnji odmor za 2013. godin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Na ova se novčana prava ne primjenjuje pravilo pogodnosti iz čl. 7. st. 3. Zakona o rad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2060"/>
                </a:solidFill>
                <a:latin typeface="Calibri"/>
              </a:rPr>
              <a:t>PRAVNA PRIRODA KOLEKTIVNIH UGOVORA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684000" y="1599840"/>
            <a:ext cx="38113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002060"/>
                </a:solidFill>
                <a:uFillTx/>
                <a:latin typeface="Arial"/>
              </a:rPr>
              <a:t>OPĆENI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Arial"/>
              </a:rPr>
              <a:t>Zakonodavni okvi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hr-HR" sz="2400" spc="-1" strike="noStrike">
                <a:solidFill>
                  <a:srgbClr val="002060"/>
                </a:solidFill>
                <a:latin typeface="Arial"/>
              </a:rPr>
              <a:t>razine: pojedinačni poslodavac,  djelatnost, nacionalna razi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Arial"/>
              </a:rPr>
              <a:t>Ovlaštene stra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Arial"/>
              </a:rPr>
              <a:t>Područje primjene – </a:t>
            </a:r>
            <a:r>
              <a:rPr b="0" lang="hr-HR" sz="2400" spc="-1" strike="noStrike">
                <a:solidFill>
                  <a:srgbClr val="002060"/>
                </a:solidFill>
                <a:latin typeface="Arial"/>
              </a:rPr>
              <a:t>izvor prava za sve zaposlene kod poslodav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Arial"/>
              </a:rPr>
              <a:t>Sudska zaštita ugovorenih pra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5003280" y="1599840"/>
            <a:ext cx="3683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002060"/>
                </a:solidFill>
                <a:uFillTx/>
                <a:latin typeface="Arial"/>
              </a:rPr>
              <a:t>SPECIFIČNOSTI U USTANOVAMA SOCIJALNE SKRB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Arial"/>
              </a:rPr>
              <a:t>Ovlaštene ugovorne stran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002060"/>
                </a:solidFill>
                <a:latin typeface="Arial"/>
              </a:rPr>
              <a:t>- Vlada R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002060"/>
                </a:solidFill>
                <a:latin typeface="Arial"/>
              </a:rPr>
              <a:t>- sindika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Arial"/>
              </a:rPr>
              <a:t>Vlada RH u dvostrukoj uloz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tijelo izvršne vlasti države</a:t>
            </a:r>
            <a:r>
              <a:rPr b="1" lang="hr-HR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stranka kolektivnog ugovora </a:t>
            </a:r>
            <a:r>
              <a:rPr b="1" lang="hr-HR" sz="2400" spc="-1" strike="noStrike">
                <a:solidFill>
                  <a:srgbClr val="002060"/>
                </a:solidFill>
                <a:latin typeface="Arial"/>
              </a:rPr>
              <a:t>na strani poslodav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1f497d"/>
                </a:solidFill>
                <a:latin typeface="Arial"/>
              </a:rPr>
              <a:t>KOLEKTIVNI UGOVOR KAO IZVOR PRAVA RADNIKA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820872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803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2060"/>
                </a:solidFill>
                <a:uFillTx/>
                <a:latin typeface="Arial"/>
              </a:rPr>
              <a:t>Definicij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0360" indent="-1803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Arial"/>
              </a:rPr>
              <a:t>K.U. je pisani dokument kojim zakonom ovlaštene strane na tržištu rada ugovaraju uvjete rada – prava i obveze radnika i poslodavaca koje obvezuje odnosni kolektivni ugov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0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03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2060"/>
                </a:solidFill>
                <a:uFillTx/>
                <a:latin typeface="Arial"/>
              </a:rPr>
              <a:t>Sadržaj kolektivnog ugovor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0360" indent="-1803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Arial"/>
              </a:rPr>
              <a:t>prava i obveze ugovornih strana</a:t>
            </a:r>
            <a:r>
              <a:rPr b="0" lang="hr-HR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002060"/>
                </a:solidFill>
                <a:latin typeface="Arial"/>
              </a:rPr>
              <a:t>(obvezni dio kolektivnog ugovora)</a:t>
            </a:r>
            <a:r>
              <a:rPr b="0" lang="hr-HR" sz="2400" spc="-1" strike="noStrike">
                <a:solidFill>
                  <a:srgbClr val="002060"/>
                </a:solidFill>
                <a:latin typeface="Arial"/>
              </a:rPr>
              <a:t>– na strani poslodavca ugovorna strana je poslodavac ili udruga poslodavaca, a na strani radnika ovlaštena ugovora strana je  sindika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0360" indent="-1803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Arial"/>
              </a:rPr>
              <a:t>pravna pravila (normativni dio kolektivnog ugovora)</a:t>
            </a:r>
            <a:r>
              <a:rPr b="0" lang="hr-HR" sz="2400" spc="-1" strike="noStrike">
                <a:solidFill>
                  <a:srgbClr val="002060"/>
                </a:solidFill>
                <a:latin typeface="Arial"/>
              </a:rPr>
              <a:t> - sadržaj radnih odnosa; prava i obveze osoba u čije ime su ugovorne strane zaključile kolektivni ugov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03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800" spc="-1" strike="noStrike">
                <a:solidFill>
                  <a:srgbClr val="002060"/>
                </a:solidFill>
                <a:latin typeface="Calibri"/>
              </a:rPr>
              <a:t>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803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803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2060"/>
                </a:solidFill>
                <a:latin typeface="Calibri"/>
              </a:rPr>
              <a:t>PRIMJENA KOLEKTIVNIH UGOVORA U USTANOVAMA SOCIJALNE SKRBI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611280" y="1773000"/>
            <a:ext cx="8532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0" lang="hr-HR" sz="2800" spc="-1" strike="noStrike">
                <a:solidFill>
                  <a:srgbClr val="002060"/>
                </a:solidFill>
                <a:latin typeface="Calibri"/>
              </a:rPr>
              <a:t>ODNOS ZAKONA I KOLEKTIVNOG UGOVOR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060"/>
                </a:solidFill>
                <a:latin typeface="Calibri"/>
              </a:rPr>
              <a:t>Pravilo je da se kolektivnim ugovorom ugovaraju za radnika veća prava od propisanih zakonom (manja prava: samo iznimno, kada to zakon izrijekom dopušta -</a:t>
            </a:r>
            <a:r>
              <a:rPr b="0" lang="hr-HR" sz="2800" spc="-1" strike="noStrike">
                <a:solidFill>
                  <a:srgbClr val="002060"/>
                </a:solidFill>
                <a:latin typeface="Calibri"/>
              </a:rPr>
              <a:t> npr. rad na određeno vrijeme s istim radnikom u trajanju dužem od 3 godin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hr-HR" sz="2800" spc="-1" strike="noStrike">
                <a:solidFill>
                  <a:srgbClr val="ff0000"/>
                </a:solidFill>
                <a:latin typeface="Calibri"/>
              </a:rPr>
              <a:t>VAŽNO: </a:t>
            </a:r>
            <a:r>
              <a:rPr b="1" lang="hr-HR" sz="2800" spc="-1" strike="noStrike">
                <a:solidFill>
                  <a:srgbClr val="002060"/>
                </a:solidFill>
                <a:latin typeface="Calibri"/>
              </a:rPr>
              <a:t>K.U. ne smije biti suprotan prisilnim propisima, Ustavu i moralu društva</a:t>
            </a:r>
            <a:r>
              <a:rPr b="0" lang="hr-HR" sz="2800" spc="-1" strike="noStrike">
                <a:solidFill>
                  <a:srgbClr val="002060"/>
                </a:solidFill>
                <a:latin typeface="Calibri"/>
              </a:rPr>
              <a:t> – odredbe obveznog prava o ništetnosti ugovor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900" spc="-1" strike="noStrike">
                <a:solidFill>
                  <a:srgbClr val="002060"/>
                </a:solidFill>
                <a:latin typeface="Calibri"/>
              </a:rPr>
              <a:t>PRIMJENA ZA RADNIKA NAJPOVOLJNIJEG PRAVA</a:t>
            </a:r>
            <a:br>
              <a:rPr sz="2900"/>
            </a:br>
            <a:r>
              <a:rPr b="1" lang="hr-HR" sz="2900" spc="-1" strike="noStrike">
                <a:solidFill>
                  <a:srgbClr val="002060"/>
                </a:solidFill>
                <a:latin typeface="Calibri"/>
              </a:rPr>
              <a:t>U USTANOVAMA SOCIJALNE SKRBI</a:t>
            </a:r>
            <a:endParaRPr b="0" lang="en-US" sz="29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675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8252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000" spc="-1" strike="noStrike">
                <a:solidFill>
                  <a:srgbClr val="002060"/>
                </a:solidFill>
                <a:latin typeface="Calibri"/>
              </a:rPr>
              <a:t>Čl. 7. st. 3. Zakona o radu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   “</a:t>
            </a: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Ako je neko pravo iz radnog odnosa različito uređeno ugovorom o radu, pravilnikom o radu, sporazumom radničkog vijeća i poslodavca, kolektivnim ugovorom ili zakonom, primjenjuje se za radnika najpovoljnije pravo, osim ako ovim ili posebnim zakonom nije drugačije određeno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Calibri"/>
              </a:rPr>
              <a:t>2 KOLEKTIVNA UGOVORA + DRUGI IZVOR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hr-HR" sz="2400" spc="-1" strike="noStrike">
                <a:solidFill>
                  <a:srgbClr val="ff0000"/>
                </a:solidFill>
                <a:latin typeface="Calibri"/>
              </a:rPr>
              <a:t>KAKO ODREDITI ZA RADNIKA NAJPOVOLJNIJE PRAVO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- u odnosu na druge izvore radnog prava koji obvezuju poslodav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- u odnosu na dva kolektivna ugovora koji obvezuju ustanovu socijalne skrbi, za svako pojedinačno pravo odrediti koji kolektivni ugovor je za određenog radnika najpovoljnij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2060"/>
                </a:solidFill>
                <a:latin typeface="Calibri"/>
              </a:rPr>
              <a:t>Odnos TKU za javne službe i granskih ugovora javnih službi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Prijelazne odredbe TKU za javne slu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- obveza usklađivanja granskih kolektivnih ugovora s novim TKU za javne služ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-  </a:t>
            </a: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rok : 30 dana, tj. istekao je još 11. siječnja 2013. god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Obveza primjene za radnika povoljnijeg pra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Iznimka: regres i božićnica, zbog primjene Zakona o uskrati isplate pojedinih materijalnih prava zaposlenima u javnim službama</a:t>
            </a: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 (NN 143/12.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 txBox="1"/>
          <p:nvPr/>
        </p:nvSpPr>
        <p:spPr>
          <a:xfrm>
            <a:off x="684000" y="1600200"/>
            <a:ext cx="81356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IZBOR IZ SADRŽAJA  VAŽEĆIH KOLEKTIVNIH UGOVOR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Godišnji odmor u trajanju dužem od minimalno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Dodaci na plać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Posebna zaštita određenih radni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Naknade troškova koji radniku nastaju u vezi s obavljanjem poslova za poslodav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Nagrade, potpore i otpremn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2060"/>
                </a:solidFill>
                <a:latin typeface="Calibri"/>
              </a:rPr>
              <a:t>OBVEZE USTANOVA SOCIJALNE SKRBI UREĐENE KOLEKTIVNIM UGOVORIMA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9T05:58:50Z</dcterms:created>
  <dc:creator>Miljenka</dc:creator>
  <dc:description/>
  <dc:language>en-US</dc:language>
  <cp:lastModifiedBy>Danijela Tatomir</cp:lastModifiedBy>
  <dcterms:modified xsi:type="dcterms:W3CDTF">2013-05-23T07:12:11Z</dcterms:modified>
  <cp:revision>166</cp:revision>
  <dc:subject/>
  <dc:title>PowerPointova prezentacija</dc:title>
</cp:coreProperties>
</file>