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9EC-C364-4446-92B6-1DA0A219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715-7AC1-46B8-A20A-0EC28929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2F84F-A827-4606-86EA-EAD98933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9FFDF-045E-428B-8E28-63924D6E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26838-89E6-4993-A256-5A956F72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F38DC-4551-4A06-AC53-1E32B892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EB6DC-CFC3-491A-AE55-3BB8CC61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D7AB8-FC3D-4E92-A251-153069A1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253FE-A3D6-49DE-A4F5-25499FB8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9DAC3-5922-4CFD-9BB3-0F2CF4B7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BFD32-928C-47C8-986B-BE3899DE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D8320-21F3-40A4-8642-1C65098C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C83-D445-400D-8DCB-781CF11C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069A0-CF9C-408C-9F55-DA55D07E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E4DA3-38C6-4FAD-A485-DC5081D1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4A119-0223-4F56-810A-5E30B198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98303-ED1C-43F5-B4F1-92ECA7FC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5899A-1255-4AE8-B3BB-422B6052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D5018-E78C-43E3-B126-28D63F7D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4CB8D-7024-4899-963A-D91D857A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7A995-7411-49A5-81C8-9AC7AEF0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71691-076C-4E69-AE4C-CAE3775F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9F7E1-05CD-4B4A-B538-33CBE603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058-A036-4D87-B25E-C4772F8D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E4394-F3FF-4125-BB99-54CD42CF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C6B68-C985-413D-9D0F-7F0BB080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D0A3C-EF21-4B36-839D-12F05C79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72B63-2130-4BDE-8A59-ABA2E7B9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CB6CB-2B4E-46CB-ADA6-76CA7307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C9C86-17B0-4DA9-BD3A-2604C9D5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E0E9C-029D-4AA9-96A8-4E03B3A7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962A1-BA33-4DFC-80E0-188F96E0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10F83-CBD8-4E70-B945-4A7ABCF1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579D7-B598-4B06-B799-35268D00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9169-4CC0-4B9A-BF9A-A07E4A0A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3AA35-0FEA-4E09-9928-9E9D8170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7EE20-E230-4FD7-80F3-455C8D45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3A34D-2392-4FF2-8813-9F81F1BF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86AF8-08D7-442B-9B65-461C5017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F3A58-05A8-4FE6-A507-BAE7E91C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53A96-4183-4AFC-A434-892E8DB2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C741D-80CD-4BB7-B2B6-1BCD1BC5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19739-D40B-4738-BB6A-5EBBE9E2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EE879-972B-4FC3-B999-3B926145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743BE-730D-48D4-AFAA-57B2D949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2E5B-ACE0-4966-9B8D-00D82E30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CCA52-3E9E-46AE-823D-DB350FFA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01BBE-4747-4914-A407-4F423329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C18F5-1E76-4619-B4F8-AC8FFB89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69CD3-CCC0-41F6-B6FF-B9A56D6C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A180E-886B-424A-B4D3-C65279A5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1793FB-A95E-47B3-A425-D3D55F98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955E9-F53B-4535-A915-A52874EA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23A5D-BCD7-4A66-B888-5A4E6D27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F2B38-CC8A-4A34-890A-69A709C5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EFBFE-5CED-4FF3-AB65-A63063EB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5026-0DA2-48B2-818E-3A3CD98F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153F8-06C3-43B4-A782-38D4A0E7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D9AF5-DA52-4A2E-80C9-6466202C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D2C3F-BBBE-4A72-8D68-64CF760A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8F249-23DA-43AA-A709-79437D89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76AA6-FCC1-4683-BCD9-72659BC9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12FE4-A00A-49FA-A7BC-7D6C4718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8CA42-7321-422B-9DF2-68CB8DFB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FF71-AC22-4967-88E6-A90DF93B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BF79-BC66-4887-9ECE-501DB2DF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2F9D-B5CF-40F2-AC0F-2E9F5CDE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DDF0-A9C5-435F-9C50-D7E8EEBF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5BC-0423-45DA-A1C9-71796490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6B3B-1678-4D26-92D7-82908F4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9411-6B07-48DB-BFA7-8CAE4895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E08D-DDC6-4346-B601-2AD19C69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160B-A502-4E50-8981-08B751A8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3576-52FA-4CF4-8130-424F365F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BD388-AB22-409B-A0E7-068A2F90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276C-8797-4438-8194-4749BCD1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A197-782D-4AD9-8FB8-1E16D4EF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886BC-75CE-43F9-8D2D-C6CB444A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D7C0-6B0D-40FA-A9E1-9F530009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A8C-ECD5-4491-AC3C-F355D457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53DE7-989D-4796-8068-CE80DAA8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E33E-6139-4DB1-AFF9-2EDD6E67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46AA-6B22-4249-BF8B-E7E479CE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A3EB-87EA-445E-8E98-32E760DC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98EB8-1291-41E9-B474-4BB5453E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BDA75-1DB1-4E13-B2F3-200447FA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FA8F-85F8-4F90-9BCF-E65EACF3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DD05A-93FE-4DB4-A9D7-43A82F0A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4B40E-653E-4C65-8348-48C8E668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E9D80-B1DC-4A5B-B3EE-CFC80125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352-D4FB-4E5F-AEF7-7AD849EF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AEF4A-A829-4054-8AB2-C6DE2ABD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57B5A-00DA-47A8-82FF-FE4E4D7B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30A63-072F-4BE9-AFCF-B3A0127B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A16AF-6BA7-45CA-8F0C-FC3BD18E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D7FBD-7EF4-4ABA-9849-A5EF20B0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8D024-31A1-4C7C-8615-058C6E86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34C4-D164-49C9-B607-7AC3A988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31D01-345F-4D65-8D33-5B449EBF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0E339-9C23-44E1-B858-BE4C6DEB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D562C-C652-4373-8D6D-FD31E701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8A8-00D7-4C46-B32A-91C9FDE8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79777-8A58-4428-8D86-0C9D9D5E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40848-0F07-484D-8664-9F66799F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AE80C-5BC2-49F6-A43F-6803E7F1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3AFB0-CD3F-4ABC-A1C4-FC52596D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B8AD3-1A77-44E8-B05F-C993EAC4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8FD9B-9F03-4F1C-9E8A-49037271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11267-B728-4008-9BD1-0A55CAA5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380B-E04E-4809-8B0D-4E142F71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10D3E-6954-4387-9B9D-E0AF5B60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8AB53-EEB8-4D3C-A518-ECD0970D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1F3-66CD-48AE-813C-F6738AAA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ED30A-C292-4088-98A2-C23839F3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54879-8591-45C6-B537-02C57306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06AA9-5DD5-44EE-87BD-9EB54E40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A14CC-28B6-4A82-9210-847E8276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9A67-F1B7-4D5C-8278-E3B3DFA7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33CB9-CAEF-4994-9F5B-94B13F42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8CA6E-5AD6-43CD-ABFC-EF937ED4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984CA-F5B9-4590-AE80-F05609F1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74D49-F0FD-40FD-AE88-3B8102F3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3A305-683C-4121-9F80-D8748333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71B-9FBC-49EC-BCBB-7B4A60BE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AB2FC-A656-44B4-B9F7-AF2A0E7E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701BB-DB7F-4F62-AFC6-8507D9AC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75650-D9CE-45CE-93E9-7F6098E2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3CDD0-E42A-48B3-9136-AFD1B95C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1B71B-FA87-48AA-9D2A-7540BF26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A659D-5C51-4EE4-A20B-7851D51C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B1305-D5D4-47D0-9D48-CA2EA896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8261B-4AE6-4F74-903F-477D4125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7519D-0379-497D-81BA-F30A71BC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FD420-F792-4157-9485-23F6B781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244-BD67-4F23-8C64-A5064659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71A6F-9B24-491D-9C74-41BCCFE1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10137-F4A7-46D8-8A34-2BF3B001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CF6D0-AFB4-44F5-B623-C9012985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B1550-2419-4D47-98E6-DAF74FE9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39E1B-ED0B-45A0-A72C-C4CA6A2C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DB9A4-6408-41DE-804C-7BBA504D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28822-F19A-4AD2-AB1C-2517CE44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C0B1C-A2B8-4DB0-8CB4-52B15926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62831-E312-45A5-B683-015834F3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F88A9-7306-4897-9AFA-A2FC8856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C8F-573B-4AB1-921E-807D3004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9D3B3-F61C-45CA-A423-62D6271D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AC366-3765-43C1-A879-43800EBD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0D744-0496-47F0-B914-9C860072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5A9EB-ED82-4FF3-9AF0-E2F66DE8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C022E-9E28-47D7-BD9E-2DA0943A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8A553-8AC0-46DB-97CA-17462B3A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EA1B7-09AA-45B9-A870-CC683018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DF69E-75D0-458C-968D-E32DD202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B8B8E-64E2-44F1-836C-6E6B291A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4A2F0-A6C7-4B37-8B2E-3F45D402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Savjetovanje za računovodstvene djelatnike Primošten 2013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CD74-558E-405D-82D6-41649DD771E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E60D-5566-453D-9F31-993958DFBDD8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5BD9-7A82-4B5D-888F-091FA5BD8D6C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927C-AB25-4BB4-ABE6-364FBC954B99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2EF1-E84B-46FD-B130-E8ADC69F5E5B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PP\ProFi_PowPt_backgrounds2012_3-1.jpg"/>
          <p:cNvPicPr/>
          <p:nvPr/>
        </p:nvPicPr>
        <p:blipFill>
          <a:blip r:embed="rId2"/>
          <a:stretch/>
        </p:blipFill>
        <p:spPr>
          <a:xfrm>
            <a:off x="-28728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2700360" y="6302520"/>
            <a:ext cx="3959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EC32-1615-4DDA-88F0-7A762C487E1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F:\PP\ProFi_PowPt_backgrounds2012_3-6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4"/>
          <p:cNvSpPr/>
          <p:nvPr/>
        </p:nvSpPr>
        <p:spPr>
          <a:xfrm>
            <a:off x="2700360" y="6453360"/>
            <a:ext cx="3959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B038-53CE-4C57-BDA9-108431F3F5E9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\PP\ProFi_PowPt_backgrounds2012_3-6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2700360" y="6453360"/>
            <a:ext cx="3959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A94F-CE81-47F4-B238-186D7415F8D2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:\PP\ProFi_PowPt_backgrounds2012_3-10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4CBC-F108-4CF6-B628-3C39EDA34BF6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F:\PP\ProFi_PowPt_backgrounds2012_3-14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A844-8E19-4F5B-B703-028472396299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6E7E-A86F-4FA7-A10E-B5B9E1C3DF7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E811-0C50-42D7-8F7A-CC2F274841EC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ED14-2E7F-413C-BAE4-BC7C9C74A17B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egled patcheva u prvom dijelu god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rcRect l="0" t="5404" r="28524" b="81870"/>
          <a:stretch/>
        </p:blipFill>
        <p:spPr>
          <a:xfrm>
            <a:off x="-63360" y="1844640"/>
            <a:ext cx="9165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1"/>
          <a:srcRect l="0" t="5404" r="9430" b="46865"/>
          <a:stretch/>
        </p:blipFill>
        <p:spPr>
          <a:xfrm>
            <a:off x="79200" y="1773360"/>
            <a:ext cx="90648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rcRect l="0" t="5404" r="7677" b="78691"/>
          <a:stretch/>
        </p:blipFill>
        <p:spPr>
          <a:xfrm>
            <a:off x="0" y="1916280"/>
            <a:ext cx="9325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Calibri"/>
              </a:rPr>
              <a:t>HVALA NA PAŽNJ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66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rcRect l="0" t="5404" r="45229" b="45276"/>
          <a:stretch/>
        </p:blipFill>
        <p:spPr>
          <a:xfrm>
            <a:off x="971640" y="1450800"/>
            <a:ext cx="6980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0" t="5404" r="39261" b="70733"/>
          <a:stretch/>
        </p:blipFill>
        <p:spPr>
          <a:xfrm>
            <a:off x="0" y="2205000"/>
            <a:ext cx="88059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rcRect l="0" t="5404" r="48810" b="80281"/>
          <a:stretch/>
        </p:blipFill>
        <p:spPr>
          <a:xfrm>
            <a:off x="250920" y="1571760"/>
            <a:ext cx="85122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rcRect l="0" t="6998" r="17783" b="54823"/>
          <a:stretch/>
        </p:blipFill>
        <p:spPr>
          <a:xfrm>
            <a:off x="324000" y="1487520"/>
            <a:ext cx="88804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rcRect l="0" t="5404" r="24885" b="53233"/>
          <a:stretch/>
        </p:blipFill>
        <p:spPr>
          <a:xfrm>
            <a:off x="0" y="1413000"/>
            <a:ext cx="914400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rcRect l="0" t="5404" r="52390" b="40502"/>
          <a:stretch/>
        </p:blipFill>
        <p:spPr>
          <a:xfrm>
            <a:off x="971640" y="1347840"/>
            <a:ext cx="57610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rcRect l="0" t="5404" r="21363" b="70733"/>
          <a:stretch/>
        </p:blipFill>
        <p:spPr>
          <a:xfrm>
            <a:off x="-27000" y="1557360"/>
            <a:ext cx="9174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rcRect l="0" t="5404" r="42841" b="62776"/>
          <a:stretch/>
        </p:blipFill>
        <p:spPr>
          <a:xfrm>
            <a:off x="611280" y="1450800"/>
            <a:ext cx="835956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8:58:27Z</dcterms:created>
  <dc:creator>Gorana Sivić Rušinović</dc:creator>
  <dc:description/>
  <dc:language>en-US</dc:language>
  <cp:lastModifiedBy>Jana Bajurin</cp:lastModifiedBy>
  <dcterms:modified xsi:type="dcterms:W3CDTF">2013-05-27T09:56:29Z</dcterms:modified>
  <cp:revision>15</cp:revision>
  <dc:subject/>
  <dc:title>PowerPoint Presentation</dc:title>
</cp:coreProperties>
</file>