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EFC-6653-4D14-99A4-C727F4FB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423-381E-46CE-8D82-DA9AEAC8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B5B46-6221-4F9C-87EE-3F3868E5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69D5F-7410-4A91-9E87-E7CF42FF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576CE-B093-4CED-B3F9-62B8278D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3B034-68A1-4EF7-935F-6BC128BF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56FD2-9AD1-4482-81D6-C8E15EFF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14D2C-DCF5-4478-8064-143EAB4A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21D0E-4AD7-4CB8-A1D3-97CF5C55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EE461-1A27-4852-87A6-31D4AE3E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6F27C-026B-4D50-BA5B-0D5E1146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E5964-EFAB-4AF8-9C50-1FF44A60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16D-FD8A-4EB2-B771-85FE7E23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A30BC-3EFF-48CB-B1DE-8376BB77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1A2DF-B669-489E-B3A9-FC405222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C036E-5284-4F82-BBC0-90D45BAB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7386F-467C-42EE-8E8C-D59718C7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F0059-D95D-49CE-B927-DD5BA538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DEA3D-2419-4F34-9256-97F86CEC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77A56-7EF4-443A-AE9A-1F8EFC37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16899-D765-4838-AF85-C8010367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A25B0-DF15-47D3-A8EF-338460FC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D2212-7EC8-4F57-AC7C-64EC8AAE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056-7DB3-4C83-AA00-0488BEEF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1C69C-EDA1-47B9-898B-AF359FD1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89883-F99B-456F-9BEC-9DB296C1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16925-4CEE-410C-A25C-222CBF9E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42470-A4D2-4DCF-B14F-7253725D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63754-4F38-4EB4-9867-F9FB83EA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70B9E-BF9C-4A60-931D-47169C49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F3D0A-4ECA-4B01-A11F-D761367C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DA9FD-6468-4748-A5A2-A23169C4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33A6F-A84D-4534-81FC-8ACEB3B7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46D41-E44A-4453-AA11-4B22D805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182B-EBC9-4F52-B10F-A307414D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5DD3E-9866-49C0-98DB-7B4CE1B7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32FAC-7AF7-4B7D-A450-CAE0B406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C4FB6-9549-4FC5-BB86-C5D9F6DC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E1A80-9098-4F8E-8BB8-8978043A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82396-AE61-4B53-8AB8-B09F4453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3DF56-0C39-44C6-A39B-ED617763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E6247-CD13-4268-93F9-A895E665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88D89-6484-4B65-9E62-1E9E2C30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F0123-4EAD-4983-89D3-BFD2820A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3BDD2-4645-4EF6-BF3A-1987F759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454A-331A-47B0-A663-ED4D72EF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16C63-B468-4594-A64D-D88CBA66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EAB8C-3112-409D-A72C-4A5728B9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7CB82-1DF9-46B6-9267-DF1A7F5C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29E5F-948B-4967-A770-284ECE78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72A4E-B47B-417A-80F8-5B7F0AAF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EC823-C8BB-40A3-85FF-564C05FB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D3170-B0B0-4BEC-8214-11DFEB78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8A99B-95DE-42AD-B1CD-FCAEF7FD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0E92C-73CB-4C9E-A138-0265950F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F35E8-4B18-4415-85D5-BA8BFA5A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2667-288C-4A21-B262-067ABE4C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24BA6-6467-40C8-8878-78A61D18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586B3-DFBF-42B4-A6CD-4F0A74DA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00F05-58A9-42A5-8FD6-8EFC7C29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D91AB-1CD5-4AC1-9713-81D412D7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B2C6F-A683-4C7E-9D80-18F9FD53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BF90B-4376-4E6C-A64D-F67769B6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BACA3A-8112-4F53-B9B7-09AB61CF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25F5-7AA3-4F27-AAC2-0D03E2B2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2C2A-6CD7-464D-8AF8-69E0CAD4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C02E-F5D1-4464-844B-BEEB194E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F035-5BA5-4AA9-93D6-F3D66A3A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50B4-7D8F-4E97-A919-78D4F7B5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B3EF-4F37-4FE5-ABE5-674D8D47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C636-3D48-4783-A076-FEE665CC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F495-2B76-4D85-85F6-16685A0E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C39E-4753-4856-87D6-A78C45BF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AC5B-4EE4-4696-A58C-AC081E92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494D2-D13B-47DE-89F3-8BF2D672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A092A-7AA1-470F-B5D6-BFB14B4B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15591-986D-42D1-B62D-22CE134E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62DEB-8B48-48C6-89B5-FF94C35C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10A6F-E392-4252-8845-743CEE21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BDA-14DB-421B-969C-77DD863A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2CC9D-ACEE-4DF8-8D77-A59FE1F6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5D075-7D22-424D-A916-EEADEB70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C2F48-545C-4066-8E32-B4AAB438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45D3D-C941-4667-BDFE-633C16DD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A1FC4-EC5A-4DBA-96B0-DDFF7362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D6DA0-400A-4B6C-A9BB-F01F3E42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B5F34-F9D1-4B91-992D-21EE1F14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AD453-9D77-4CD5-BCDB-9248BE2F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4CA32-6DBF-4265-AD22-57873ECC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DC7EC-C984-465D-8B52-CCB44AF3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3828-843D-4EFD-96E4-3460029A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FEC0E-80B8-4577-B5FC-71C3694E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9699E-F2C6-421E-8C0A-018C7B6D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F9514-14BD-4DEB-90EA-A7070C8D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F2C7E-C5D5-47D1-9BD3-89A37B61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12BA6-FF37-4978-AE1D-1C50A5F0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50C3E-50DB-45AD-A94E-E05223EC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BCA65-B45D-4FB4-A683-06034BA1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28AD6-BB23-4BD3-9CEB-AAE88738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C7EAB-4652-40FF-ABAC-1C5732FC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FA60A-5898-4C9A-B6DE-7CEA4516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116D-23CD-4D29-86EA-999C5F2D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80476-6FA7-4DED-B365-552F580B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CCE88-E78F-4458-893D-85FF2C20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0ACC3-CFB5-44DE-9E89-C9ECEF0F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6BBEC-5292-4676-BA8D-4C070C08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EC7B9-CB27-4454-B6E7-CB89749A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F3F7F-1081-4821-9B9B-9AEA2BC4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F80C5-B51A-45D5-9423-73B2E071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2D8B6-C1B3-414A-B88B-890A623D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14D46-727D-4D29-9842-462C551B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6F126-6F4F-411C-A197-F6FA41E9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6BA-62F9-4EFC-B69C-D5C95BB3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30D3F-3D10-4424-B23D-C054CFC3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11F01-F5EC-4DB1-81F0-242CA4CD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FC5E2-E64F-4E31-8AC1-7864F27F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5CA3D-966B-4D31-8687-C082E07F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7BD7A-2A1F-4975-8150-C28137B1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31746-F252-443D-A08B-14C22939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B5A24-5998-44D5-A36F-AAA00F55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10887-80E4-445C-81D3-453721FA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3595D-7EC0-4053-B3A1-3F851F2F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A9119-B334-49E3-AAF0-943AE98E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9C4C-F67C-4C59-A728-2AEBB11D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BE1B8-AFFE-476A-BA0B-4567E7EA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E50D9-CE96-4526-8658-D16ACF82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D3D11-BE9C-40CC-9CC5-D6186D1C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5C85F-14A5-457A-9869-95F46D3D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89337-B4D4-4D70-9651-0D772E3A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834F1-9554-44C7-9C07-8A95BFA5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E0BBF-4470-4190-BB9C-89948057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49C98-66B2-4630-AEF5-5FBDA09E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2BA7D-1800-4EF3-A196-E86F731B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EDF33-5C7C-41A1-B97F-DC309BB3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81E-EEBD-43E3-895A-2456E75E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BE974-5C37-4D94-A62C-BAF9739C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0B90B-6843-4C11-AA16-AAACE042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A79CD-6AB5-49DA-B117-ED0ED383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B8803-AE36-41BA-BCEC-FD2EB887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7727B-31EF-47C1-8754-ACC6ECFD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C929B-260C-4E03-BA10-CDAD2056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362F4-A59A-46AF-A1FD-89A3C410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DF7E7-842F-4235-BB45-38845888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A6CF1-1919-4D57-8917-0B371DA2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626C0-EAAE-411C-AF5D-12791CA8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962A-5910-406A-AAF0-7FA8F286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FBF3D-E48F-4EE8-B92B-830F2514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02581-CAA1-42D5-8BBA-550FA143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37420-7E4A-4128-B3C3-A8A3A2CD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BDE50-4A94-4795-A431-11F92225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9F596-704F-432C-90BF-24D190F5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D0E2F-35C0-448B-B507-E5C27B33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770A9-7748-4736-9993-C0040153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F1264-0FC7-4DB3-B4C2-0F536938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BF21B-E85C-44DE-A1A0-40FE5A7C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032F8-71D4-48F3-B72F-037CABC3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9699-CEBA-4EA6-930D-52435AEE08F7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1C57-5D99-4D6F-A8A0-84C9376F352F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F53B-02F5-49C0-BA51-6472B0207180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A82F-A8B3-4CF2-8786-D0A334825E1D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0B86-15E0-4B1C-9359-FCBF4D92FDBF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PP\ProFi_PowPt_backgrounds2012_3-2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2779560" y="6508800"/>
            <a:ext cx="409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4060-718C-4634-8B4C-18E4EE54CBDC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:\PP\ProFi_PowPt_backgrounds2012_3-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Footer Placeholder 4"/>
          <p:cNvSpPr/>
          <p:nvPr/>
        </p:nvSpPr>
        <p:spPr>
          <a:xfrm>
            <a:off x="2779560" y="6508800"/>
            <a:ext cx="409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7EA9-C92B-458B-9E52-B23DABEA4722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:\PP\ProFi_PowPt_backgrounds2012_3-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4"/>
          <p:cNvSpPr/>
          <p:nvPr/>
        </p:nvSpPr>
        <p:spPr>
          <a:xfrm>
            <a:off x="2779560" y="6508800"/>
            <a:ext cx="409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1F4F-6B95-4DF0-B879-EB95E68576F6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F:\PP\ProFi_PowPt_backgrounds2012_3-8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1105-E240-42FD-88AF-E967BAC3C592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F:\PP\ProFi_PowPt_backgrounds2012_3-12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6B96-64AA-4BD7-84DD-2C640F11EFB6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A7BD-D323-49D4-9266-37AB4D50376E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1F3C-79CA-4F79-B780-1FBF2AD9296B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85F6-B367-4F66-815A-087F0B5577DB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emo-ustanova.enel.hr/" TargetMode="External"/><Relationship Id="rId2" Type="http://schemas.openxmlformats.org/officeDocument/2006/relationships/hyperlink" Target="http://demo-ustanova.enel.hr/" TargetMode="External"/><Relationship Id="rId3" Type="http://schemas.openxmlformats.org/officeDocument/2006/relationships/hyperlink" Target="mailto:vladimir.danilovic@enel.hr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imjer – web stran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Zakon o pravu na pristup informacij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3"/>
          <p:cNvSpPr/>
          <p:nvPr/>
        </p:nvSpPr>
        <p:spPr>
          <a:xfrm>
            <a:off x="6516720" y="5516640"/>
            <a:ext cx="29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Calibri"/>
              </a:rPr>
              <a:t>Igor Pezzi, mag.oe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snovni cilj web stran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omogućiti korisniku da nađe traženu informaci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osigurati nalaženje informacija bez suvišnog nap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motivirati korisnika da ponovno posjeti stra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dati korisniku željenu sliku o vlasniku stran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TIJELA JAVNE VLASTI OBVEZNA SU NA INTERNETSKIM STRANICAMA OBJAVITI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Zakone i ostale propise koji se odnose na njihovo područje rada, kao i nacrte zakona i drugih propisa te općih akata koje don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pće akte i odluke koje donose kojima se utječe na interese koris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Godišnje planove, programe, strategije, upute, izvještaje o radu, financijska izvješć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atke o izvoru financiranja, proračunu i izvršenju proraču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formacije o dodijeljenim potporama i dona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formacije o svom unutarnjem ustrojstvu, imenima čelnika tijela i voditelja ustrojstvenih jedinica i podacima za konta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Zapisnike i zaključke sa službenih sjednica tijela javne vla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79280" y="2060280"/>
            <a:ext cx="85075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formacije o postupcima javne nabave te informacije o izvršavanju ugov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bavijesti o raspisanim natječajima te natječajnu dokumentaci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egistre i baze podat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bavijesti o načinu ostvarivanja prava na pristup informa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isinu naknade za pristup informa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jčešće tražene informa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stale informacije (vijesti, priopćenja za javnost, podaci o drugim aktivnosti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TIJELA JAVNE VLASTI OBVEZNA SU NA INTERNETSKIM STRANICAMA OBJAVITI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08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snovne informac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856908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Aktual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811836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-181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avo na pristup informacij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677440" cy="5133960"/>
          </a:xfrm>
          <a:prstGeom prst="rect">
            <a:avLst/>
          </a:prstGeom>
          <a:ln w="0">
            <a:noFill/>
          </a:ln>
        </p:spPr>
      </p:pic>
      <p:sp>
        <p:nvSpPr>
          <p:cNvPr id="559" name="Oval 3"/>
          <p:cNvSpPr/>
          <p:nvPr/>
        </p:nvSpPr>
        <p:spPr>
          <a:xfrm>
            <a:off x="179280" y="2781360"/>
            <a:ext cx="1871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0" name="Straight Arrow Connector 5"/>
          <p:cNvCxnSpPr/>
          <p:nvPr/>
        </p:nvCxnSpPr>
        <p:spPr>
          <a:xfrm flipV="1">
            <a:off x="-108000" y="2959920"/>
            <a:ext cx="504000" cy="1189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bjavljivanje dokumen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"/>
          <p:cNvPicPr/>
          <p:nvPr/>
        </p:nvPicPr>
        <p:blipFill>
          <a:blip r:embed="rId2"/>
          <a:stretch/>
        </p:blipFill>
        <p:spPr>
          <a:xfrm>
            <a:off x="250920" y="1217520"/>
            <a:ext cx="86770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ogledajte už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emo-ustanova.enel.hr</a:t>
            </a:r>
            <a:r>
              <a:rPr b="0" lang="hr-H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/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iše informacija 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vladimir.danilovic@enel.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021 406 2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08:50:49Z</dcterms:created>
  <dc:creator>Gorana Sivić Rušinović</dc:creator>
  <dc:description/>
  <dc:language>en-US</dc:language>
  <cp:lastModifiedBy>Jana Bajurin</cp:lastModifiedBy>
  <dcterms:modified xsi:type="dcterms:W3CDTF">2013-05-27T09:57:00Z</dcterms:modified>
  <cp:revision>8</cp:revision>
  <dc:subject/>
  <dc:title>PowerPoint Presentation</dc:title>
</cp:coreProperties>
</file>