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C4A-B32A-4E33-9336-D41DF66D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D43-BF9B-443D-9F84-DAE571F4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80F8C-701B-4667-ACF5-9028DDAB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09C50-823D-4676-A33E-F5235588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199E8-ED00-48B7-883C-5A2DBF6B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006F8-54AD-47AF-A4EC-04230DB4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4EE17-8B6A-4197-A531-E2A4B8E6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1E289-90C6-41C7-BE0F-D3D439C2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4C6C8-0D50-49CA-8BA8-4C05A6CD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66C5F-E499-43E4-AC1A-7C53BFAD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251DF-398B-4B1F-95F2-47AB9C3D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CBF4B-1472-45F2-82B8-BC333727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FD8-6BDA-434C-A048-F24E2949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7BCA7-F35B-4EEC-8E2A-63A65F5D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A085B-97E5-4D82-BD3B-4AC02B99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4EE69-8065-478F-BE94-F662280D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010A3-ED6B-4B2E-9B42-8C80F1AA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AEC87-51E4-4DD1-8100-DFA0E8F4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C5F9D-5281-4503-B9AE-23ADBAF4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3514A-2F57-4EAF-B968-3F18D8B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075E0-62CB-4121-9071-25656EF1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E44BC-D640-42AB-9BF7-68CC1F5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494F6-C57B-40A2-B5A4-0C325577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C0F-93B4-4737-8990-9D44E3CD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911CF-E9FF-4244-B88D-71A17D6A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0C1B4-86B5-48C8-B534-B7360DC1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01999-FBB3-480B-8CCB-51E4B40A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6C5C6-1E35-4A5E-A5DE-88B8A1FD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F31A4-5C7E-480B-A161-00AB92A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9F78B-A5A0-4ECA-B732-F5DD9086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D2AED-F36F-49BD-B341-33CD435C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04DDE-7EE8-46BE-843B-2FF6D501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CF7BD-08BF-4492-BBA9-E6E7599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9123-C481-45B3-8A16-F7BFE23C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9352-10E6-4D94-BE6A-DF7ACA12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43610-7479-4783-8CAA-47AC4EBB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B5AB9-4B43-414A-9D29-1C4381EB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2C46D-82CF-4E71-BBCE-2F0BA258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D0EC0-FEDF-414B-ACDF-10D28854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D493C-487D-4DC0-A71D-A45CAD23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8D2B0-F20A-498A-ADC5-935B6B0B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E2D0D-D69F-4614-9219-AD67E217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F9D01-FA9C-4415-B28F-0D62D929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EFBB8-F099-471C-91FD-B27C1C5A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4C4AF-E6C9-4B28-B7FD-22FE9799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B0C8-2460-42CB-8E30-6B951143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325C2-2657-418A-8A35-F32D80FA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E61B5-1BB7-493F-A862-6FB061FB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6EF5B-4D92-4980-AF9C-3316081F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91913-5615-420D-96A6-20DA7DDD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01219-DC3A-41B8-823F-27E8B7C2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1B82B-FAFB-4C0F-8FF9-DD05D076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BEEAC-1C99-4865-950B-27767649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110EE-8FFC-4F90-B1D6-922289B3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AA5A7-FE73-43BA-939F-A468023B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6CCEB-86B4-43C0-8B06-6378852C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D330-F89F-4B47-BB12-C1804857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7E9FA-DBDD-44F4-9E3E-5D6875C3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998E5-44CF-44B6-B35D-980F024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88466-07DE-43F9-B2D0-426B0BE2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F6AA9-8B9C-4BCE-9FA3-903D09E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DDD0E-4256-47C0-900A-68CAD624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59DE3-27C0-44AB-8C69-28E0D066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D6777-AFF7-451B-8FDC-7AA552E6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50D4-6418-436E-B6C7-3F59EF0F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A6E7-B1D6-431E-BCB6-1B9B6AA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8EA5-C7FF-4B0C-8091-CDC6525C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6C4A-1B1B-4E21-B40F-ECC68CA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84D-9A86-4C89-8763-909EDE10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C7DD-EFF5-4EC2-8067-53C7892F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28A2-CEE6-4AD7-80EE-27F8055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B6B9-504A-4080-BEC3-EC8DBD24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95F7-F364-4896-9717-4F648F6B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D7A9-FA67-4F2C-A497-21473643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D535-9C4C-4DC6-9640-B17C0A29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D92BF-5BEF-4879-AD21-6C5C24E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46AE-B151-43E8-9836-E4AECEE4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9D97-C794-41CE-BF0D-FAFFE84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8269-6E90-48EE-B3F1-2F5EBC77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208-B5A5-4D72-A87A-5C0CDC93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6389-0C81-4E61-81A8-1BE42BDA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E6E4-E609-4DFF-A841-29B5594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1EA9-0D1E-492F-BC8E-23C92E13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C910-1510-4D36-874A-BAE8BEF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0B05-072E-4798-8C8E-686AA063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F9C6-2C61-4534-806E-40C4035A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F1AA-02B5-429E-93B7-ED97939D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0885-7C13-41FB-A05F-C6FAA516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4E4C-4EE7-4F99-BE76-0CDF6C6E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09D5-63D4-481C-9E19-FBEF18B3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B0E-A50E-4C6E-918F-51B1F05C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5CD6-36A2-402F-9F79-B97E967F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EEB9-4992-4816-8FEC-DF4998F0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EE5DB-6754-458A-98F8-EDD19E01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F500-D805-404B-9360-8853E58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684A-D5EC-4DA5-B488-B414908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29F9-5A98-433F-9776-E00AAB3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3ACC-60FF-423D-BB60-8F17EB70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22FF-C2F8-4EA5-BE5A-66DA1D67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57E0-84A4-46CA-83D0-AFA476A9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18E74-AC48-43CC-A37D-E6673311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E43-770E-4291-A326-0F652271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F5C74-5DC7-45DD-A037-08D04001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89E15-356C-4393-9CEC-16DA2091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C7577-8A79-4270-A806-65854E7D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7691-7D61-431F-98AB-5C55CC9E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86A5-258E-4A31-BD55-C4E93DFD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B54B8-1EA3-46E2-967A-3BF5C6E3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FB8C-3560-47F9-B506-11419ED9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9F23-F895-42C6-B1D4-931C2832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DDD1A-081C-4FE3-A3D4-645517B5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4C29E-B7D7-47F6-A52A-E4F43A1B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CA6-E4CC-4223-9F16-E1859529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9F650-F2D6-41C8-8440-D4849E95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63B40-8B8C-4CCB-BE86-809DA31D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34E20-014F-4EF8-9B22-C45B5FE4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6DFFB-7BDF-444D-9EB6-B020BA5D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2837B-3360-4B2F-8C39-4AB97440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6376-0648-487C-B354-B93F8808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E1D7-77CF-4874-8F18-9093B661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A9028-8C57-4FD3-B921-6DCB89E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4C56C-68A2-4F92-9E0F-1A4E9D3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7ACBD-40FC-435E-8580-FC278E7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F8B-535F-4F37-B861-787B35EE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222D7-1817-4032-BBEE-8F38EF3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46AD-7974-4233-9267-A99804B4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220CB-D508-4618-B30B-FE2BD693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14F13-7A87-4AB5-A1DF-A098C3C4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BE753-2D43-4663-80FD-68BB0A38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37C88-57F6-41C0-BAF4-838FB959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706F-8A68-42FB-923C-69B70836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D09D2-A4E3-4397-A604-87117B07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4E25-B62C-43C7-8002-CBEB4F87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585E8-5347-4316-B045-D017051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096-A3E2-470E-9759-D72CCD2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3972-D4A4-495A-870E-D77CCF9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4CCC1-CE2F-428C-9740-7B94C8FE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1248C-31FE-4848-819B-B0D7196C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C4877-16AA-4769-B7F8-8EB78A5F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25BC-12DC-4C84-BE90-05986ECE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CB33-480E-404A-B4BA-344AB5ED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1BE4B-1EB6-4AB4-A313-618404FD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2991-27A1-43CF-BD35-D1E295AB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BD9A0-F7D8-4E9E-96DC-34A3F04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8FF65-59F4-4C0C-8CE2-1930A950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781-BF4D-41E2-9348-A76305D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878BF-3BB9-4C3B-9213-FB4C8D2A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26BDD-C497-4153-AC71-A0F78C7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91970-A3F2-4E0C-8E18-A6953954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F217C-858F-4558-A405-FDD12F81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A0C2F-95A8-47A1-BF10-2F4A339F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35C66-270D-47B3-BAEA-AD3F0679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E913F-B2C1-4490-801C-B92F5CFC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205D9-629E-4C2B-97FF-B3DD4B03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158C5-4835-41FC-BAA2-98776067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75FFD-FD14-42A9-B8DE-B0D6660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Opatija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249F-720F-4763-8F1F-DB44B845853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3CDA-1D83-4F15-BBD4-9D56D0EA18B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A425-DA3E-4C05-A714-D1FDE9FCF34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CE43-D289-498E-8B3F-22B3AD8047E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75EE-9DD4-4B19-96EA-05676C172C7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2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79560" y="6508800"/>
            <a:ext cx="407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637A-C216-48E7-81D1-6A8CD948C5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B180-D3DE-40AE-9E62-442964DFD87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561E-5D47-4D99-A54C-632EAF8D8C9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F:\PP\ProFi_PowPt_backgrounds2012_3-8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3012-F7A1-46B3-B8E0-B71D7B884AD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F:\PP\ProFi_PowPt_backgrounds2012_3-12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DCC5-F5A4-4E11-9C55-77FE35B2976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E2F1-5C31-4589-BA24-48E4E59EE92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341-C41C-4310-B11A-B96ED67C5CC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E34C-AAC8-40FE-BB58-DFCFE7379BC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rofi.enel.hr/" TargetMode="External"/><Relationship Id="rId2" Type="http://schemas.openxmlformats.org/officeDocument/2006/relationships/hyperlink" Target="http://centri.enel.hr/" TargetMode="External"/><Relationship Id="rId3" Type="http://schemas.openxmlformats.org/officeDocument/2006/relationships/hyperlink" Target="http://profi.enel.hr/" TargetMode="External"/><Relationship Id="rId4" Type="http://schemas.openxmlformats.org/officeDocument/2006/relationships/hyperlink" Target="http://centri.enel.hr/" TargetMode="External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aćenje izvršenja nabave po ugovo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ša Kela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sa.kelava@enel.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rcRect l="0" t="0" r="8128" b="40369"/>
          <a:stretch/>
        </p:blipFill>
        <p:spPr>
          <a:xfrm>
            <a:off x="642960" y="1785960"/>
            <a:ext cx="8370720" cy="407196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5"/>
          <p:cNvCxnSpPr/>
          <p:nvPr/>
        </p:nvCxnSpPr>
        <p:spPr>
          <a:xfrm flipH="1">
            <a:off x="8357760" y="3071520"/>
            <a:ext cx="357840" cy="5720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65" name="Straight Arrow Connector 11"/>
          <p:cNvCxnSpPr/>
          <p:nvPr/>
        </p:nvCxnSpPr>
        <p:spPr>
          <a:xfrm>
            <a:off x="7000560" y="3214440"/>
            <a:ext cx="857880" cy="786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66" name="Straight Arrow Connector 12"/>
          <p:cNvCxnSpPr/>
          <p:nvPr/>
        </p:nvCxnSpPr>
        <p:spPr>
          <a:xfrm flipH="1">
            <a:off x="8500680" y="3786120"/>
            <a:ext cx="357840" cy="5724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67" name="Rectangle 14"/>
          <p:cNvSpPr/>
          <p:nvPr/>
        </p:nvSpPr>
        <p:spPr>
          <a:xfrm>
            <a:off x="5857920" y="5286240"/>
            <a:ext cx="242892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Cijena je informativni poda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rcRect l="0" t="0" r="2252" b="23986"/>
          <a:stretch/>
        </p:blipFill>
        <p:spPr>
          <a:xfrm>
            <a:off x="714240" y="1643040"/>
            <a:ext cx="8143920" cy="4746600"/>
          </a:xfrm>
          <a:prstGeom prst="rect">
            <a:avLst/>
          </a:prstGeom>
          <a:ln w="0">
            <a:noFill/>
          </a:ln>
        </p:spPr>
      </p:pic>
      <p:cxnSp>
        <p:nvCxnSpPr>
          <p:cNvPr id="570" name="Straight Arrow Connector 5"/>
          <p:cNvCxnSpPr/>
          <p:nvPr/>
        </p:nvCxnSpPr>
        <p:spPr>
          <a:xfrm flipH="1" flipV="1">
            <a:off x="5357160" y="5500440"/>
            <a:ext cx="857880" cy="35784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71" name="Rectangle 6"/>
          <p:cNvSpPr/>
          <p:nvPr/>
        </p:nvSpPr>
        <p:spPr>
          <a:xfrm>
            <a:off x="1214280" y="5214960"/>
            <a:ext cx="257184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I neknjižene prim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rcRect l="0" t="0" r="9139" b="39975"/>
          <a:stretch/>
        </p:blipFill>
        <p:spPr>
          <a:xfrm>
            <a:off x="785880" y="1714680"/>
            <a:ext cx="7643880" cy="42145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5"/>
          <p:cNvSpPr/>
          <p:nvPr/>
        </p:nvSpPr>
        <p:spPr>
          <a:xfrm>
            <a:off x="4000680" y="5072040"/>
            <a:ext cx="4357440" cy="986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alibri"/>
              </a:rPr>
              <a:t>Korištenje dugmeta STANJE ARTIKLA PO UGOVORU ako ne postoji ugo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rcRect l="0" t="0" r="23087" b="25000"/>
          <a:stretch/>
        </p:blipFill>
        <p:spPr>
          <a:xfrm>
            <a:off x="571680" y="1643040"/>
            <a:ext cx="7643520" cy="4648320"/>
          </a:xfrm>
          <a:prstGeom prst="rect">
            <a:avLst/>
          </a:prstGeom>
          <a:ln w="0">
            <a:noFill/>
          </a:ln>
        </p:spPr>
      </p:pic>
      <p:cxnSp>
        <p:nvCxnSpPr>
          <p:cNvPr id="577" name="Straight Arrow Connector 5"/>
          <p:cNvCxnSpPr/>
          <p:nvPr/>
        </p:nvCxnSpPr>
        <p:spPr>
          <a:xfrm>
            <a:off x="5785200" y="2928600"/>
            <a:ext cx="429480" cy="7866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71680" y="164268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ovosti u Skladišnom poslovanju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( opciono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rcRect l="0" t="0" r="23235" b="42219"/>
          <a:stretch/>
        </p:blipFill>
        <p:spPr>
          <a:xfrm>
            <a:off x="714240" y="2286000"/>
            <a:ext cx="7500960" cy="3929040"/>
          </a:xfrm>
          <a:prstGeom prst="rect">
            <a:avLst/>
          </a:prstGeom>
          <a:ln w="0">
            <a:noFill/>
          </a:ln>
        </p:spPr>
      </p:pic>
      <p:cxnSp>
        <p:nvCxnSpPr>
          <p:cNvPr id="581" name="Straight Arrow Connector 5"/>
          <p:cNvCxnSpPr/>
          <p:nvPr/>
        </p:nvCxnSpPr>
        <p:spPr>
          <a:xfrm>
            <a:off x="285840" y="1856880"/>
            <a:ext cx="714960" cy="35820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2" name="Straight Arrow Connector 6"/>
          <p:cNvCxnSpPr/>
          <p:nvPr/>
        </p:nvCxnSpPr>
        <p:spPr>
          <a:xfrm>
            <a:off x="428760" y="4857840"/>
            <a:ext cx="714960" cy="35784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rcRect l="0" t="0" r="23242" b="48799"/>
          <a:stretch/>
        </p:blipFill>
        <p:spPr>
          <a:xfrm>
            <a:off x="928800" y="2286000"/>
            <a:ext cx="7286400" cy="3643200"/>
          </a:xfrm>
          <a:prstGeom prst="rect">
            <a:avLst/>
          </a:prstGeom>
          <a:ln w="0">
            <a:noFill/>
          </a:ln>
        </p:spPr>
      </p:pic>
      <p:cxnSp>
        <p:nvCxnSpPr>
          <p:cNvPr id="585" name="Straight Arrow Connector 5"/>
          <p:cNvCxnSpPr/>
          <p:nvPr/>
        </p:nvCxnSpPr>
        <p:spPr>
          <a:xfrm flipH="1" flipV="1">
            <a:off x="2642400" y="3214440"/>
            <a:ext cx="2072520" cy="42912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6" name="Straight Arrow Connector 6"/>
          <p:cNvCxnSpPr/>
          <p:nvPr/>
        </p:nvCxnSpPr>
        <p:spPr>
          <a:xfrm flipH="1" flipV="1">
            <a:off x="7429320" y="3929040"/>
            <a:ext cx="429120" cy="64332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0" t="0" r="8128" b="40369"/>
          <a:stretch/>
        </p:blipFill>
        <p:spPr>
          <a:xfrm>
            <a:off x="642960" y="1785960"/>
            <a:ext cx="8370720" cy="4071960"/>
          </a:xfrm>
          <a:prstGeom prst="rect">
            <a:avLst/>
          </a:prstGeom>
          <a:ln w="0">
            <a:noFill/>
          </a:ln>
        </p:spPr>
      </p:pic>
      <p:cxnSp>
        <p:nvCxnSpPr>
          <p:cNvPr id="589" name="Straight Arrow Connector 5"/>
          <p:cNvCxnSpPr/>
          <p:nvPr/>
        </p:nvCxnSpPr>
        <p:spPr>
          <a:xfrm flipH="1">
            <a:off x="8357760" y="3071520"/>
            <a:ext cx="357840" cy="5720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0" name="Straight Arrow Connector 11"/>
          <p:cNvCxnSpPr/>
          <p:nvPr/>
        </p:nvCxnSpPr>
        <p:spPr>
          <a:xfrm>
            <a:off x="7000560" y="3214440"/>
            <a:ext cx="857880" cy="786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1" name="Straight Arrow Connector 12"/>
          <p:cNvCxnSpPr/>
          <p:nvPr/>
        </p:nvCxnSpPr>
        <p:spPr>
          <a:xfrm flipH="1">
            <a:off x="8500680" y="3786120"/>
            <a:ext cx="357840" cy="5724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92" name="Rectangle 14"/>
          <p:cNvSpPr/>
          <p:nvPr/>
        </p:nvSpPr>
        <p:spPr>
          <a:xfrm>
            <a:off x="5857920" y="5286240"/>
            <a:ext cx="242892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Cijena je informativni poda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rcRect l="0" t="0" r="23087" b="25000"/>
          <a:stretch/>
        </p:blipFill>
        <p:spPr>
          <a:xfrm>
            <a:off x="571680" y="1643040"/>
            <a:ext cx="7643520" cy="4648320"/>
          </a:xfrm>
          <a:prstGeom prst="rect">
            <a:avLst/>
          </a:prstGeom>
          <a:ln w="0">
            <a:noFill/>
          </a:ln>
        </p:spPr>
      </p:pic>
      <p:cxnSp>
        <p:nvCxnSpPr>
          <p:cNvPr id="595" name="Straight Arrow Connector 5"/>
          <p:cNvCxnSpPr/>
          <p:nvPr/>
        </p:nvCxnSpPr>
        <p:spPr>
          <a:xfrm>
            <a:off x="5785200" y="2928600"/>
            <a:ext cx="429480" cy="7866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ovosti u Planu nabav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( opcion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1"/>
          <a:stretch/>
        </p:blipFill>
        <p:spPr>
          <a:xfrm>
            <a:off x="2000160" y="2214720"/>
            <a:ext cx="4500720" cy="4171680"/>
          </a:xfrm>
          <a:prstGeom prst="rect">
            <a:avLst/>
          </a:prstGeom>
          <a:ln w="0">
            <a:noFill/>
          </a:ln>
        </p:spPr>
      </p:pic>
      <p:cxnSp>
        <p:nvCxnSpPr>
          <p:cNvPr id="599" name="Straight Arrow Connector 5"/>
          <p:cNvCxnSpPr/>
          <p:nvPr/>
        </p:nvCxnSpPr>
        <p:spPr>
          <a:xfrm>
            <a:off x="1857240" y="4714920"/>
            <a:ext cx="858240" cy="7149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rcRect l="0" t="0" r="59037" b="76816"/>
          <a:stretch/>
        </p:blipFill>
        <p:spPr>
          <a:xfrm>
            <a:off x="357120" y="1857240"/>
            <a:ext cx="8420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iranje nabave – što je do sad napravljeno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Plan nabave uput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'  trajno dostupna na ENEL-ovim portalima ( 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rofi.enel.h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entri.enel.h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) u verziji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( patchu )  8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iranje nabave – što je novo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Plana nabave uputa II di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’ trajno dostupna na ENEL-ovim portalima ( 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rofi.enel.h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centri.enel.h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) u verziji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( patchu ) 20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rcRect l="26069" t="43061" r="2705" b="6594"/>
          <a:stretch/>
        </p:blipFill>
        <p:spPr>
          <a:xfrm>
            <a:off x="714240" y="1714680"/>
            <a:ext cx="7685280" cy="4071600"/>
          </a:xfrm>
          <a:prstGeom prst="rect">
            <a:avLst/>
          </a:prstGeom>
          <a:ln w="0">
            <a:noFill/>
          </a:ln>
        </p:spPr>
      </p:pic>
      <p:cxnSp>
        <p:nvCxnSpPr>
          <p:cNvPr id="604" name="Straight Arrow Connector 5"/>
          <p:cNvCxnSpPr/>
          <p:nvPr/>
        </p:nvCxnSpPr>
        <p:spPr>
          <a:xfrm>
            <a:off x="5642640" y="4214520"/>
            <a:ext cx="1143720" cy="12150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05" name="Rectangle 6"/>
          <p:cNvSpPr/>
          <p:nvPr/>
        </p:nvSpPr>
        <p:spPr>
          <a:xfrm>
            <a:off x="3929040" y="3286080"/>
            <a:ext cx="27147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V A Ž N O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rcRect l="0" t="0" r="34190" b="48799"/>
          <a:stretch/>
        </p:blipFill>
        <p:spPr>
          <a:xfrm>
            <a:off x="928800" y="1857240"/>
            <a:ext cx="7348320" cy="4286520"/>
          </a:xfrm>
          <a:prstGeom prst="rect">
            <a:avLst/>
          </a:prstGeom>
          <a:ln w="0">
            <a:noFill/>
          </a:ln>
        </p:spPr>
      </p:pic>
      <p:cxnSp>
        <p:nvCxnSpPr>
          <p:cNvPr id="608" name="Straight Arrow Connector 5"/>
          <p:cNvCxnSpPr/>
          <p:nvPr/>
        </p:nvCxnSpPr>
        <p:spPr>
          <a:xfrm>
            <a:off x="6214680" y="4571640"/>
            <a:ext cx="857880" cy="21492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09" name="Rectangle 7"/>
          <p:cNvSpPr/>
          <p:nvPr/>
        </p:nvSpPr>
        <p:spPr>
          <a:xfrm>
            <a:off x="4714920" y="2500200"/>
            <a:ext cx="3000240" cy="15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Preduvje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Skenirati ugovor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staviti ga u odgovarajući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rcRect l="0" t="0" r="34478" b="48420"/>
          <a:stretch/>
        </p:blipFill>
        <p:spPr>
          <a:xfrm>
            <a:off x="571680" y="1643040"/>
            <a:ext cx="7642080" cy="4500720"/>
          </a:xfrm>
          <a:prstGeom prst="rect">
            <a:avLst/>
          </a:prstGeom>
          <a:ln w="0">
            <a:noFill/>
          </a:ln>
        </p:spPr>
      </p:pic>
      <p:cxnSp>
        <p:nvCxnSpPr>
          <p:cNvPr id="612" name="Straight Arrow Connector 5"/>
          <p:cNvCxnSpPr/>
          <p:nvPr/>
        </p:nvCxnSpPr>
        <p:spPr>
          <a:xfrm flipH="1" flipV="1">
            <a:off x="1428120" y="2928240"/>
            <a:ext cx="786600" cy="429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13" name="Straight Arrow Connector 7"/>
          <p:cNvCxnSpPr/>
          <p:nvPr/>
        </p:nvCxnSpPr>
        <p:spPr>
          <a:xfrm>
            <a:off x="4070880" y="3714840"/>
            <a:ext cx="572040" cy="6433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rcRect l="0" t="0" r="32171" b="47062"/>
          <a:stretch/>
        </p:blipFill>
        <p:spPr>
          <a:xfrm>
            <a:off x="785880" y="1785960"/>
            <a:ext cx="7203960" cy="4214880"/>
          </a:xfrm>
          <a:prstGeom prst="rect">
            <a:avLst/>
          </a:prstGeom>
          <a:ln w="0">
            <a:noFill/>
          </a:ln>
        </p:spPr>
      </p:pic>
      <p:cxnSp>
        <p:nvCxnSpPr>
          <p:cNvPr id="616" name="Straight Arrow Connector 5"/>
          <p:cNvCxnSpPr/>
          <p:nvPr/>
        </p:nvCxnSpPr>
        <p:spPr>
          <a:xfrm flipH="1" flipV="1">
            <a:off x="5928840" y="5571720"/>
            <a:ext cx="858240" cy="5724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rcRect l="0" t="0" r="904" b="4798"/>
          <a:stretch/>
        </p:blipFill>
        <p:spPr>
          <a:xfrm>
            <a:off x="1785960" y="1714680"/>
            <a:ext cx="57024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ova izvješća u planu nab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rcRect l="0" t="0" r="50592" b="76673"/>
          <a:stretch/>
        </p:blipFill>
        <p:spPr>
          <a:xfrm>
            <a:off x="500040" y="2428920"/>
            <a:ext cx="8067600" cy="2857320"/>
          </a:xfrm>
          <a:prstGeom prst="rect">
            <a:avLst/>
          </a:prstGeom>
          <a:ln w="0">
            <a:noFill/>
          </a:ln>
        </p:spPr>
      </p:pic>
      <p:cxnSp>
        <p:nvCxnSpPr>
          <p:cNvPr id="622" name="Straight Arrow Connector 5"/>
          <p:cNvCxnSpPr/>
          <p:nvPr/>
        </p:nvCxnSpPr>
        <p:spPr>
          <a:xfrm>
            <a:off x="3714480" y="4071600"/>
            <a:ext cx="1429560" cy="5007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23" name="Straight Arrow Connector 7"/>
          <p:cNvCxnSpPr/>
          <p:nvPr/>
        </p:nvCxnSpPr>
        <p:spPr>
          <a:xfrm>
            <a:off x="3714480" y="4285800"/>
            <a:ext cx="1429560" cy="5007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rcRect l="7659" t="2028" r="32381" b="31850"/>
          <a:stretch/>
        </p:blipFill>
        <p:spPr>
          <a:xfrm>
            <a:off x="1500120" y="1643040"/>
            <a:ext cx="5357880" cy="465300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3"/>
          <p:cNvSpPr/>
          <p:nvPr/>
        </p:nvSpPr>
        <p:spPr>
          <a:xfrm>
            <a:off x="6215040" y="4000680"/>
            <a:ext cx="2700360" cy="171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Dijaloški okvir za izvješće </a:t>
            </a:r>
            <a:r>
              <a:rPr b="1" lang="hr-HR" sz="2000" spc="-1" strike="noStrike">
                <a:solidFill>
                  <a:srgbClr val="c00000"/>
                </a:solidFill>
                <a:latin typeface="Calibri"/>
              </a:rPr>
              <a:t>Planirano/Nabavlje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rcRect l="0" t="24444" r="0" b="17781"/>
          <a:stretch/>
        </p:blipFill>
        <p:spPr>
          <a:xfrm>
            <a:off x="214200" y="1785960"/>
            <a:ext cx="8572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rcRect l="8057" t="9764" r="33352" b="43361"/>
          <a:stretch/>
        </p:blipFill>
        <p:spPr>
          <a:xfrm>
            <a:off x="928800" y="1643040"/>
            <a:ext cx="7381800" cy="442908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5"/>
          <p:cNvSpPr/>
          <p:nvPr/>
        </p:nvSpPr>
        <p:spPr>
          <a:xfrm>
            <a:off x="6286680" y="4214880"/>
            <a:ext cx="2857320" cy="14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Dijaloški okvir za izvješ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alibri"/>
              </a:rPr>
              <a:t>Stanje artikla po ugov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rcRect l="0" t="22461" r="28225" b="18947"/>
          <a:stretch/>
        </p:blipFill>
        <p:spPr>
          <a:xfrm>
            <a:off x="857160" y="1643040"/>
            <a:ext cx="7000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istematizaciju procesa i dokumenata vezenih za poslove javne naba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risniku je omogućeno da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dio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okumenata koje propisuje zakon o javnoj nabavi ( plan nabave, tenedere i ugovore )  izrađuje i pohranjuje na jedno zajedničko mjesto te da ih sa tog zajedničkog mjesta koristi u svrhu obja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daci su svima ( uz odgovarajuće korisničko ime i lozinku ) dostupni, jasni i imaju odgovarajuće, zakonom propisane, for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ključak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zentirane  novosti u planiranju nabave nude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jednostavan i praktičan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čin za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kontrol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zvršenja plana nabave i pratećih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ugovor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alibri"/>
              </a:rPr>
              <a:t>Hvala na pažnji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donosi nova verzija 03.40.01 patch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ama u aplikacijama i izvještajnom ala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mogućena potpuna informacija o trenutnoj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vršenosti ugov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formacije su pregledne i jasne te se na osnovu njih lakše donose ispravn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e odluk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mogućeno spremanje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sv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kumentacije na jedno, svima dostupno, mjes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e u aplikacij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redišnje mjesto za izvršavanje plana nabave je materijalno knjigovodstvo ( opciono Skladišno poslovanje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jvažniji dokument pri izvršenju plana nabave tj. ugovora je Prim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duvjeti za praćenje izvr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oje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definirani predmeti nabav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 aplikacija Plan nabav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oji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definiran plan nabav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a pripadajućim troškovnic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 aplikacija Plan nabav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Zaključan plan nabav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 aplikacija Plan nabav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oji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definiran i potvrđen ugovor sa ažuriranim troškovnikom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 aplikacija Plan nabave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3" descr=""/>
          <p:cNvPicPr/>
          <p:nvPr/>
        </p:nvPicPr>
        <p:blipFill>
          <a:blip r:embed="rId1"/>
          <a:srcRect l="0" t="8391" r="29949" b="46294"/>
          <a:stretch/>
        </p:blipFill>
        <p:spPr>
          <a:xfrm>
            <a:off x="357120" y="1714680"/>
            <a:ext cx="8358120" cy="3979800"/>
          </a:xfrm>
          <a:prstGeom prst="rect">
            <a:avLst/>
          </a:prstGeom>
          <a:ln w="0">
            <a:noFill/>
          </a:ln>
        </p:spPr>
      </p:pic>
      <p:cxnSp>
        <p:nvCxnSpPr>
          <p:cNvPr id="553" name="Straight Arrow Connector 5"/>
          <p:cNvCxnSpPr/>
          <p:nvPr/>
        </p:nvCxnSpPr>
        <p:spPr>
          <a:xfrm>
            <a:off x="6143400" y="3857400"/>
            <a:ext cx="1215000" cy="5007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7" descr=""/>
          <p:cNvPicPr/>
          <p:nvPr/>
        </p:nvPicPr>
        <p:blipFill>
          <a:blip r:embed="rId1"/>
          <a:srcRect l="0" t="0" r="30030" b="64601"/>
          <a:stretch/>
        </p:blipFill>
        <p:spPr>
          <a:xfrm>
            <a:off x="714240" y="1714680"/>
            <a:ext cx="8080560" cy="314316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4"/>
          <p:cNvSpPr/>
          <p:nvPr/>
        </p:nvSpPr>
        <p:spPr>
          <a:xfrm>
            <a:off x="1143000" y="5000760"/>
            <a:ext cx="414324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Ažuriran troškov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Preduvjet za izvršavanje ugov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599840"/>
            <a:ext cx="81154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e u materijalnom knjigovodst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rcRect l="0" t="0" r="23242" b="48799"/>
          <a:stretch/>
        </p:blipFill>
        <p:spPr>
          <a:xfrm>
            <a:off x="928800" y="2286000"/>
            <a:ext cx="7286400" cy="364320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5"/>
          <p:cNvCxnSpPr/>
          <p:nvPr/>
        </p:nvCxnSpPr>
        <p:spPr>
          <a:xfrm flipH="1" flipV="1">
            <a:off x="2642400" y="3214440"/>
            <a:ext cx="2072520" cy="42912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61" name="Straight Arrow Connector 6"/>
          <p:cNvCxnSpPr/>
          <p:nvPr/>
        </p:nvCxnSpPr>
        <p:spPr>
          <a:xfrm flipH="1" flipV="1">
            <a:off x="7429320" y="3929040"/>
            <a:ext cx="429120" cy="64332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0:49Z</dcterms:created>
  <dc:creator>Gorana Sivić Rušinović</dc:creator>
  <dc:description/>
  <dc:language>en-US</dc:language>
  <cp:lastModifiedBy>Jana Bajurin</cp:lastModifiedBy>
  <dcterms:modified xsi:type="dcterms:W3CDTF">2013-05-27T09:58:08Z</dcterms:modified>
  <cp:revision>333</cp:revision>
  <dc:subject/>
  <dc:title>PowerPoint Presentation</dc:title>
</cp:coreProperties>
</file>