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913E4-1EBA-4AAA-9F5D-9079F3311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8130F-A926-4F00-94BD-1A5E8C607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8D08464-D0A8-4693-B246-6BA8917E779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6327C43-FC15-4B69-8672-7CADCB87225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CC61228-121C-43F9-A35D-9FCB23F8A9B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F873306-12B9-465E-B2EC-A7A799DA499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88BECB8-11F9-47B3-9BF8-5E4FEE48BE2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8C8E775-8F81-43A5-B6CA-D722168953D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438FC67-3779-4BC3-B36C-2D9FEF8480A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D199307-BCE2-4BA2-B74D-4ACF140E92A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2FD707D-1207-448B-830C-6ED01661D43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DC826A-16D1-49DE-ADAC-F0F3A2DB36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93EB3-2F3F-44AF-990D-9EB458A88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079D86-8B65-4529-ACC9-0C5FDDE2B50E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10CBFC-027D-417B-8EFF-C8320E6A2E0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6650C-7F93-45E1-8628-CFE7493A4D5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3C3394-DF64-4050-91DD-44B1369F684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C02970-D570-45FC-B88D-D274CC12D73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E0A47-CEF1-4168-8223-6E4ABD8C302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566C0B-6FDF-4A7B-A265-E2A596F56FE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967D9B-D181-48EB-A233-360F48720C4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94F17-D311-4DA0-B6DA-7679F20A6C3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C4AED4-D1A6-4501-8EF3-EC44C551E8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AE299-2BCB-4CBA-BC6B-36CCBBDC4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5C5C6A-3B03-4563-9A0C-048E17AB8FF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1BD670-00F7-4574-9D21-AE4F655FBEB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EE3DF7-3454-40F5-AFA0-3ED4E0B0111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D644B8-83E0-474D-9DC8-D4EB142EB09D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6523DF-82F7-4D65-9F54-32FB5B17D16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AD15C2-8AEE-460D-A43E-165B506F684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15D384-4752-4ADB-A49C-827A64EB836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1F5521-923D-4EA8-8AF3-0643E187A72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28DB92-027F-407A-BFA0-BD6F93D9F2E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7676B0-3FC4-4385-B867-AC68E9CA6C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FC0652-3FEC-41F9-B4A3-BE341A47F279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502123-D24C-46CE-9A58-8633CD6BC98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D0EAB0-DEBC-4AD2-84BB-6362D7D68E38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11095A-E126-44BF-8E6F-C848D93320D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D97382-15B5-4E99-AA1E-5CF9223FCC42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C16950-A43E-4E41-BAD8-6C1AED1FCF1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441F07-EA3D-40BD-8B04-7A856FD7393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625653-B8F4-4F05-9F8A-BB399639078F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A427EA-6EF5-481B-BCB9-C8DD5085C79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B8E673-11A5-4DD8-8F93-2427A6845AFD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FC4F1F-2198-4AEB-8B75-0F963FD2A7E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DBA423-F62C-477C-8BE5-8A3C92864B3D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FA21EB-D986-4E01-AB70-27041500A33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E67992-C993-4881-BF53-C485189C17A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DE2EA3-0042-417D-9BAE-6A7B6474270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AA9547-AE72-4DB9-B942-2E18421A940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6DDE0E-B028-44CA-AB9B-C1E4ECBD6AD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4E8675-D880-47CF-9A7C-9B6DDF59A66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43B2CE-CE5B-4339-ABE8-79A1B3AED97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549EF1-04C2-43BD-8178-FD301110D33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6294FD-5E1D-4D9E-B6B9-5BEDE9FE5A4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3904C6-8117-4E3F-A694-19AEB16F25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D76F1-5F52-4C6F-8F93-F03A6454E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657B87-984B-4F47-819A-BADB1F42A65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D7FE25-453A-4B35-9B3C-563F034AAFD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1BF98E-CAC8-4B8F-9112-73F97AA46C8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09DE29-E67D-4BDD-AD7A-4FD98514FD6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79F952-991F-4F9E-9025-546626838AD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2B1773-99B8-4DB6-BDBD-78B2323D35D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57BD57-3F35-4278-9CAC-B312832AE71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091D66-8CBE-4CDA-8EA0-436E5305D48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736570-C9BE-4830-9AD7-606BF046094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EE9281-B455-4963-BE82-2DE95F2527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961FA-444A-42A4-8B2C-D393A6C28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703593-2B92-4091-AFB6-BA598A39CA8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99F9AD-BFC4-4465-89ED-64D2CCC29DE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BDE3CC-5442-43A3-915E-E05992E8C37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3F6A0B-2FC6-4ADF-9FE2-3089258C373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A33C5E-04E1-4A0D-ADA1-C74E912BC74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F8DED9-C3EC-40DA-B317-7EC80953253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BA8A32-7953-4D6B-B045-F718DEB1F43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05CF5-5DFF-47AF-B0A2-D8816D4841C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6F586-1C6B-4E76-A4C3-76515233071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C86D0-79B6-439F-9309-FF46853716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5B487-5B39-4DD2-8538-DF241F0FD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AF191-5578-4DBE-92AA-EB1441D8DBE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AC735-19BF-4FEC-BBF0-9FADFD65269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7141F-EAB9-482B-B7E7-77DCDF500A8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285BD-ED1A-4681-8708-57EC464E1F3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C3D46-65CE-486D-91EF-7065E5D84EE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FF4DD-4ECB-4452-A612-30D847F0F32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2834A-ECC9-4ADC-95FD-97DB7EEB74C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1FFEC-36D3-4C1D-BD11-024BA506AD6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273F4-691D-4BE3-AAC1-2BF56CB20DC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9A7292-6EC2-4536-BC2A-949A56FC92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46F9E-C36B-48D2-AE9C-42619297A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1CC803-9494-4019-ABBB-374220BDFDC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123DC9-0AE1-4CAC-9059-BFAB473241A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EFD3D6-B464-4B62-AD01-4C2DC4B4A4E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8CB5D3-0E22-4467-8451-AE4B2045471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0152CC-4A6B-45FE-AD23-0569C496E75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76792A-E051-4ECE-9676-CDDDE9B1939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50E65B-829D-4840-8E0F-F3DBFC5AD8A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631273-5127-40C9-914E-7C4522B7C43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563BB4-295E-4223-A9FA-5BA9DAA7F23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6D58D1-AF6E-4000-B16A-5F20C7822F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D0CDE-9077-48C4-9A38-C00C785EF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F79A04-9095-4B1D-B627-C4DEAC75EAF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187A14-1896-4CD7-9493-06957404E97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AE8C8E-37B2-45D9-A114-B75647783F4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A68490-9554-402E-967B-5A9CEAB3A15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DD03AA-B6A1-4D52-A143-82F6449CC2E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C4F5FA-DA09-4CEE-88C4-E1C9C49B55F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F668A9-99BC-4568-97BA-B07785804C0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CE2AFF-E00C-457F-8362-096B496DFB1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94E102-4BB0-437E-9876-37EE9C20CC6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4DC2319-6B90-44F4-98A4-E5F9A0D0C3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4E0F3-352B-4EFB-A052-CF03154A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FAE52D-8E63-449C-AC0D-45C1DB2D05A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0F81ED-52BA-4854-8831-5F88099DE91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CDA8A8D-5325-4587-AFE1-936357ACC5B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5ADC4-EE1A-45BE-B8BB-E08286EE6BE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6A091-A99C-453B-AA6F-8A555C3F8CA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B3317-0BAA-4D10-BB72-C24A13B7020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944BD-467C-42D1-919F-D46E13344F2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2F79C-0329-4BA6-897E-F6D94B5CF6E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06562-65DB-494F-A0D4-85DE6973315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2BAA1-36C7-4FF0-A0F4-6391E03D5E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B87DC-7AC5-4605-9ADA-2E15342B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C8A14-A20D-44A2-95B7-F04AFF34C17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93EA7-4476-4ECF-9524-36A5D148983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97A15-7D5B-45A2-94C3-15447DEAB50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59CF8-0561-49B0-AD89-EE5E8D595D8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9519B-69DC-436F-ABCB-B8079A18180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3567CA-D18D-4F26-B2EC-07B7BA054B9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C29A50-07F5-406C-81C9-F4CFBEBC121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DB0A4A-530E-418D-9879-C4DA4B3F87A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61ECE4-2BD5-4771-A582-053CCCBF2E9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3FBF8F-2457-4081-91B9-2759A4759F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B4F89-6E0C-402C-B711-872B4626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E966F4-DE60-4317-9D0B-6F3C64BF402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AF0590-85B1-4A41-BF3C-8E663D8A16F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2D6330-2656-4FAB-821F-08C17134B13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7C5E2B-3639-4F34-B21A-273CB975D5D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4DA26D-1716-4370-9B8D-4387DC85A9D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CF6123-390F-49F0-BC81-757494005BF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26107F-3075-46F4-A1F2-E24B87B5346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25E59B5-0A47-42F1-8D60-47D087617DA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FE0F15B-28CC-46A0-BFAD-806BD27798C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B955E7D-0F2B-478C-AF97-55B6D22F00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30080" indent="-182520">
              <a:spcBef>
                <a:spcPts val="601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004760" indent="-18252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187280" indent="-13644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68000" y="18720"/>
            <a:ext cx="777564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316720" y="18720"/>
            <a:ext cx="7189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028A2-C1D3-4989-AA53-8AE9708A0F7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8100720" y="6492960"/>
            <a:ext cx="104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5" name="Slika 9" descr=""/>
          <p:cNvPicPr/>
          <p:nvPr/>
        </p:nvPicPr>
        <p:blipFill>
          <a:blip r:embed="rId2"/>
          <a:stretch/>
        </p:blipFill>
        <p:spPr>
          <a:xfrm>
            <a:off x="3949560" y="6504120"/>
            <a:ext cx="1414440" cy="326880"/>
          </a:xfrm>
          <a:prstGeom prst="rect">
            <a:avLst/>
          </a:prstGeom>
          <a:ln w="0">
            <a:noFill/>
          </a:ln>
        </p:spPr>
      </p:pic>
      <p:pic>
        <p:nvPicPr>
          <p:cNvPr id="396" name="Slika 10" descr=""/>
          <p:cNvPicPr/>
          <p:nvPr/>
        </p:nvPicPr>
        <p:blipFill>
          <a:blip r:embed="rId3"/>
          <a:stretch/>
        </p:blipFill>
        <p:spPr>
          <a:xfrm>
            <a:off x="7885080" y="6357960"/>
            <a:ext cx="1236600" cy="490680"/>
          </a:xfrm>
          <a:prstGeom prst="rect">
            <a:avLst/>
          </a:prstGeom>
          <a:ln w="0">
            <a:noFill/>
          </a:ln>
        </p:spPr>
      </p:pic>
      <p:pic>
        <p:nvPicPr>
          <p:cNvPr id="397" name="Slika 11" descr=""/>
          <p:cNvPicPr/>
          <p:nvPr/>
        </p:nvPicPr>
        <p:blipFill>
          <a:blip r:embed="rId4"/>
          <a:stretch/>
        </p:blipFill>
        <p:spPr>
          <a:xfrm>
            <a:off x="0" y="6108840"/>
            <a:ext cx="826920" cy="74916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30080" indent="-182520">
              <a:spcBef>
                <a:spcPts val="601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004760" indent="-18252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187280" indent="-13644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ftr" idx="20"/>
          </p:nvPr>
        </p:nvSpPr>
        <p:spPr>
          <a:xfrm>
            <a:off x="468000" y="18720"/>
            <a:ext cx="777564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sldNum" idx="21"/>
          </p:nvPr>
        </p:nvSpPr>
        <p:spPr>
          <a:xfrm>
            <a:off x="8316720" y="18720"/>
            <a:ext cx="7189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AF61C-DAB1-47F6-9787-CB809B4C6E6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9" name="Slika 8" descr=""/>
          <p:cNvPicPr/>
          <p:nvPr/>
        </p:nvPicPr>
        <p:blipFill>
          <a:blip r:embed="rId2"/>
          <a:stretch/>
        </p:blipFill>
        <p:spPr>
          <a:xfrm>
            <a:off x="3949560" y="6504120"/>
            <a:ext cx="1414440" cy="326880"/>
          </a:xfrm>
          <a:prstGeom prst="rect">
            <a:avLst/>
          </a:prstGeom>
          <a:ln w="0">
            <a:noFill/>
          </a:ln>
        </p:spPr>
      </p:pic>
      <p:pic>
        <p:nvPicPr>
          <p:cNvPr id="440" name="Slika 9" descr=""/>
          <p:cNvPicPr/>
          <p:nvPr/>
        </p:nvPicPr>
        <p:blipFill>
          <a:blip r:embed="rId3"/>
          <a:stretch/>
        </p:blipFill>
        <p:spPr>
          <a:xfrm>
            <a:off x="0" y="6108840"/>
            <a:ext cx="826920" cy="749160"/>
          </a:xfrm>
          <a:prstGeom prst="rect">
            <a:avLst/>
          </a:prstGeom>
          <a:ln w="0">
            <a:noFill/>
          </a:ln>
        </p:spPr>
      </p:pic>
      <p:pic>
        <p:nvPicPr>
          <p:cNvPr id="441" name="Slika 10" descr=""/>
          <p:cNvPicPr/>
          <p:nvPr/>
        </p:nvPicPr>
        <p:blipFill>
          <a:blip r:embed="rId4"/>
          <a:stretch/>
        </p:blipFill>
        <p:spPr>
          <a:xfrm>
            <a:off x="7885080" y="6357960"/>
            <a:ext cx="1236600" cy="49068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30080" indent="-182520">
              <a:spcBef>
                <a:spcPts val="601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004760" indent="-18252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187280" indent="-13644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ftr" idx="22"/>
          </p:nvPr>
        </p:nvSpPr>
        <p:spPr>
          <a:xfrm>
            <a:off x="468000" y="18720"/>
            <a:ext cx="777564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sldNum" idx="23"/>
          </p:nvPr>
        </p:nvSpPr>
        <p:spPr>
          <a:xfrm>
            <a:off x="8316720" y="18720"/>
            <a:ext cx="7189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6202F-87D3-4595-9263-AC697E9DBA8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3" name="Slika 8" descr=""/>
          <p:cNvPicPr/>
          <p:nvPr/>
        </p:nvPicPr>
        <p:blipFill>
          <a:blip r:embed="rId2"/>
          <a:stretch/>
        </p:blipFill>
        <p:spPr>
          <a:xfrm>
            <a:off x="3949560" y="6504120"/>
            <a:ext cx="1414440" cy="326880"/>
          </a:xfrm>
          <a:prstGeom prst="rect">
            <a:avLst/>
          </a:prstGeom>
          <a:ln w="0">
            <a:noFill/>
          </a:ln>
        </p:spPr>
      </p:pic>
      <p:pic>
        <p:nvPicPr>
          <p:cNvPr id="484" name="Slika 9" descr=""/>
          <p:cNvPicPr/>
          <p:nvPr/>
        </p:nvPicPr>
        <p:blipFill>
          <a:blip r:embed="rId3"/>
          <a:stretch/>
        </p:blipFill>
        <p:spPr>
          <a:xfrm>
            <a:off x="0" y="6108840"/>
            <a:ext cx="826920" cy="749160"/>
          </a:xfrm>
          <a:prstGeom prst="rect">
            <a:avLst/>
          </a:prstGeom>
          <a:ln w="0">
            <a:noFill/>
          </a:ln>
        </p:spPr>
      </p:pic>
      <p:pic>
        <p:nvPicPr>
          <p:cNvPr id="485" name="Slika 10" descr=""/>
          <p:cNvPicPr/>
          <p:nvPr/>
        </p:nvPicPr>
        <p:blipFill>
          <a:blip r:embed="rId4"/>
          <a:stretch/>
        </p:blipFill>
        <p:spPr>
          <a:xfrm>
            <a:off x="7885080" y="6357960"/>
            <a:ext cx="1236600" cy="490680"/>
          </a:xfrm>
          <a:prstGeom prst="rect">
            <a:avLst/>
          </a:prstGeom>
          <a:ln w="0">
            <a:noFill/>
          </a:ln>
        </p:spPr>
      </p:pic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30080" indent="-182520">
              <a:spcBef>
                <a:spcPts val="601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004760" indent="-18252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187280" indent="-13644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ftr" idx="24"/>
          </p:nvPr>
        </p:nvSpPr>
        <p:spPr>
          <a:xfrm>
            <a:off x="468000" y="18720"/>
            <a:ext cx="777564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sldNum" idx="25"/>
          </p:nvPr>
        </p:nvSpPr>
        <p:spPr>
          <a:xfrm>
            <a:off x="8316720" y="18720"/>
            <a:ext cx="7189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E4574-E139-4B7A-8238-F7C51F15521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Slika 3" descr=""/>
          <p:cNvPicPr/>
          <p:nvPr/>
        </p:nvPicPr>
        <p:blipFill>
          <a:blip r:embed="rId2"/>
          <a:stretch/>
        </p:blipFill>
        <p:spPr>
          <a:xfrm>
            <a:off x="3951360" y="6521400"/>
            <a:ext cx="1414440" cy="327240"/>
          </a:xfrm>
          <a:prstGeom prst="rect">
            <a:avLst/>
          </a:prstGeom>
          <a:ln w="0">
            <a:noFill/>
          </a:ln>
        </p:spPr>
      </p:pic>
      <p:pic>
        <p:nvPicPr>
          <p:cNvPr id="44" name="Slika 9" descr=""/>
          <p:cNvPicPr/>
          <p:nvPr/>
        </p:nvPicPr>
        <p:blipFill>
          <a:blip r:embed="rId3"/>
          <a:stretch/>
        </p:blipFill>
        <p:spPr>
          <a:xfrm>
            <a:off x="0" y="6108840"/>
            <a:ext cx="826920" cy="749160"/>
          </a:xfrm>
          <a:prstGeom prst="rect">
            <a:avLst/>
          </a:prstGeom>
          <a:ln w="0">
            <a:noFill/>
          </a:ln>
        </p:spPr>
      </p:pic>
      <p:pic>
        <p:nvPicPr>
          <p:cNvPr id="45" name="Slika 10" descr=""/>
          <p:cNvPicPr/>
          <p:nvPr/>
        </p:nvPicPr>
        <p:blipFill>
          <a:blip r:embed="rId4"/>
          <a:stretch/>
        </p:blipFill>
        <p:spPr>
          <a:xfrm>
            <a:off x="7885080" y="6357960"/>
            <a:ext cx="1236600" cy="490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30080" indent="-182520">
              <a:spcBef>
                <a:spcPts val="601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004760" indent="-18252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187280" indent="-13644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468000" y="18720"/>
            <a:ext cx="777564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8316720" y="18720"/>
            <a:ext cx="7189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AFDDE-B2EC-4B5E-99C4-A72E7BE5D7C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Slika 8" descr=""/>
          <p:cNvPicPr/>
          <p:nvPr/>
        </p:nvPicPr>
        <p:blipFill>
          <a:blip r:embed="rId2"/>
          <a:stretch/>
        </p:blipFill>
        <p:spPr>
          <a:xfrm>
            <a:off x="3949560" y="6504120"/>
            <a:ext cx="1414440" cy="326880"/>
          </a:xfrm>
          <a:prstGeom prst="rect">
            <a:avLst/>
          </a:prstGeom>
          <a:ln w="0">
            <a:noFill/>
          </a:ln>
        </p:spPr>
      </p:pic>
      <p:pic>
        <p:nvPicPr>
          <p:cNvPr id="88" name="Slika 10" descr=""/>
          <p:cNvPicPr/>
          <p:nvPr/>
        </p:nvPicPr>
        <p:blipFill>
          <a:blip r:embed="rId3"/>
          <a:stretch/>
        </p:blipFill>
        <p:spPr>
          <a:xfrm>
            <a:off x="0" y="6108840"/>
            <a:ext cx="826920" cy="749160"/>
          </a:xfrm>
          <a:prstGeom prst="rect">
            <a:avLst/>
          </a:prstGeom>
          <a:ln w="0">
            <a:noFill/>
          </a:ln>
        </p:spPr>
      </p:pic>
      <p:pic>
        <p:nvPicPr>
          <p:cNvPr id="89" name="Slika 11" descr=""/>
          <p:cNvPicPr/>
          <p:nvPr/>
        </p:nvPicPr>
        <p:blipFill>
          <a:blip r:embed="rId4"/>
          <a:stretch/>
        </p:blipFill>
        <p:spPr>
          <a:xfrm>
            <a:off x="7885080" y="6357960"/>
            <a:ext cx="1236600" cy="4906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30080" indent="-182520">
              <a:spcBef>
                <a:spcPts val="601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004760" indent="-18252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187280" indent="-13644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6"/>
          </p:nvPr>
        </p:nvSpPr>
        <p:spPr>
          <a:xfrm>
            <a:off x="468000" y="18720"/>
            <a:ext cx="777564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7"/>
          </p:nvPr>
        </p:nvSpPr>
        <p:spPr>
          <a:xfrm>
            <a:off x="8316720" y="18720"/>
            <a:ext cx="7189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57E74-510F-4E4A-91C1-70F6F5C37B8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Slika 8" descr=""/>
          <p:cNvPicPr/>
          <p:nvPr/>
        </p:nvPicPr>
        <p:blipFill>
          <a:blip r:embed="rId2"/>
          <a:stretch/>
        </p:blipFill>
        <p:spPr>
          <a:xfrm>
            <a:off x="3949560" y="6504120"/>
            <a:ext cx="1414440" cy="326880"/>
          </a:xfrm>
          <a:prstGeom prst="rect">
            <a:avLst/>
          </a:prstGeom>
          <a:ln w="0">
            <a:noFill/>
          </a:ln>
        </p:spPr>
      </p:pic>
      <p:pic>
        <p:nvPicPr>
          <p:cNvPr id="132" name="Slika 9" descr=""/>
          <p:cNvPicPr/>
          <p:nvPr/>
        </p:nvPicPr>
        <p:blipFill>
          <a:blip r:embed="rId3"/>
          <a:stretch/>
        </p:blipFill>
        <p:spPr>
          <a:xfrm>
            <a:off x="0" y="6108840"/>
            <a:ext cx="826920" cy="749160"/>
          </a:xfrm>
          <a:prstGeom prst="rect">
            <a:avLst/>
          </a:prstGeom>
          <a:ln w="0">
            <a:noFill/>
          </a:ln>
        </p:spPr>
      </p:pic>
      <p:pic>
        <p:nvPicPr>
          <p:cNvPr id="133" name="Slika 10" descr=""/>
          <p:cNvPicPr/>
          <p:nvPr/>
        </p:nvPicPr>
        <p:blipFill>
          <a:blip r:embed="rId4"/>
          <a:stretch/>
        </p:blipFill>
        <p:spPr>
          <a:xfrm>
            <a:off x="7885080" y="6357960"/>
            <a:ext cx="1236600" cy="4906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730080" indent="-182520">
              <a:spcBef>
                <a:spcPts val="601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3644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ftr" idx="8"/>
          </p:nvPr>
        </p:nvSpPr>
        <p:spPr>
          <a:xfrm>
            <a:off x="468000" y="18720"/>
            <a:ext cx="777564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9"/>
          </p:nvPr>
        </p:nvSpPr>
        <p:spPr>
          <a:xfrm>
            <a:off x="8316720" y="18720"/>
            <a:ext cx="7189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02AEC-DD80-47FB-B5B7-19D52DA77B3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Slika 9" descr=""/>
          <p:cNvPicPr/>
          <p:nvPr/>
        </p:nvPicPr>
        <p:blipFill>
          <a:blip r:embed="rId2"/>
          <a:stretch/>
        </p:blipFill>
        <p:spPr>
          <a:xfrm>
            <a:off x="3949560" y="6504120"/>
            <a:ext cx="1414440" cy="326880"/>
          </a:xfrm>
          <a:prstGeom prst="rect">
            <a:avLst/>
          </a:prstGeom>
          <a:ln w="0">
            <a:noFill/>
          </a:ln>
        </p:spPr>
      </p:pic>
      <p:pic>
        <p:nvPicPr>
          <p:cNvPr id="176" name="Slika 10" descr=""/>
          <p:cNvPicPr/>
          <p:nvPr/>
        </p:nvPicPr>
        <p:blipFill>
          <a:blip r:embed="rId3"/>
          <a:stretch/>
        </p:blipFill>
        <p:spPr>
          <a:xfrm>
            <a:off x="0" y="6108840"/>
            <a:ext cx="826920" cy="749160"/>
          </a:xfrm>
          <a:prstGeom prst="rect">
            <a:avLst/>
          </a:prstGeom>
          <a:ln w="0">
            <a:noFill/>
          </a:ln>
        </p:spPr>
      </p:pic>
      <p:pic>
        <p:nvPicPr>
          <p:cNvPr id="177" name="Slika 12" descr=""/>
          <p:cNvPicPr/>
          <p:nvPr/>
        </p:nvPicPr>
        <p:blipFill>
          <a:blip r:embed="rId4"/>
          <a:stretch/>
        </p:blipFill>
        <p:spPr>
          <a:xfrm>
            <a:off x="7885080" y="6357960"/>
            <a:ext cx="1236600" cy="4906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30080" indent="-182520">
              <a:spcBef>
                <a:spcPts val="601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004760" indent="-18252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187280" indent="-13644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ftr" idx="10"/>
          </p:nvPr>
        </p:nvSpPr>
        <p:spPr>
          <a:xfrm>
            <a:off x="468000" y="18720"/>
            <a:ext cx="777564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sldNum" idx="11"/>
          </p:nvPr>
        </p:nvSpPr>
        <p:spPr>
          <a:xfrm>
            <a:off x="8316720" y="18720"/>
            <a:ext cx="7189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EFA98-C238-46DC-88B0-1F515CE9F0A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Slika 10" descr=""/>
          <p:cNvPicPr/>
          <p:nvPr/>
        </p:nvPicPr>
        <p:blipFill>
          <a:blip r:embed="rId2"/>
          <a:stretch/>
        </p:blipFill>
        <p:spPr>
          <a:xfrm>
            <a:off x="3949560" y="6504120"/>
            <a:ext cx="1414440" cy="326880"/>
          </a:xfrm>
          <a:prstGeom prst="rect">
            <a:avLst/>
          </a:prstGeom>
          <a:ln w="0">
            <a:noFill/>
          </a:ln>
        </p:spPr>
      </p:pic>
      <p:pic>
        <p:nvPicPr>
          <p:cNvPr id="220" name="Slika 12" descr=""/>
          <p:cNvPicPr/>
          <p:nvPr/>
        </p:nvPicPr>
        <p:blipFill>
          <a:blip r:embed="rId3"/>
          <a:stretch/>
        </p:blipFill>
        <p:spPr>
          <a:xfrm>
            <a:off x="0" y="6108840"/>
            <a:ext cx="826920" cy="749160"/>
          </a:xfrm>
          <a:prstGeom prst="rect">
            <a:avLst/>
          </a:prstGeom>
          <a:ln w="0">
            <a:noFill/>
          </a:ln>
        </p:spPr>
      </p:pic>
      <p:pic>
        <p:nvPicPr>
          <p:cNvPr id="221" name="Slika 13" descr=""/>
          <p:cNvPicPr/>
          <p:nvPr/>
        </p:nvPicPr>
        <p:blipFill>
          <a:blip r:embed="rId4"/>
          <a:stretch/>
        </p:blipFill>
        <p:spPr>
          <a:xfrm>
            <a:off x="7885080" y="6357960"/>
            <a:ext cx="1236600" cy="49068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30080" indent="-182520">
              <a:spcBef>
                <a:spcPts val="601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004760" indent="-18252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187280" indent="-13644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ftr" idx="12"/>
          </p:nvPr>
        </p:nvSpPr>
        <p:spPr>
          <a:xfrm>
            <a:off x="468000" y="18720"/>
            <a:ext cx="777564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sldNum" idx="13"/>
          </p:nvPr>
        </p:nvSpPr>
        <p:spPr>
          <a:xfrm>
            <a:off x="8316720" y="18720"/>
            <a:ext cx="7189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FE4EB-8375-4AA5-B61F-CB80CB2704F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Slika 7" descr=""/>
          <p:cNvPicPr/>
          <p:nvPr/>
        </p:nvPicPr>
        <p:blipFill>
          <a:blip r:embed="rId2"/>
          <a:stretch/>
        </p:blipFill>
        <p:spPr>
          <a:xfrm>
            <a:off x="3949560" y="6504120"/>
            <a:ext cx="1414440" cy="326880"/>
          </a:xfrm>
          <a:prstGeom prst="rect">
            <a:avLst/>
          </a:prstGeom>
          <a:ln w="0">
            <a:noFill/>
          </a:ln>
        </p:spPr>
      </p:pic>
      <p:pic>
        <p:nvPicPr>
          <p:cNvPr id="264" name="Slika 8" descr=""/>
          <p:cNvPicPr/>
          <p:nvPr/>
        </p:nvPicPr>
        <p:blipFill>
          <a:blip r:embed="rId3"/>
          <a:stretch/>
        </p:blipFill>
        <p:spPr>
          <a:xfrm>
            <a:off x="0" y="6108840"/>
            <a:ext cx="826920" cy="749160"/>
          </a:xfrm>
          <a:prstGeom prst="rect">
            <a:avLst/>
          </a:prstGeom>
          <a:ln w="0">
            <a:noFill/>
          </a:ln>
        </p:spPr>
      </p:pic>
      <p:pic>
        <p:nvPicPr>
          <p:cNvPr id="265" name="Slika 9" descr=""/>
          <p:cNvPicPr/>
          <p:nvPr/>
        </p:nvPicPr>
        <p:blipFill>
          <a:blip r:embed="rId4"/>
          <a:stretch/>
        </p:blipFill>
        <p:spPr>
          <a:xfrm>
            <a:off x="7885080" y="6357960"/>
            <a:ext cx="1236600" cy="49068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30080" indent="-182520">
              <a:spcBef>
                <a:spcPts val="601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004760" indent="-18252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187280" indent="-13644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ftr" idx="14"/>
          </p:nvPr>
        </p:nvSpPr>
        <p:spPr>
          <a:xfrm>
            <a:off x="468000" y="18720"/>
            <a:ext cx="777564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sldNum" idx="15"/>
          </p:nvPr>
        </p:nvSpPr>
        <p:spPr>
          <a:xfrm>
            <a:off x="8316720" y="18720"/>
            <a:ext cx="7189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FDE84-4419-4EE7-A58E-57716BD4DB7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7" name="Slika 6" descr=""/>
          <p:cNvPicPr/>
          <p:nvPr/>
        </p:nvPicPr>
        <p:blipFill>
          <a:blip r:embed="rId2"/>
          <a:stretch/>
        </p:blipFill>
        <p:spPr>
          <a:xfrm>
            <a:off x="3949560" y="6504120"/>
            <a:ext cx="1414440" cy="326880"/>
          </a:xfrm>
          <a:prstGeom prst="rect">
            <a:avLst/>
          </a:prstGeom>
          <a:ln w="0">
            <a:noFill/>
          </a:ln>
        </p:spPr>
      </p:pic>
      <p:pic>
        <p:nvPicPr>
          <p:cNvPr id="308" name="Slika 7" descr=""/>
          <p:cNvPicPr/>
          <p:nvPr/>
        </p:nvPicPr>
        <p:blipFill>
          <a:blip r:embed="rId3"/>
          <a:stretch/>
        </p:blipFill>
        <p:spPr>
          <a:xfrm>
            <a:off x="0" y="6108840"/>
            <a:ext cx="826920" cy="749160"/>
          </a:xfrm>
          <a:prstGeom prst="rect">
            <a:avLst/>
          </a:prstGeom>
          <a:ln w="0">
            <a:noFill/>
          </a:ln>
        </p:spPr>
      </p:pic>
      <p:pic>
        <p:nvPicPr>
          <p:cNvPr id="309" name="Slika 8" descr=""/>
          <p:cNvPicPr/>
          <p:nvPr/>
        </p:nvPicPr>
        <p:blipFill>
          <a:blip r:embed="rId4"/>
          <a:stretch/>
        </p:blipFill>
        <p:spPr>
          <a:xfrm>
            <a:off x="7885080" y="6357960"/>
            <a:ext cx="1236600" cy="49068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30080" indent="-182520">
              <a:spcBef>
                <a:spcPts val="601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004760" indent="-18252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187280" indent="-13644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ftr" idx="16"/>
          </p:nvPr>
        </p:nvSpPr>
        <p:spPr>
          <a:xfrm>
            <a:off x="468000" y="18720"/>
            <a:ext cx="777564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17"/>
          </p:nvPr>
        </p:nvSpPr>
        <p:spPr>
          <a:xfrm>
            <a:off x="8316720" y="18720"/>
            <a:ext cx="7189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2AE55-370A-40A5-B8B3-243CE7296F3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1" name="Slika 8" descr=""/>
          <p:cNvPicPr/>
          <p:nvPr/>
        </p:nvPicPr>
        <p:blipFill>
          <a:blip r:embed="rId2"/>
          <a:stretch/>
        </p:blipFill>
        <p:spPr>
          <a:xfrm>
            <a:off x="3949560" y="6504120"/>
            <a:ext cx="1414440" cy="326880"/>
          </a:xfrm>
          <a:prstGeom prst="rect">
            <a:avLst/>
          </a:prstGeom>
          <a:ln w="0">
            <a:noFill/>
          </a:ln>
        </p:spPr>
      </p:pic>
      <p:pic>
        <p:nvPicPr>
          <p:cNvPr id="352" name="Slika 10" descr=""/>
          <p:cNvPicPr/>
          <p:nvPr/>
        </p:nvPicPr>
        <p:blipFill>
          <a:blip r:embed="rId3"/>
          <a:stretch/>
        </p:blipFill>
        <p:spPr>
          <a:xfrm>
            <a:off x="0" y="6108840"/>
            <a:ext cx="826920" cy="749160"/>
          </a:xfrm>
          <a:prstGeom prst="rect">
            <a:avLst/>
          </a:prstGeom>
          <a:ln w="0">
            <a:noFill/>
          </a:ln>
        </p:spPr>
      </p:pic>
      <p:pic>
        <p:nvPicPr>
          <p:cNvPr id="353" name="Slika 11" descr=""/>
          <p:cNvPicPr/>
          <p:nvPr/>
        </p:nvPicPr>
        <p:blipFill>
          <a:blip r:embed="rId4"/>
          <a:stretch/>
        </p:blipFill>
        <p:spPr>
          <a:xfrm>
            <a:off x="7885080" y="6357960"/>
            <a:ext cx="1236600" cy="49068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30080" indent="-182520">
              <a:spcBef>
                <a:spcPts val="601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004760" indent="-18252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187280" indent="-13644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ftr" idx="18"/>
          </p:nvPr>
        </p:nvSpPr>
        <p:spPr>
          <a:xfrm>
            <a:off x="468000" y="18720"/>
            <a:ext cx="777564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sldNum" idx="19"/>
          </p:nvPr>
        </p:nvSpPr>
        <p:spPr>
          <a:xfrm>
            <a:off x="8316720" y="18720"/>
            <a:ext cx="7189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AF921-D6F2-4B65-AD80-6996B0FBCF1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848720" cy="24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2060"/>
                </a:solidFill>
                <a:latin typeface="Calibri"/>
              </a:rPr>
              <a:t>NOVI ZAKON O PRAVU NA PRISTUP INFORMACIJAMA</a:t>
            </a:r>
            <a:br>
              <a:rPr sz="4400"/>
            </a:br>
            <a:r>
              <a:rPr b="0" lang="hr-HR" sz="3200" spc="-1" strike="noStrike">
                <a:solidFill>
                  <a:srgbClr val="002060"/>
                </a:solidFill>
                <a:latin typeface="Calibri"/>
              </a:rPr>
              <a:t>(NARODNE NOVINE, BR. 25/13)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685440" y="4797360"/>
            <a:ext cx="784692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060"/>
                </a:solidFill>
                <a:latin typeface="Calibri"/>
              </a:rPr>
              <a:t>Primošten, svibanj 2013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 txBox="1"/>
          <p:nvPr/>
        </p:nvSpPr>
        <p:spPr>
          <a:xfrm>
            <a:off x="457200" y="836640"/>
            <a:ext cx="85075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redišnji katalog službenih dokumenata RH je na internetu javno dostupan alat koji korisnicima omogućuje trajni pristup dokumentima pohranjenim u bazi elektroničkih dokumenata i/ili fizičkim zbirka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ovjerenik za informiranje je neovisno državno tijelo za zaštitu prava na pristup informacija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2060"/>
                </a:solidFill>
                <a:latin typeface="Calibri"/>
              </a:rPr>
              <a:t>TIJELA JAVNE VLASTI SU: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57200" y="2133360"/>
            <a:ext cx="850752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Državna tijela i tijela državne upra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ijela jedinica lokalne i područne (regionalne) samoupra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avne osobe s javnim ovlasti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avne osobe čiji je osnivač RH ili jedinica lokalne i područne (regionalne) samoupra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avne osobe koje obavljaju javnu služb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 txBox="1"/>
          <p:nvPr/>
        </p:nvSpPr>
        <p:spPr>
          <a:xfrm>
            <a:off x="457200" y="764640"/>
            <a:ext cx="85075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avne osobe koje se u cijelosti financiraju iz državnog proračuna ili iz proračuna jedinica lokalne i područne (regionalne) samoupra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rgovačka društva u kojima RH i jedinice lokalne i područne (regionalne) samouprave imaju zasebno ili zajedno većinsko vlasništv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499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2060"/>
                </a:solidFill>
                <a:latin typeface="Calibri"/>
              </a:rPr>
              <a:t>NAČELA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57200" y="1844640"/>
            <a:ext cx="85075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just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Načelo javnosti i slobodnog pristupa – informacije su dostupne svakoj domaćoj ili stranoj fizičkoj i pravnoj osobi u skladu s uvjetima i ograničenjima iz Zakon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Načelo pravodobnosti, potpunosti i točnosti informacija – informacije tijela javne vlasti moraju biti pravodobne, potpune i točn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Načelo jednakosti – pravo na pristup informacijama pripada svim korisnicima na jednak način i pod jednakim uvjetima, a korisnici su ravnopravni u njihovu ostvarivanju. Pojedinim korisnicima informacije se ne smiju pružati prije nego ostalima ili na način da im se posebno pogodu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476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 txBox="1"/>
          <p:nvPr/>
        </p:nvSpPr>
        <p:spPr>
          <a:xfrm>
            <a:off x="457200" y="691920"/>
            <a:ext cx="850752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Načelo raspolaganja informacijom – korisnik koji raspolaže informacijom ima pravo tu informaciju javno iznosi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499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2060"/>
                </a:solidFill>
                <a:latin typeface="Calibri"/>
              </a:rPr>
              <a:t>TIJELA JAVNE VLASTI OBVEZNA SU NA INTERNETSKIM STRANICAMA OBJAVITI: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457200" y="2133360"/>
            <a:ext cx="850752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just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kone i ostale propise koji se odnose na njihovo područje rada, kao i nacrte zakona i drugih propisa te općih akata koje don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pće akte i odluke koje donose kojima se utječe na interese korisni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Godišnje planove, programe, strategije, upute, izvještaje o radu, financijska izvješć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odatke o izvoru financiranja, proračunu i izvršenju proračun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499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457200" y="620640"/>
            <a:ext cx="85075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just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Informacije o dodijeljenim potporama i donacija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Informacije o svom unutarnjem ustrojstvu, imenima čelnika tijela i voditelja ustrojstvenih jedinica i podacima za kontak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pisnike i zaključke sa službenih sjednica tijela javne vla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Informacije o postupcima javne nabave te informacije o izvršavanju ugovo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bavijesti o raspisanim natječajima te natječajnu dokumentacij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Registre i baze podata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bavijesti o načinu ostvarivanja prava na pristup informacija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499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457200" y="620640"/>
            <a:ext cx="85075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Visinu naknade za pristup informacija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Najčešće tražene informaci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stale informacije (vijesti, priopćenja za javnost, podaci o drugim aktivnostim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499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2060"/>
                </a:solidFill>
                <a:latin typeface="Calibri"/>
              </a:rPr>
              <a:t>OBJAVA U SREDIŠNJEM KATALOGU SLUŽBENIH DOKUMENATA RH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457200" y="2133360"/>
            <a:ext cx="850752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ijela javne vlasti dužna su dostaviti u Središnji katalog službenih dokumenata RH: opće akte i odluke koje donose, kojima se utječe na interese korisnika, s razlozima za njihovo donošenje; nacrte zakona i drugih propisa te općih akata koje donose u svrhu savjetovanja s javnošću; te godišnje planove, programe, strategije, upute, izvještaje o radu, financijska izvješća i druge odgovarajuće dokumente koji se odnose na područje rada tijela javne vla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499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 txBox="1"/>
          <p:nvPr/>
        </p:nvSpPr>
        <p:spPr>
          <a:xfrm>
            <a:off x="457200" y="620640"/>
            <a:ext cx="85075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ijelo javne vlasti u čijoj je nadležnosti donošenje zakonskih i podzakonskih propisa i dokumenata dužno je u Središnji katalog službenih dokumenata RH dostaviti zakone i ostale propise koji se odnose na njihovo područje ra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oslove vođenja i održavanja Središnjeg kataloga službenih dokumenata RH obavlja Hrvatska informacijsko-dokumentacijska referalna agencija (HIDR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499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2060"/>
                </a:solidFill>
                <a:latin typeface="Calibri"/>
              </a:rPr>
              <a:t>RAZLOZI ZA DONOŠENJE ZAKONA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457200" y="2133360"/>
            <a:ext cx="850752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loboda informiranja, a time i dostupnost informacija kojima raspolažu tijela javne vlasti jedno je od temeljnih ljudskih pra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avo na pristup informacijama zajamčeno je Ustavom Republike Hrvatske kao jedno od temeljnih osobnih i političkih sloboda i pra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U čl. 38. st. 4. Ustava RH svakome se jamči pravo na pristup informacijama koje posjeduju tijela javne vla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499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2060"/>
                </a:solidFill>
                <a:latin typeface="Calibri"/>
              </a:rPr>
              <a:t>OBJAVLJIVANJE DOKUMENATA U SVRHU SAVJETOVANJA S JAVNOŠĆU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57200" y="2133360"/>
            <a:ext cx="850752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ijela javne vlasti nadležna za izradu nacrta zakona i podzakonskih akata dužna su na svojim internetskim stranicama objaviti: godišnji plan normativnih aktivnosti i plan savjetovanja o nacrtima zakona i drugih propi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Javno savjetovanje sa zainteresiranom javnosti traje u pravilu 30 da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Kod objave nacrta zakona i podzakonskih akata moraju se objaviti i razlozi za donošenje propisa i ciljevi koji se žele postići savjetovanj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499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457200" y="691920"/>
            <a:ext cx="850752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Nakon provedenog savjetovanja tijela javne vlasti dužna su o prihvaćenim i neprihvaćenim primjedbama i prijedlozima obavijestiti zainteresiranu javnost. Na internetskoj stranici trebaju objaviti izvješće o provedenom savjetovanju i to izvješće dostaviti Vladi R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2060"/>
                </a:solidFill>
                <a:latin typeface="Calibri"/>
              </a:rPr>
              <a:t>SAVJETOVANJE S JAVNOŠĆU JEDINICA LOKALNE I PODRUČNE (REGIONALNE) SAMOUPRAVE (JLP(R) S)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457200" y="2636640"/>
            <a:ext cx="850752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ilikom donošenja općih akata jlp(r)s kojima se neposredno ostvaruju potrebe građana i pravnih osoba na njihovu području (uređenje naselja i stanovanja, prostorno planiranje, komunalna djelatnost i druge javne službe, zaštita okoliša i dr.) jlp(r)s duže su nacrte navedenih dokumenata objaviti na svojim internetskim stranicama radi savjetovanja s javnošću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 txBox="1"/>
          <p:nvPr/>
        </p:nvSpPr>
        <p:spPr>
          <a:xfrm>
            <a:off x="457200" y="620640"/>
            <a:ext cx="85075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avjetovanje u pravilu traje 30 dana, a nakon toga se o prihvaćenim i neprihvaćenim primjedbama i prijedlozima treba obavijestiti zainteresirana javn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bvezu savjetovanja sa javnošću imaju i pravne osobe s javnim ovlastima kad donose opće akte kojima se neposredno ostvaruju potrebe građana ili druga pitanja od interesa za opću dobrobit građana i pravnih oso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2060"/>
                </a:solidFill>
                <a:latin typeface="Calibri"/>
              </a:rPr>
              <a:t>JAVNOST RADA – TIJELA JAVNE VLASTI DUŽNA SU JAVNOST INFORMIRATI O: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7200" y="2133360"/>
            <a:ext cx="850752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Dnevnom redu zasjedanja ili sjednica službenih tijela i vremenu njihova održavan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Broju osoba kojima se može istodobno osigurati neposredan uvid u rad tijela javne vlasti pri čemu se mora voditi računa o redoslijedu prijavljivan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Neposredan uvid u rad ne mora se osigurati kad se radi o pitanjima u kojima se javnost mora isključiti ili se radi o informacijama za koje postoji ograničenje prava na prist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499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2060"/>
                </a:solidFill>
                <a:latin typeface="Calibri"/>
              </a:rPr>
              <a:t>SLUŽBENIK ZA INFORMIRANJE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457200" y="2133360"/>
            <a:ext cx="850752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ijelo javne vlasti obvezno je odlukom imenovati službenika za informiranje te upoznati javnost sa službenim podacima službeni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 imenovanju službenika za informiranje mora se izvijestiti Povjerenik za informiranje u roku od mjesec da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ovjerenik vodi Registar službenika za informiran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499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2060"/>
                </a:solidFill>
                <a:latin typeface="Calibri"/>
              </a:rPr>
              <a:t>POSLOVI SLUŽBENIKA ZA INFORMIRANJE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457200" y="2133360"/>
            <a:ext cx="850752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bavlja poslove redovitog objavljivanja informacija i rješava pojedinačne zahtjeve za pristup informacija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Unapređuje način rada u vezi s pravom na pristup informacija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sigurava neophodnu pomoć podnositeljima zahtjeva u vezi s ostvarivanjem prava na pristup informacija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499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2060"/>
                </a:solidFill>
                <a:latin typeface="Calibri"/>
              </a:rPr>
              <a:t>OGRANIČENJE PRAVA NA PRISTUP INFORMACIJAMA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457200" y="2133360"/>
            <a:ext cx="850752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psolutna ograničenja – kad će tijelo javne vlasti ograničiti pristup informacija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Relativna ograničenja – kad tijelo javne vlasti može ograničiti pristup informacija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2060"/>
                </a:solidFill>
                <a:latin typeface="Calibri"/>
              </a:rPr>
              <a:t>TIJELA JAVNE VLASTI OGRANIČIT ĆE PRISTUP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57200" y="2133360"/>
            <a:ext cx="850752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just">
              <a:spcBef>
                <a:spcPts val="649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Onim informacijama koje se tiču svih postupaka koje vode nadležna tijela u predistražnim i istražnim radnjama za vrijeme trajanja tih postupak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spcBef>
                <a:spcPts val="649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istražni i istražni postupak su faze kaznenog postupk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spcBef>
                <a:spcPts val="649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Tajnost istrage propisana je odredbama Zakona o kaznenom postupku (čl. 231.). Međutim, kad za to postoji interes javnosti ili drugi opravdani razlozi, a nije u suprotnosti s interesima istrage, tijelo koje vodi istragu može odlučiti da određena dokazna radnja ili dio dokazne radnje nisu tajn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2060"/>
                </a:solidFill>
                <a:latin typeface="Calibri"/>
              </a:rPr>
              <a:t>TIJELA JAVNE VLASTI MOGU OGRANIČITI PRISTUP INFORMACIJI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457200" y="2133360"/>
            <a:ext cx="850752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just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ko je informacija klasificirana stupnjem tajnosti po zakonu kojim se uređuje tajnost podatak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ko je informacija poslovna ili profesionalna taj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ko je informacija porezna taj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ko je informacija iz područja zaštite osobnih podata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ko je informacija u postupku izrade unutar tijela javne vlasti, a njeno bi objavljivanje prije donošenja izrade cjelovite i konačne informacije moglo ozbiljno narušiti proces donošenja odlu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457200" y="836640"/>
            <a:ext cx="85075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graničenja toga prava moraju biti razmjerna naravi potrebe za ograničenjem u svakom pojedinom slučaju te nužna u slobodnom i demokratskom društv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graničenja prava na pristup informacijama propisuju se zakon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avo na pristup informacijama propisuju i Europska konvencija o ljudskim pravima i temeljnim slobodama, Konvencija o pristupu informacijama, sudjelovanju javnosti u odlučivanju i pristupu pravosuđu u pitanjima okoliša, te međunarodni ugovo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499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 txBox="1"/>
          <p:nvPr/>
        </p:nvSpPr>
        <p:spPr>
          <a:xfrm>
            <a:off x="457200" y="691920"/>
            <a:ext cx="850752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ko je pristup informaciji ograničen sukladno međunarodnim ugovori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U ostalim slučajevima utvrđenim zakon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2060"/>
                </a:solidFill>
                <a:latin typeface="Calibri"/>
              </a:rPr>
              <a:t>TEST RAZMJERNOSTI I JAVNOG INTERESA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57200" y="2133360"/>
            <a:ext cx="850752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ijelo javne vlasti je u svim naprijed navedenim slučajevima, osim ako je informacija klasificirana stupnjem tajnosti, dužno, prije donošenja odluke, provesti test razmjernosti i javnog intere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Vlasnik informacije klasificirane stupnjem tajnosti, dužan je prije donošenja odluke, provesti test razmjernosti i javnog interesa, ali po prethodno pribavljenom mišljenju Ureda vijeća za nacionalnu sigurn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2060"/>
                </a:solidFill>
                <a:latin typeface="Calibri"/>
              </a:rPr>
              <a:t>TIJELA JAVNE VLASTI MOGU OGRANIČITI PRISTUP INFORMACIJI AKO POSTOJE OSNOVE SUMNJE DA BI NJEZINO OBJAVLJIVANJE: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457200" y="2491920"/>
            <a:ext cx="85075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nemogućilo učinkovito, neovisno i nepristrano vođenje sudskog, upravnog ili drugog pravno uređenog postupka, izvršenje sudske odluke ili kaz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nemogućilo rad tijela koja obavljaju upravni nadzor, inspekcijski nadzor, odnosno nadzor zakonit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ovrijedilo pravo intelektualnog vlasništ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I u naprijed navedenim slučajevima tijelo javne vlasti dužno je provesti test razmjernosti i javnog intere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 txBox="1"/>
          <p:nvPr/>
        </p:nvSpPr>
        <p:spPr>
          <a:xfrm>
            <a:off x="457200" y="836640"/>
            <a:ext cx="85075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Kod provođenja testa razmjernosti i javnog interesa tijelo javne vlasti procjenjuje da li prevladava potreba zaštite prava na ograničenje ili javni interes. Ako prevladava javni interes u odnosu na štetu po zaštićene interese, informacija će se učiniti dostupn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2060"/>
                </a:solidFill>
                <a:latin typeface="Calibri"/>
              </a:rPr>
              <a:t>NAČINI OSTVARIVANJA PRAVA </a:t>
            </a:r>
            <a:br>
              <a:rPr sz="3600"/>
            </a:br>
            <a:r>
              <a:rPr b="0" lang="hr-HR" sz="3600" spc="-1" strike="noStrike">
                <a:solidFill>
                  <a:srgbClr val="002060"/>
                </a:solidFill>
                <a:latin typeface="Calibri"/>
              </a:rPr>
              <a:t>NA PRISTUP INFORMACIJAMA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457200" y="2491920"/>
            <a:ext cx="85075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avodobnim objavljivanjem informacija na  internetskim stranicama tijela javne vlasti ili u javnom glasilu i Središnjem katalogu službenih dokumenata R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Davanjem informacija korisniku koji je podnio zahtje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htjev se podnosi usmenim ili pisanim pu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Na temelju zahtjeva za pristup informaciji tijelo javne vlasti će odlučiti najkasnije u roku od 15 dana od dana podnošenja urednog zahtje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2060"/>
                </a:solidFill>
                <a:latin typeface="Calibri"/>
              </a:rPr>
              <a:t>PRODUŽENJE ROKOVA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Rokovi se mogu produžiti za 15 dan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ako se informacija traži izvan sjedišta tijela javne vlasti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ako se jednim zahtjevom traži veći broj različitih informacija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ako je to nužno da bi se osigurala potpunost i točnost tražene informacije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ako je tijelo javne vlasti dužno provesti test razmjernosti i javnog intere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2060"/>
                </a:solidFill>
                <a:latin typeface="Calibri"/>
              </a:rPr>
              <a:t>RJEŠAVANJE O ZAHTJEVU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2060"/>
                </a:solidFill>
                <a:latin typeface="Calibri"/>
              </a:rPr>
              <a:t>Tijelo javne vlasti ne donosi  rješenje o zahtjevu kad korisniku omogućuje pristup traženoj informaciji, kad je korisnik informaciju već dobio unutar roka od 90 dana, kad obavještava korisnika da je informacija javno objavljena i s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2060"/>
                </a:solidFill>
                <a:latin typeface="Calibri"/>
              </a:rPr>
              <a:t>Tijelo javne vlasti rješenjem će odbaciti zahtjev ako ne posjeduje informaciju te nema saznanja gdje se informacija nalaz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2060"/>
                </a:solidFill>
                <a:latin typeface="Calibri"/>
              </a:rPr>
              <a:t>Tijelo javne vlasti donosi rješenje kad korisniku omogućuje pristup traženoj informaciji uz provođenje testa razmjernosti i javnog interes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2060"/>
                </a:solidFill>
                <a:latin typeface="Calibri"/>
              </a:rPr>
              <a:t>U ostalim slučajevima tijelo javne vlasti rješenjem će odbiti zahtjev (ako se traži informacija koja se ne smatra informacijom i sl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2060"/>
                </a:solidFill>
                <a:latin typeface="Calibri"/>
              </a:rPr>
              <a:t>ŽALBA I UPRAVNI SPOR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Protiv rješenja tijela javne vlasti može se izjaviti žalba Povjereniku za informir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Povjerenik je dužan rješenje o žalbi donijeti i dostaviti stranki u roku od 30 dana od dana predaje uredne žal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Protiv rješenja Povjerenika žalba nije dopuštena ali se tužbom može pokrenuti upravni spor pred Visokim upravnim sudom R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Visoki upravni sud RH o tužbi mora donijeti odluku u roku od 90 da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2060"/>
                </a:solidFill>
                <a:latin typeface="Calibri"/>
              </a:rPr>
              <a:t>PONOVNA UPORABA INFORMACIJA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Svaki korisnik ima pravo na ponovnu uporabu informacija u komercijalne ili nekomercijalne svrh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Tijelo javne vlasti odlučit će o zahtjevu za ponovnu uporabu informacija u roku od 15 dana od dana podnošenja urednog zahtje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Tijelo javne vlasti ne donosi rješenje o zahtjevu kad omogućuje ponovnu uporabu informaci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Tijelo javne vlasti ne naplaćuje naknadu za ponovnu uporabu informacija ako iste informacije objavljuje besplatno putem interne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Uvjeti za ponovnu uporabu informacija ne smiju biti diskriminirajući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2060"/>
                </a:solidFill>
                <a:latin typeface="Calibri"/>
              </a:rPr>
              <a:t>POVJERENIK ZA INFORMIRANJE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Povjerenika za informiranje bira Hrvatski sabor na vrijeme od pet godina uz mogućnost ponovnog izbo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Povjerenik obavlja poslove drugostupanjskog tijela u rješavanju žalbi, provodi inspekcijski nadzor nad primjenom Zakona o pravu na pristup informacijama, predlaže mjere za stručno osposobljavanje i usavršavanje službenika za informiranje u tijelima javne vlasti, podnosi Hrvatskom saboru izvješće o provedbi zakona, podnosi optužni prijedlog i izdaje prekršajni nalog za utvrđene prekršaje, te obavlja i druge poslove predviđene Zakonom o pravu na pristup informacij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457200" y="836640"/>
            <a:ext cx="85075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Novi Zakon o pravu na pristup informacijama u skladu je i s aktima Europske unije: Direktivom 2003/98/EZ Europskog parlamenta i Vijeća o ponovnoj uporabi informacija javnog sektora i Uredbom 1049/2001 Europskog parlamenta i Vijeća o javnom pristupu dokumentima Europskog parlamenta, Vijeća i Komisi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499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2060"/>
                </a:solidFill>
                <a:latin typeface="Calibri"/>
              </a:rPr>
              <a:t>IZVJEŠĆIVANJE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Tijela javne vlasti dužna su Povjereniku za informiranje dostaviti izvješće o provedbi Zakona o pravu na pristup informacijama za prethodnu godinu najkasnije do 31. siječnja tekuće godine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Izvješće sadrži podatke o nizu informacija (23) od kojih su najvažnije: o broju usvojenih odnosno odbijenih zahtjeva, o broju odbačenih odnosno ustupljenih zahtjeva, o broju riješenih odnosno neriješenih zahtjeva, o broju izjavljenih žalbi, usvojenih, odbijenih odnosno odbačenih žalbi, te o broju podnesenih tužb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2060"/>
                </a:solidFill>
                <a:latin typeface="Calibri"/>
              </a:rPr>
              <a:t>DONOŠENJE PODZAKONSKIH PROPISA I OBVEZE TIJELA JAVNE VLASTI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Ministar nadležan za poslove opće uprave donijet će do 7. lipnja 2013. Pravilnik o načinu ustrojavanja i vođenja Središnjeg kataloga službenih dokumenata RH, Pravilnik o ustroju, sadržaju i načinu vođenja službenog upisnika o zahtjevima, postupcima, i odlukama o ostvarivanju prava na pristup informacijama i ponovnu uporabu informacija, te Pravilnik o ponovnoj uporabi informaci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Tijela javne vlasti osigurat će organizacijske, materijalne, tehničke i druge uvjete za provođenje odredbi Zakona o pravu na pristup informacijama do 7. lipnja 2013. godi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40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2060"/>
                </a:solidFill>
                <a:latin typeface="Calibri"/>
              </a:rPr>
              <a:t>ZAKON O PRAVU NA PRISTUP INFORMACIJAMA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457200" y="2133360"/>
            <a:ext cx="850752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just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tupio na snagu 8. ožujka 2013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Njegovim stupanjem na snagu prestao je važiti stari Zakon o pravu na pristup informacijama (Nar. novine, br. 172/03 – 77/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konom je jasno definiran pojam tijela javne vla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Ukida se katalog informacija, ali se uvodi Središnji katalog službenih dokumenata R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Umjesto  Agencije za zaštitu osobnih podataka uvodi se Povjerenik za informiran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499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 txBox="1"/>
          <p:nvPr/>
        </p:nvSpPr>
        <p:spPr>
          <a:xfrm>
            <a:off x="457200" y="836640"/>
            <a:ext cx="85075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Uvodi se pravo na ponovnu uporabu informacija u komercijalne ili nekomercijalne svrh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2060"/>
                </a:solidFill>
                <a:latin typeface="Calibri"/>
              </a:rPr>
              <a:t>TEMELJNI POJMOVI I NJIHOVO ZNAČENJE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457200" y="2133360"/>
            <a:ext cx="850752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Korisnik prava na pristup informacijama i ponovnu uporabu informacije je svaka domaća ili strana fizička i pravna oso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Informacija je svaki podatak koji posjeduje tijelo javne vlasti u obliku dokumenta, zapisa, dosjea, registra ili u bilo kojem drugom obliku, neovisno o načinu na koji je prikazana (napisani, nacrtani, tiskani, snimljeni, magnetni, optički, elektronički ili neki drugi zapi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 txBox="1"/>
          <p:nvPr/>
        </p:nvSpPr>
        <p:spPr>
          <a:xfrm>
            <a:off x="457200" y="836640"/>
            <a:ext cx="85075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Međunarodna informacija je ona informacija koju je Republici Hrvatskoj ustupila strana država ili međunarodna organizacija s kojom RH surađuje ili joj je č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avo na pristup informacijama obuhvaća pravo korisnika na traženje i dobivanje informacije kao i obvezu tijela javne vlasti da omogući pristup zatraženoj informaciji, odnosno da objavljuje informacije neovisno o postavljenom zahtjevu kada takvo objavljivanje proizlazi iz obveze određene zakonom ili drugim propis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457200" y="836640"/>
            <a:ext cx="85075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onovna uporaba znači uporabu informacija tijela javne vlasti od strane fizičkih ili pravnih osoba, u komercijalne ili nekomercijalne svrhe drukčije od izvorne svrhe u okviru javnog posla za koji su te informacije izrađ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est razmjernosti i javnog interesa je procjena razmjernosti između razloga za omogućavanje pristupa informaciji i razloga za ograničenje te omogućavanje pristupa informaciji ako prevladava javni inte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Vlasnik informacije je nadležno tijelo javne vlasti RH ili strane države ili međunarodna organizacija, u okviru čijeg djelovanja je informacija nasta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9T13:04:13Z</dcterms:created>
  <dc:creator>xxx</dc:creator>
  <dc:description/>
  <dc:language>en-US</dc:language>
  <cp:lastModifiedBy>Jana Bajurin</cp:lastModifiedBy>
  <cp:lastPrinted>2013-05-15T08:33:02Z</cp:lastPrinted>
  <dcterms:modified xsi:type="dcterms:W3CDTF">2013-05-27T09:57:41Z</dcterms:modified>
  <cp:revision>61</cp:revision>
  <dc:subject/>
  <dc:title>Slide 1</dc:title>
</cp:coreProperties>
</file>