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071-1C8B-43D6-8AD5-CFCAFAF1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35B-5B80-4CA4-9D02-95486DB0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7101F-4142-4D3F-8CE7-5E4A54E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8892B-441C-4671-A4E7-CFF5CE00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C294F-46D0-4F75-B030-335F415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6AC97-6B31-42A3-99CE-9D86E57B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97F11-0305-459A-A8D2-4C5F3BD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96F5B-E5E0-4154-8C58-A7FF32B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D0AD4-451E-49F2-B1B5-663625F3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933BB-22CD-484E-82B2-623B812D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222CE-19A5-494E-A03D-5EB56DCC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1D4C3-A980-4A23-A7F4-C884DB28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3FA-2225-49B6-8894-B87FEAB4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B2822-BC5C-480F-B9D1-8D8D23AE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6886D-CDEE-474D-8BBD-5DE3B719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E6F4D-CB51-41C0-B6F4-57BD8553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42700-EF83-4C5A-84DE-6FDFDCC9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4AABB-9D33-45E2-97FA-CE5C9A7F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EDF61-FBAF-40DE-8DA9-BAE8F7F8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F3991-1D6C-43A3-81F5-17539CF3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F027E-F838-403C-92F1-D3795FC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A7EFA-29BB-4517-BAAD-E9C3946F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5828D-0148-4ADC-B0DC-7D3F9E5D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E86-68CD-468C-89FD-04D4D92B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3FABE-DB3F-4735-8193-3CCBB1B2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0CFA2-BE84-40D0-9FCD-A39CF6C9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FB511-081A-4067-94BA-28255249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66D66-9631-41B9-8513-86C8E5E0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1C385-637F-4EE1-B4B3-05D3C206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D821F-BC44-4249-B4F4-ADD5C90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DABBC-C69F-4A43-9024-0F0450F8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97161-10E9-429D-8DAF-91C25614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DE8EA-29DA-4741-86A5-CF85AC5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7A625-77E3-4655-9DE7-C466430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AAF7-C833-43D4-9548-C7CF4887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F05B8-52D2-4032-951D-72B47347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19AEF-08D0-49BA-9BDA-9F6ED5B2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BF8D5-3223-46C2-AF20-8E2C4609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A619F-F5F5-4404-8491-C42DF3F1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51A7F-C708-4ACC-837F-6CDBA7D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FB8ED-066A-4407-901B-E4A9E45F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2AB80-1275-46D7-A8D0-E54C7A38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32A90-2951-4FFB-B6FB-F92E515A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A5FDB-8CFF-432B-95C4-81EA633C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B0DA0-2F47-4C7F-B888-D42B5F3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1543-05BB-4CF6-815F-C1A2945D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B4774-E4D2-4CD7-BE24-399A728E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34D24-40C3-4F03-B785-61D1F80A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82A08-2D5D-4EE2-BB7C-87D505B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3E2C3-D641-40BE-AA87-1B74496E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1F47B-5351-4A81-8752-4C99FC70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53568-1F06-497F-82C7-CB6B03CE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9D103-58A9-4085-8E67-CF4C08D4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8A29C-7D4C-4929-811F-0C5DE217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13F22-BA62-49D0-94E2-A14533B0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D018A-8813-400F-B6CA-BF9DF901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E6F7-E570-4AD9-B1E8-9C69E372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690C1-304A-4002-B0DD-5F0CD616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55924-C50E-40C1-A615-DB07966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8E860-7BCF-4132-A72C-2DC31EF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4874F-2B1F-4E54-BDA1-6C56BA41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18CE1-D0AC-451C-855A-294A2B06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F1E1B-77F7-4E88-B54B-F64E0FC9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3A3DE-87A2-4A0C-909C-8F88B17D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B4C2-A12D-459F-A9FF-578D2F3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1B45-8067-44BB-AA7B-6F200589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CA8C-9032-4D36-B21E-E1D19217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811D-5BD5-47A1-BD2A-B832CBD0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219-AC28-4FFD-A821-4F29D0AF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8085-9CCD-4190-82A5-C5760A3B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150A-C818-4719-AAE8-ED96D4F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CD18-066F-4D0D-983B-D5C5135A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ECB9-FB3E-461F-95DF-38D6E3ED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075A-002E-4903-A174-26A382E0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7B7D-506D-4E4C-8BFF-A27D8620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37AA-9402-45E9-81C5-8D9466BB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2C95-404D-441E-906F-00DF711F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BC20-3022-4455-83CE-B4DB60B7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A148-D8FE-481A-AEFA-1991B7D4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6E6-0BC5-47F7-923F-5D125DC4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F01E-2EE8-4D6C-859F-39119E45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EE7C-D3BE-4D7C-9F85-B3E029CC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3D08-15E0-40A6-8FBA-5D83621C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275A-7C84-4DD0-927F-A838AF5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181E-EC16-481A-8CF8-72C17CD8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05E7-F26B-4636-A0CF-C4FF1FE2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81D6-86A3-444E-A713-917CAB7E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376C-D23F-414C-9D85-3B9F6493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A7A0E-1838-4999-B5F7-17ADD6B4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F116-3261-4936-97A6-0FEFB581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9EA-00A3-4C91-856E-70448ACF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87F2E-BF1E-45CA-9E32-C561C98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9255-CC67-4027-8C95-5F259DF7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06A63-4973-4D51-89B1-67FF81A5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9798-6FDF-45A8-8024-7263DEC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FA06-5F04-453D-AB67-6F9F4D7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0091-D34F-43E9-A36E-81812B0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A18D-D8FE-4702-AE3E-5CB23A1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CBB5-78BE-4249-8341-5B211ABB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E08E-67A6-4EFE-8ACC-054A4354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943F-DB45-4344-8004-DE3BD571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CEE-BCD7-4608-A56D-4F9E5064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EE982-F02C-415D-BC5E-3AD96050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0E41-C405-40CF-B058-EDD6F742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C7FCC-058B-48D9-BB55-4DC67977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850F-8323-4978-B9BC-C88ECAB0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06F8-67F3-48FC-9A33-A8D222B3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2E3A8-D1D3-43FC-804C-ADCB2B7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EA36C-4862-4528-A442-0A293C57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766ED-00E5-4CFB-B949-EF856E63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3DAB-3093-4043-BF00-E072E10E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F4A6-E98A-4C12-8192-303DDDED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140-9A27-43F7-8E39-461F37FF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CB1C-B454-4531-968A-1217616A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2EB9-1C6B-4E32-9F24-0C32ACF4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B6C11-12C2-4853-AD34-4D27B33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D35A4-B6C0-49DB-8A9F-C92FAD8E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FC529-2618-4E0D-B2E9-8802FEA3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F11C-B613-4B58-969E-C206F25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B6F0F-8EEC-4A75-9BA9-1020F46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D2BBE-6A71-425F-B513-FC4C902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CC7D-2628-4F36-8AED-73D0AFA8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17D5-326C-42A5-AA72-0EC22C18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002-9718-4891-B603-B56A53F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A920-6E16-446A-9B70-7C60781C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05FA-9266-4A01-A6D9-D4E13100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0644-04D3-40C9-8229-988DF64D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7EDC6-F85B-4104-B008-A0392507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CFB7A-65D4-45E5-90C0-B0C86B8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90EC9-FBB6-4790-BD6F-F27DB315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F29C6-9129-4E54-8F36-8D2CD4E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BECC0-F1A0-464A-84CF-56082355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A09C5-2625-4F6F-91D7-74EA9058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1E22-C6D0-4B10-A836-AD1FEAB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FA8-10AA-47B4-83A9-312C669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E5143-2CA6-40DF-A7F6-B95772F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4169-8987-4714-A9C9-5F2C9024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EE6B-D856-446A-A104-D4FB1CB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03BA0-A901-4499-90D9-D3C104A4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F0AC9-9EC4-4E9E-9D4F-2D0809DD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06FA4-F2D1-4B6A-BB97-D0EF2187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DFA9E-D7A3-47A0-8267-CA682C4B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16BD6-431E-438D-8DFA-256A3C8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7C2F7-71E8-4BA3-A080-E14F460C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38E51-8840-4CE7-8518-701885A7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E96-DF89-4BC4-A85E-1D5857A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A827-228C-488E-8876-5BF4DE85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E82B9-7875-4D52-9C4F-2551CA4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D67E3-2AEE-406D-B087-AD07214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1CA5-DD39-4040-A123-B2954C4C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49098-1BEA-4F37-BB65-A6D42553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6F04B-2CDC-4834-A870-AF186E6E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C49A7-50B4-40CE-BAD6-A7AE94AB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0656C-3B5B-497D-BD6E-895A80E2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C0071-E212-4C4C-9AAC-16715EB5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B2607-4CD8-40AB-9A6B-8A9C500E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842A-762C-4DDB-A476-42C1366129F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522A-F65F-4214-AB8B-8C15CD4873B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EC7-EAE5-4DAC-B4D2-D0323AFEBEF3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D967-E238-45F7-8937-35DBB0C5B5C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30D2-1B90-4949-B495-DF9DEECA10C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2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DA8B-139D-4357-8592-D79858D0B18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22F-8E0A-4004-9A36-846E40F8A38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289F-8EAA-40CA-AFF8-2F233E9A5424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F:\PP\ProFi_PowPt_backgrounds2012_3-8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243-E315-4752-80D9-832CBE81B91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PP\ProFi_PowPt_backgrounds2012_3-12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5440-AE55-488B-86B7-4DA126D87DD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737C-3A5A-44CF-9F00-E894815ECE87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05B2-CF00-42D1-8CD1-892871D411E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6F05-7A1E-4DB5-A00D-D7667FA380D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FISKALNA ODGOVORNOST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, impresije, naj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Dragan Planja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dragan@enel.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08000" y="1447920"/>
            <a:ext cx="88916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6046920" cy="1724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6077160" cy="1638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3934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Hval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laz u aplik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rivi link za ulaz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 aplikacij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Lozin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hortc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2600" y="4179960"/>
            <a:ext cx="4415040" cy="21286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4405320" y="1844640"/>
            <a:ext cx="48322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20130514_1600_47.avi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569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pravan naziv ba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FINxxx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1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50418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 (I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u excel tablic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z ta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000.000,00 </a:t>
            </a: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1000000,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rcRect l="0" t="48231" r="0" b="17369"/>
          <a:stretch/>
        </p:blipFill>
        <p:spPr>
          <a:xfrm>
            <a:off x="395280" y="5726160"/>
            <a:ext cx="6408720" cy="1147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2"/>
          <a:srcRect l="23696" t="21621" r="5315" b="46323"/>
          <a:stretch/>
        </p:blipFill>
        <p:spPr>
          <a:xfrm>
            <a:off x="628560" y="3500280"/>
            <a:ext cx="59436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 (IV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Broj dodatnih koris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ip koris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imjenjivost pitanja na obveznika je u korelaciji sa tipom (klasifikacijom) korisnika. Tako, prema izvoru financiranja, razlikujemo pet tipova obveznik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Razdjeli državnog proraču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 u="sng">
                <a:solidFill>
                  <a:srgbClr val="000000"/>
                </a:solidFill>
                <a:uFillTx/>
                <a:latin typeface="Calibri"/>
              </a:rPr>
              <a:t>Proračunski korisnici državnog proraču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 u="sng">
                <a:solidFill>
                  <a:srgbClr val="000000"/>
                </a:solidFill>
                <a:uFillTx/>
                <a:latin typeface="Calibri"/>
              </a:rPr>
              <a:t>Proračunski korisnici JLP(R)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Izvanproračunski korisni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JL(P)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mpr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 otklanjanja slabosti i nepravil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šće o otklonjenim slabostima i nepravilnos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roj predviđenih znakova u pojedinim polj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ključavanje aplik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itanje 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66560" y="4869000"/>
            <a:ext cx="858204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aj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davanje dokumenta uz svako pit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ava korisnika jedne ustan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avljanje greš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FISKALNA ODGOVORNOST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1" descr="image001"/>
          <p:cNvPicPr/>
          <p:nvPr/>
        </p:nvPicPr>
        <p:blipFill>
          <a:blip r:embed="rId1"/>
          <a:stretch/>
        </p:blipFill>
        <p:spPr>
          <a:xfrm>
            <a:off x="0" y="1557360"/>
            <a:ext cx="694836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0:49Z</dcterms:created>
  <dc:creator>Gorana Sivić Rušinović</dc:creator>
  <dc:description/>
  <dc:language>en-US</dc:language>
  <cp:lastModifiedBy>Jana Bajurin</cp:lastModifiedBy>
  <dcterms:modified xsi:type="dcterms:W3CDTF">2013-05-27T09:59:33Z</dcterms:modified>
  <cp:revision>17</cp:revision>
  <dc:subject/>
  <dc:title>PowerPoint Presentation</dc:title>
</cp:coreProperties>
</file>