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35D-B126-4A29-BA9F-56E89B38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6BE-5250-4ED3-8F6F-158B5B12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32CC8-F24C-464D-AAA9-4E0351A3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08C55-201D-4B9B-818A-6534D2D4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A5BF8-DC64-43E4-A5D6-31CDFCFA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8376D-0C7D-4DEB-BE18-92D8D06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10436-B55D-4338-9647-32208FA2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CB93C-6B94-4923-A7AB-F35316C4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F17B1-EE71-463F-A0EB-175345CC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E9DB2-B4F2-415E-BA37-6CC4D3A2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FD6F7-6A10-4826-A1F1-7277BD81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DB0B9-6AF6-414E-BB70-1A5049E7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3C3-791A-404F-A9AE-D49B0C6B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A67B9-2099-4DC3-8891-379C149B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49B60-20FD-4131-B7FC-622DFFD4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B25F1-27D0-4292-A91F-7B7DAA1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D86C5-FA1D-47F6-93BF-53FD1074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E5A6E-FE6A-43A6-9DD7-BABE7776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C5731-E501-4CA8-B4BF-B015D0E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6DE55-C36D-4D0D-9AE1-566BA909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E8BFF-C6FA-422F-A3C4-56599008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5A19F-019F-44A5-BB9A-6425ADFF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5C063-4344-4AB1-B6FE-A752874B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1DE-A718-45B4-AD92-BDC4AA55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1A8D1-1599-46C2-BC7D-1AA544D2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2798D-D622-4760-9ADF-B8C3788C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4425A-4145-44DE-AF34-59C500B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4AFC5-6142-43E6-847E-0DBFBAFD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F59AB-EB0C-47A9-81A7-6D2A9559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C687E-3EA2-43D4-8DD0-23BD4974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A5E99-DE81-4356-AA8A-A93FA07C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BC393-2A89-4FEC-A2A7-B79DA09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44FB0-6EA5-4DFE-B44C-976BF6DE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A5CF4-66B7-4ACC-A578-6832BA4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8C49-2653-4440-81AD-86F8ACD5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BC8B2-4A0B-44A2-9E35-A96C0A25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A1ACA-3809-4DA3-92BB-E9318148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D77F7-D8DF-4FD4-9B31-41B6E8FC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D4BC7-1B92-492E-9118-4A651E4B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20EF7-90C8-410E-B93D-FBD3C7F8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69146-1FAF-4F4A-8362-33E27F0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15B5D-9453-4701-B938-7B273582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6745C-90C2-499E-A752-861AE3CB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3EB88-29AD-4CD2-8E13-3753EE7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EB7FF-DE0A-4FB7-B64F-BB13126C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3A2C-4089-4546-A13C-17A19108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229FA-C6F3-4323-B46E-485EA21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54022-9D39-44C9-B0B3-1FFF097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F286E-A5F8-4464-9749-5FB8E769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8E78B-2968-4D38-97AC-5B078495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EA326-2D6C-48DE-894D-9DE06BDE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B5C26-0C7E-469C-BF8C-941BB15A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07965-BA55-47C7-BB5B-D5A23161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786D5-1F0D-4BBB-87A9-992F4CC5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5D86E-0DD5-4B73-AED6-38D55E7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AED51-D98A-470F-8936-0A5A5075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DDD2-4C43-4482-B353-18628FAB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18BC4-2A37-4707-A2AE-EC8D1A9A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14C12-2B85-4427-AA56-BAEFE06B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6C831-FA63-4BFB-AA9D-E2F8FE95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6A24D-4A37-4CC3-B789-E492A958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AD017-0D4F-444E-BEE9-B9D74B89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3018D-5351-4B9F-AE56-FDA33D54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486CA-A0C1-4863-AAFA-10E6D29E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5DCE-54D3-4CCE-BB1C-3DE7985B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DEC3-EBE2-4285-8BF2-148EA2F1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B9CD-D98B-46D8-935D-F9918BDF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23EC-0311-42B2-B801-DCA01EAC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DA4-AC02-4918-975A-B581DAD6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DB82-C598-4783-ADA1-3D41BB03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90AE-806A-42DF-ABD7-7AEF65BD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FF0F-4A8C-4C23-BE9D-B0541548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5998-7D18-4DB3-9523-C5AEDC01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304E-A890-4728-AC99-EB7903C6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49B0-9B81-470A-A738-5EFC8AB9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E950-AB3B-41DD-BE77-82242DD7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6B687-7DDF-418F-98C6-1DBB44A8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30F7-E444-48F4-A150-ABA0705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904A-8C7F-4BCC-813E-1E9FEDA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854-1530-417B-8144-6350C015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77BD-E216-4831-B4B4-4FB00D53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7D6D-09F8-4AA5-A18B-13136CC7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CAD0-99D8-4781-848C-0FFC499B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CD67-9303-4BCB-B62B-137D1DC7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50D6-9522-479D-B95A-232E72DC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645F-AF75-4920-9E62-F4DDD3D1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0D13-FA28-4579-9823-E1FD0F5E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0D2A-4EB4-4A3C-BDEB-F34A768B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72AB-EFD6-4175-A6EF-DF318E43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1DBB-2BDB-4994-8F83-4C145D21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219-EA44-40F6-8859-EADDE241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B1EF-AEBC-4C6A-AED7-A763AAC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3F35-E03C-41B8-BE67-5560DCEF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E114-FCE8-4AEB-9CAF-859835EC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97F2-E230-4D87-B53F-DF2509EA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4EFD-FDB1-472B-933C-77F6AD1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F975-AF6D-4904-9EF6-076F44D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9285-5039-48BE-AED4-D01F2D88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06E90-113E-43DF-A767-183755A8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3037-FBCE-4F8B-911B-76301D4E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6F8FC-B5FD-43F0-887C-94B3DA58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506-A14A-40CC-ACAB-EBDEF3EF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37A20-4AFB-4B5A-ACE6-3B33085F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5058B-0B2C-4513-8CFC-9A272EDB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7843C-24BB-4B84-81D5-5D4F6C8F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FD2C-3E4F-4DC6-9380-34A49BAE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307B-3DD3-4152-88D2-3BD5D0A6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E60E-D6E6-4906-A29B-16EB80D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820C9-11F0-41E1-B50D-E6EFE679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2944-4969-4A69-B35C-E3A4E97B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CAC9-74A9-4220-867E-4D6AF662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6EE38-CDB2-4FA8-B024-1E131270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484-A86A-4468-A070-FEA400CA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7737-70C2-493C-B501-DC9200DE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66E73-4A3E-47BE-A826-0D6C9657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2AADE-91B7-4627-AABD-2EC71E55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C9971-8658-4179-8D5C-23D35676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3EABF-A6D0-47C1-AAA1-79DC7250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2A8B6-556E-46E2-A8D5-2F9D0D33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F2B2-9E32-4E3E-B8EE-929D2F1F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AF1E2-FB2B-4164-B2E9-EA2F01A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48F00-BF2E-4740-8537-1B0486EC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CC4F-E05B-4F08-AEC6-ABE0DD15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BD1-A939-41F1-BA31-91781303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CCFE9-EAA4-429E-9C3C-DDC3344B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BA839-1FB3-4502-BB8A-89B80BDD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AB056-4897-4740-B6AE-732893AC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A4B4-18CF-4A9A-B28F-7DABAD90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B01BF-D186-49A8-8963-66C82241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F50E-3837-4073-9936-B3375E85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AA42-2360-48BE-A04D-C0736C68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9C816-057A-415B-BB40-3803A2AF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728A4-610D-4A77-B2DF-DC257E9C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DB1D-C387-4878-B2B0-24E14762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027-959D-415D-A56F-2F1617E8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ABAB1-4007-415A-A9C8-0F0098CF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17EA5-A67A-4826-80F1-5A9E024A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656E-1A00-4EE8-8935-473BF913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D8C5F-01D8-4163-8CC6-30FCB4FF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B638-F457-4BBD-B643-8110BD5B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5FCB7-978A-4883-B6C1-BBC0A53E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E3536-3507-4B3B-8148-7DED4F8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DD2F7-0C4E-4CAE-954E-528A713D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1AEBD-ED9B-496A-90BE-48D75994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BE9F5-A662-4DE5-805C-5AE22C52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43F-6796-48E1-97C7-94ED46F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65178-4488-4CE4-B224-C721503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18429-5688-4324-A43D-35A9F23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79B21-2187-4252-A749-B642FBC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2463D-34CA-4F4A-8247-D10738D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52A00-F983-4324-814C-295E4DF1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315D9-2E71-4F0B-AF65-C9F6ADCD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234B-8C14-4E5B-A301-AA6DE5B7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B96BD-C05F-4715-8431-874A8BDA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EE4BE-77AD-459F-A873-207FC8EB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46AB-899C-49C2-B4E7-3D3A4755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4F53-E260-45AF-BE43-D074BC89317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F3A2-3D17-4522-9812-1234F671B4C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1724-D6D0-43C9-A6B7-6A1C2565033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5116-6D7A-4EC5-9FDB-FD010542A9B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B575-FEDF-4583-B49A-E82A7E28A44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1.jpg"/>
          <p:cNvPicPr/>
          <p:nvPr/>
        </p:nvPicPr>
        <p:blipFill>
          <a:blip r:embed="rId2"/>
          <a:stretch/>
        </p:blipFill>
        <p:spPr>
          <a:xfrm>
            <a:off x="-28728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00360" y="630252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54E1-4B13-428B-99D9-D5F36C50D27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F:\PP\ProFi_PowPt_backgrounds2012_3-6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4"/>
          <p:cNvSpPr/>
          <p:nvPr/>
        </p:nvSpPr>
        <p:spPr>
          <a:xfrm>
            <a:off x="2700360" y="645336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DEAF-E66F-4E7C-9F43-775BEE473F1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PP\ProFi_PowPt_backgrounds2012_3-6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2700360" y="645336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6280-E659-45A3-BAC4-BD1172B4E7C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:\PP\ProFi_PowPt_backgrounds2012_3-10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07FC-25D9-48A9-AC1D-F7602923B01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PP\ProFi_PowPt_backgrounds2012_3-14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240A-C3E8-47C6-8463-A8B7C9EA24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D715-117D-407E-8241-A00548FFC64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E5A0-4D3B-42E2-B2AB-85152311CCC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27DE-3D18-49BD-9EE6-A1BF7CC6C44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sa.kelava@enel.hr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ša Ke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asa.kelava@enel.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39560" y="184428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ventura sitnog inventa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1"/>
          <a:srcRect l="0" t="0" r="12066" b="59641"/>
          <a:stretch/>
        </p:blipFill>
        <p:spPr>
          <a:xfrm>
            <a:off x="571680" y="2637000"/>
            <a:ext cx="8075520" cy="3071520"/>
          </a:xfrm>
          <a:prstGeom prst="rect">
            <a:avLst/>
          </a:prstGeom>
          <a:ln w="0">
            <a:noFill/>
          </a:ln>
        </p:spPr>
      </p:pic>
      <p:cxnSp>
        <p:nvCxnSpPr>
          <p:cNvPr id="570" name="Straight Arrow Connector 5"/>
          <p:cNvCxnSpPr/>
          <p:nvPr/>
        </p:nvCxnSpPr>
        <p:spPr>
          <a:xfrm flipV="1">
            <a:off x="1214280" y="3907800"/>
            <a:ext cx="1215360" cy="21492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1844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plikacija Skladišno poslovanje olakšava posao računovodstvu, jer je prilagođena za rad u skladištu gdje skladištar, isključivo komadn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užuje i razdužuje skladiš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et dobro prilagođenih izvješća omogućava punu kontrolu tijekova materijala i sitnog inventara, a kako su svi moduli i aplikacije integrirani na istoj bazi podataka svaka unesena informacija je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istovremeno dostupna svim operaterim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Prijedlog budućih izmjen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P r o F i +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Kroz napredno sučelje ProFi + omogućiti korisnicima uspoređivanje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podataka više različitih godina 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po artiklima, količinama i dinamici ulaza i izlaza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H v a l a   n a   p a ž nj i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posljednih nekoliko godina poslovni procesi vezani za materijalno poslovanje doživjeli su značajne izmj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e su posljedica promjene zakona ( zakon o javnoj nabavi ) ali i potrebe da se informatiziraju poslovi koji do sad nisu bili informatizira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 skladišno poslovanje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oni i praviln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 nab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napravljen na osnovu Zakona o javnoj nabavi 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NN 90/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- … i na osnovu preporuka objavljenih u 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starom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Priručniku javne nabave  za naručitelj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( www. javnanabava.hr  ) koje je odobrilo Ministrastvo gospodarstva, rada i poduzetništ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( novi Priručnik javne nabave još nije objavljen 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1500120"/>
            <a:ext cx="9396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itan   invent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Članak 100 stavak 1 zakona o proračunu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( NN 87/08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Ovim se Zakonom uređuje planiranje, izrada, donošenje i izvršavanje proračuna, upravljanje imovinom i dugovima, upravljanje javnim dugom, zaduživanje i jamstvo države te jedinica lokalne i područne (regionalne) samouprave, proračunski odnosi u javnom sektoru, računovodstvo, proračunski nadzor i druga pitanja vezana uz upravljanje javnim finan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Pravilnik o proračunskom računovodstvu i računskom planu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(NN 114/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itni inventar se vodi analitički po vrsti, količini i vrijednosti na skupini računa 04. Sitni inventar se sastoji od zaliha SI i SI u upotrebi. SI je  D U G O T R A J N A imovina čiji je uporabni vij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 duži od godinu dana a pojedinačna nabavna vrijednost manja od 3.500 k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Flowchart: Magnetic Disk 3" descr=""/>
          <p:cNvPicPr/>
          <p:nvPr/>
        </p:nvPicPr>
        <p:blipFill>
          <a:blip r:embed="rId1"/>
          <a:stretch/>
        </p:blipFill>
        <p:spPr>
          <a:xfrm>
            <a:off x="3103560" y="2840040"/>
            <a:ext cx="2327400" cy="2255760"/>
          </a:xfrm>
          <a:prstGeom prst="rect">
            <a:avLst/>
          </a:prstGeom>
          <a:ln w="0">
            <a:noFill/>
          </a:ln>
        </p:spPr>
      </p:pic>
      <p:sp>
        <p:nvSpPr>
          <p:cNvPr id="550" name="Rounded Rectangle 4"/>
          <p:cNvSpPr/>
          <p:nvPr/>
        </p:nvSpPr>
        <p:spPr>
          <a:xfrm>
            <a:off x="611280" y="1643040"/>
            <a:ext cx="1800000" cy="13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Materijal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Knjigovod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mod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Sitan inven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5"/>
          <p:cNvSpPr/>
          <p:nvPr/>
        </p:nvSpPr>
        <p:spPr>
          <a:xfrm>
            <a:off x="357120" y="4357800"/>
            <a:ext cx="180036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Plan nab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Izvršenje plana nab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le 6"/>
          <p:cNvSpPr/>
          <p:nvPr/>
        </p:nvSpPr>
        <p:spPr>
          <a:xfrm>
            <a:off x="6732720" y="4400640"/>
            <a:ext cx="1800000" cy="1296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Profi 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( uskor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7"/>
          <p:cNvSpPr/>
          <p:nvPr/>
        </p:nvSpPr>
        <p:spPr>
          <a:xfrm>
            <a:off x="6357960" y="1643040"/>
            <a:ext cx="180036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Skladišno posl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Straight Arrow Connector 9"/>
          <p:cNvCxnSpPr>
            <a:stCxn id="550" idx="3"/>
          </p:cNvCxnSpPr>
          <p:nvPr/>
        </p:nvCxnSpPr>
        <p:spPr>
          <a:xfrm>
            <a:off x="2410920" y="2319480"/>
            <a:ext cx="1081800" cy="605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5" name="Straight Arrow Connector 10"/>
          <p:cNvCxnSpPr>
            <a:stCxn id="553" idx="1"/>
          </p:cNvCxnSpPr>
          <p:nvPr/>
        </p:nvCxnSpPr>
        <p:spPr>
          <a:xfrm flipH="1">
            <a:off x="5292000" y="2286000"/>
            <a:ext cx="1065960" cy="712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6" name="Straight Arrow Connector 15"/>
          <p:cNvCxnSpPr/>
          <p:nvPr/>
        </p:nvCxnSpPr>
        <p:spPr>
          <a:xfrm flipV="1">
            <a:off x="2143080" y="4571640"/>
            <a:ext cx="1000800" cy="4341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7" name="Straight Arrow Connector 17"/>
          <p:cNvCxnSpPr/>
          <p:nvPr/>
        </p:nvCxnSpPr>
        <p:spPr>
          <a:xfrm flipH="1" flipV="1">
            <a:off x="5434920" y="4507920"/>
            <a:ext cx="1297800" cy="5418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206064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Kontrola materijalnih sredstava bitan je činitelj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fiskalno odgovornog 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upravljanja kod proračunskih korisnika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U sustavu ProFi podržan je čitav ovaj proces, sve do knjiženja financijskih rezultata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Poslovni procesi vezani uz materijalno poslovanje počinju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Planiranjem nabave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1844640"/>
            <a:ext cx="90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Kroz aplikaciju Plan nabave se pripremaju dokumenti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plan nabave, natječajna dokumentacija, ugovori i registri sklopljenih ugovora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Od verzije 03.40.00 #20 se kroz aplikaciju Plan nabave učitava i pohranjuje na jedinstveno mjesto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sva  dokumentacija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0" y="1989000"/>
            <a:ext cx="9144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Izmjene u aplikaciji Plan nabave i Materijalno poslovanje ( 03.40.00. patch 20 ) omogućuju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kontrolu izvršenja plana nabave 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te precizno analitičko praćenje izvršenja ugovora kroz poslovnu godinu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jedinjena nabava kroz materijalno knjigovod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8000" y="2060280"/>
            <a:ext cx="9036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Aplikacija Materijalno poslovanje omogućava zaduženje i razduženje svih tipova skladišta materijalnim sredstvima i sitnim inventarom, u komadnom i financijskom smislu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Skladišta se vode po Prosječnoj nabavnoj cijeni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Modul Sitan inventar služi za stavljanje sitnog inventara u upotrebu ali i za njegovo razduženje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8:27Z</dcterms:created>
  <dc:creator>Gorana Sivić Rušinović</dc:creator>
  <dc:description/>
  <dc:language>en-US</dc:language>
  <cp:lastModifiedBy>Danijela Tatomir</cp:lastModifiedBy>
  <dcterms:modified xsi:type="dcterms:W3CDTF">2013-05-20T12:07:41Z</dcterms:modified>
  <cp:revision>39</cp:revision>
  <dc:subject/>
  <dc:title>PowerPoint Presentation</dc:title>
</cp:coreProperties>
</file>